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_rels/notesSlide2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7.wmf" ContentType="image/x-wmf"/>
  <Override PartName="/ppt/media/image13.png" ContentType="image/png"/>
  <Override PartName="/ppt/media/image8.png" ContentType="image/png"/>
  <Override PartName="/ppt/media/image16.wmf" ContentType="image/x-wmf"/>
  <Override PartName="/ppt/media/image18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611D1-452E-4C00-9559-B97EDD6247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 – distance to send response data up and d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deoff between reliability and communication co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les and combs can have different wid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rizont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sensor network applications involve the dissemination of observed information to interested clien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lance query cost vs. event report cost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b-granularity is adjusted based on dem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in in general over both pure push-based and pull-ba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be applied in hierarchical struc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exible, no a prior infrastructure requi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he nodes with the desired information receives the query, it sends a reply to the query node, as shown in the red arrow. This pull-based strategy is efficient when the number of queries is relatively small. And less efficient when there are more queri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other approach is pure push-based. Basically, whenever there is an event detected, the sensor node can flood the network with the information of the detected events. The push-based strategy is more efficient than the pull-based strategy when the number of events is small and that of query is large. And vice vers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natural question is: can we combine the advantages of both push and pull strategies and build an efficient query-support mechanisms that adapts to the frequencies of the query and even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4D4BC-EF57-440D-966B-19C5F77D1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06AD6-7504-4A6A-A3F1-57D44D874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9F855-5D24-4E3F-AD82-354690C86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B8598-1212-4D6B-8067-9867471A0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2D567-86D2-44A1-B603-3BB504C27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073A1-BAC4-4E13-8219-20BDF6FF3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3BC65-1D36-494A-A6D5-489E78705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63DC1-7B14-4246-9380-933438200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01867-7386-46C6-8E6A-88FD107D4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59B16-9EB9-4231-A1B4-53D5BE141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F116D-52B6-4A7B-BB26-190A65004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8EE69-B073-45C6-9A40-90032AD69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9A628-9D27-4979-A60A-8AFE5B95E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7B340-B32E-4DDD-BB06-4EC1BCB1C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787AD-D780-454D-BC6E-3141BADDF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82D17-B6D4-478F-B7CD-4E2B99D42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5B7CB-B566-4C3E-AF0C-9853E51B6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27515-3DBE-4875-A353-ECF3E9570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75286-997C-424C-BAF2-6A4AA1BBB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12915-B46D-4976-9DE8-8E38BD78B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BDAE5-4802-49CA-B10E-CE84E32E1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73B50-82A4-4E4A-B710-1D3AF8E53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73489-E0B7-4C91-8E0F-EB4635DEE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83EC5-2C65-4987-89E5-91CCCF6B6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4f91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a0c6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8914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a0c6b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4f917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4f917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C6A45-AF3D-47FB-AC3F-6FD37C8176C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8914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4f91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8914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8914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a0c6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8914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A15C8-B6D5-4DC8-8FA3-3516E787340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a0c6ba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4f917e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f917e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52480" y="933120"/>
            <a:ext cx="73915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Times New Roman"/>
              </a:rPr>
              <a:t>Combs, Needles, and Haystacks:</a:t>
            </a:r>
            <a:br>
              <a:rPr sz="43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lancing Push and Pull for Information Disco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143000" y="3809520"/>
            <a:ext cx="73915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Xin Li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r Science De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versity of California, Dav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aborators: 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Qingfeng Hua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Ying Zha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R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761840" y="6313320"/>
            <a:ext cx="634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esented by Chien-Liang Fok on March 4, 2004 for CSE7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When a Query is Generated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3166920" y="4464000"/>
            <a:ext cx="10656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"/>
          <p:cNvSpPr/>
          <p:nvPr/>
        </p:nvSpPr>
        <p:spPr>
          <a:xfrm>
            <a:off x="3649680" y="4464000"/>
            <a:ext cx="10620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7" name=""/>
          <p:cNvCxnSpPr>
            <a:stCxn id="1065" idx="6"/>
            <a:endCxn id="1066" idx="2"/>
          </p:cNvCxnSpPr>
          <p:nvPr/>
        </p:nvCxnSpPr>
        <p:spPr>
          <a:xfrm>
            <a:off x="3273120" y="4511160"/>
            <a:ext cx="376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68" name=""/>
          <p:cNvCxnSpPr>
            <a:stCxn id="1065" idx="4"/>
          </p:cNvCxnSpPr>
          <p:nvPr/>
        </p:nvCxnSpPr>
        <p:spPr>
          <a:xfrm>
            <a:off x="3220560" y="4559400"/>
            <a:ext cx="108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69" name=""/>
          <p:cNvCxnSpPr>
            <a:stCxn id="1066" idx="4"/>
          </p:cNvCxnSpPr>
          <p:nvPr/>
        </p:nvCxnSpPr>
        <p:spPr>
          <a:xfrm>
            <a:off x="3703320" y="4559400"/>
            <a:ext cx="108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070" name=""/>
          <p:cNvSpPr/>
          <p:nvPr/>
        </p:nvSpPr>
        <p:spPr>
          <a:xfrm>
            <a:off x="2203560" y="4464000"/>
            <a:ext cx="10620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"/>
          <p:cNvSpPr/>
          <p:nvPr/>
        </p:nvSpPr>
        <p:spPr>
          <a:xfrm>
            <a:off x="2685960" y="4464000"/>
            <a:ext cx="10656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72" name=""/>
          <p:cNvCxnSpPr>
            <a:stCxn id="1070" idx="6"/>
            <a:endCxn id="1071" idx="2"/>
          </p:cNvCxnSpPr>
          <p:nvPr/>
        </p:nvCxnSpPr>
        <p:spPr>
          <a:xfrm>
            <a:off x="2309400" y="4511160"/>
            <a:ext cx="376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73" name=""/>
          <p:cNvCxnSpPr>
            <a:stCxn id="1070" idx="4"/>
          </p:cNvCxnSpPr>
          <p:nvPr/>
        </p:nvCxnSpPr>
        <p:spPr>
          <a:xfrm>
            <a:off x="2257200" y="4559400"/>
            <a:ext cx="108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74" name=""/>
          <p:cNvCxnSpPr>
            <a:stCxn id="1071" idx="4"/>
          </p:cNvCxnSpPr>
          <p:nvPr/>
        </p:nvCxnSpPr>
        <p:spPr>
          <a:xfrm>
            <a:off x="2739600" y="4559400"/>
            <a:ext cx="108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75" name=""/>
          <p:cNvCxnSpPr>
            <a:stCxn id="1071" idx="6"/>
            <a:endCxn id="1065" idx="2"/>
          </p:cNvCxnSpPr>
          <p:nvPr/>
        </p:nvCxnSpPr>
        <p:spPr>
          <a:xfrm>
            <a:off x="2792520" y="4511160"/>
            <a:ext cx="37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076" name=""/>
          <p:cNvSpPr/>
          <p:nvPr/>
        </p:nvSpPr>
        <p:spPr>
          <a:xfrm>
            <a:off x="5094360" y="4464000"/>
            <a:ext cx="10800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"/>
          <p:cNvSpPr/>
          <p:nvPr/>
        </p:nvSpPr>
        <p:spPr>
          <a:xfrm>
            <a:off x="5576760" y="4464000"/>
            <a:ext cx="10656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78" name=""/>
          <p:cNvCxnSpPr>
            <a:stCxn id="1076" idx="6"/>
            <a:endCxn id="1077" idx="2"/>
          </p:cNvCxnSpPr>
          <p:nvPr/>
        </p:nvCxnSpPr>
        <p:spPr>
          <a:xfrm>
            <a:off x="5202360" y="4511160"/>
            <a:ext cx="37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79" name=""/>
          <p:cNvCxnSpPr>
            <a:stCxn id="1076" idx="4"/>
          </p:cNvCxnSpPr>
          <p:nvPr/>
        </p:nvCxnSpPr>
        <p:spPr>
          <a:xfrm>
            <a:off x="5148000" y="4559400"/>
            <a:ext cx="108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80" name=""/>
          <p:cNvCxnSpPr>
            <a:stCxn id="1077" idx="4"/>
          </p:cNvCxnSpPr>
          <p:nvPr/>
        </p:nvCxnSpPr>
        <p:spPr>
          <a:xfrm>
            <a:off x="5630400" y="4559400"/>
            <a:ext cx="108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81" name=""/>
          <p:cNvCxnSpPr>
            <a:stCxn id="1082" idx="4"/>
          </p:cNvCxnSpPr>
          <p:nvPr/>
        </p:nvCxnSpPr>
        <p:spPr>
          <a:xfrm>
            <a:off x="4184280" y="4559400"/>
            <a:ext cx="108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83" name=""/>
          <p:cNvCxnSpPr>
            <a:stCxn id="1084" idx="4"/>
          </p:cNvCxnSpPr>
          <p:nvPr/>
        </p:nvCxnSpPr>
        <p:spPr>
          <a:xfrm>
            <a:off x="4667040" y="4559400"/>
            <a:ext cx="108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85" name=""/>
          <p:cNvCxnSpPr>
            <a:stCxn id="1066" idx="6"/>
            <a:endCxn id="1082" idx="2"/>
          </p:cNvCxnSpPr>
          <p:nvPr/>
        </p:nvCxnSpPr>
        <p:spPr>
          <a:xfrm>
            <a:off x="3755520" y="451116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086" name=""/>
          <p:cNvSpPr/>
          <p:nvPr/>
        </p:nvSpPr>
        <p:spPr>
          <a:xfrm>
            <a:off x="6111720" y="4464000"/>
            <a:ext cx="10656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"/>
          <p:cNvSpPr/>
          <p:nvPr/>
        </p:nvSpPr>
        <p:spPr>
          <a:xfrm>
            <a:off x="6593040" y="4464000"/>
            <a:ext cx="10764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88" name=""/>
          <p:cNvCxnSpPr>
            <a:stCxn id="1086" idx="6"/>
            <a:endCxn id="1087" idx="2"/>
          </p:cNvCxnSpPr>
          <p:nvPr/>
        </p:nvCxnSpPr>
        <p:spPr>
          <a:xfrm>
            <a:off x="6217920" y="451116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89" name=""/>
          <p:cNvCxnSpPr>
            <a:stCxn id="1086" idx="4"/>
          </p:cNvCxnSpPr>
          <p:nvPr/>
        </p:nvCxnSpPr>
        <p:spPr>
          <a:xfrm>
            <a:off x="6165360" y="4559400"/>
            <a:ext cx="108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90" name=""/>
          <p:cNvCxnSpPr>
            <a:stCxn id="1087" idx="4"/>
          </p:cNvCxnSpPr>
          <p:nvPr/>
        </p:nvCxnSpPr>
        <p:spPr>
          <a:xfrm>
            <a:off x="6646680" y="4559400"/>
            <a:ext cx="108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91" name=""/>
          <p:cNvCxnSpPr>
            <a:stCxn id="1077" idx="6"/>
            <a:endCxn id="1086" idx="2"/>
          </p:cNvCxnSpPr>
          <p:nvPr/>
        </p:nvCxnSpPr>
        <p:spPr>
          <a:xfrm>
            <a:off x="5683320" y="4511160"/>
            <a:ext cx="429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092" name=""/>
          <p:cNvSpPr/>
          <p:nvPr/>
        </p:nvSpPr>
        <p:spPr>
          <a:xfrm>
            <a:off x="3166920" y="4033800"/>
            <a:ext cx="10656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"/>
          <p:cNvSpPr/>
          <p:nvPr/>
        </p:nvSpPr>
        <p:spPr>
          <a:xfrm>
            <a:off x="3649680" y="4033800"/>
            <a:ext cx="10620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"/>
          <p:cNvSpPr/>
          <p:nvPr/>
        </p:nvSpPr>
        <p:spPr>
          <a:xfrm>
            <a:off x="3166920" y="3605040"/>
            <a:ext cx="10656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"/>
          <p:cNvSpPr/>
          <p:nvPr/>
        </p:nvSpPr>
        <p:spPr>
          <a:xfrm>
            <a:off x="3649680" y="3605040"/>
            <a:ext cx="10620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6" name=""/>
          <p:cNvCxnSpPr>
            <a:stCxn id="1094" idx="6"/>
            <a:endCxn id="1095" idx="2"/>
          </p:cNvCxnSpPr>
          <p:nvPr/>
        </p:nvCxnSpPr>
        <p:spPr>
          <a:xfrm>
            <a:off x="3273120" y="3652560"/>
            <a:ext cx="376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97" name=""/>
          <p:cNvCxnSpPr>
            <a:stCxn id="1094" idx="4"/>
            <a:endCxn id="1092" idx="0"/>
          </p:cNvCxnSpPr>
          <p:nvPr/>
        </p:nvCxnSpPr>
        <p:spPr>
          <a:xfrm>
            <a:off x="3220560" y="3700440"/>
            <a:ext cx="10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98" name=""/>
          <p:cNvCxnSpPr>
            <a:stCxn id="1092" idx="6"/>
            <a:endCxn id="1093" idx="2"/>
          </p:cNvCxnSpPr>
          <p:nvPr/>
        </p:nvCxnSpPr>
        <p:spPr>
          <a:xfrm>
            <a:off x="3273120" y="4080960"/>
            <a:ext cx="376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99" name=""/>
          <p:cNvCxnSpPr>
            <a:stCxn id="1095" idx="4"/>
            <a:endCxn id="1093" idx="0"/>
          </p:cNvCxnSpPr>
          <p:nvPr/>
        </p:nvCxnSpPr>
        <p:spPr>
          <a:xfrm>
            <a:off x="3701520" y="3700440"/>
            <a:ext cx="10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100" name=""/>
          <p:cNvSpPr/>
          <p:nvPr/>
        </p:nvSpPr>
        <p:spPr>
          <a:xfrm>
            <a:off x="2203560" y="4033800"/>
            <a:ext cx="10620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"/>
          <p:cNvSpPr/>
          <p:nvPr/>
        </p:nvSpPr>
        <p:spPr>
          <a:xfrm>
            <a:off x="2685960" y="4033800"/>
            <a:ext cx="10656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"/>
          <p:cNvSpPr/>
          <p:nvPr/>
        </p:nvSpPr>
        <p:spPr>
          <a:xfrm>
            <a:off x="2203560" y="3605040"/>
            <a:ext cx="10620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"/>
          <p:cNvSpPr/>
          <p:nvPr/>
        </p:nvSpPr>
        <p:spPr>
          <a:xfrm>
            <a:off x="2685960" y="3605040"/>
            <a:ext cx="10656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4" name=""/>
          <p:cNvCxnSpPr>
            <a:stCxn id="1102" idx="6"/>
            <a:endCxn id="1103" idx="2"/>
          </p:cNvCxnSpPr>
          <p:nvPr/>
        </p:nvCxnSpPr>
        <p:spPr>
          <a:xfrm>
            <a:off x="2309400" y="3652560"/>
            <a:ext cx="376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05" name=""/>
          <p:cNvCxnSpPr>
            <a:stCxn id="1102" idx="4"/>
            <a:endCxn id="1100" idx="0"/>
          </p:cNvCxnSpPr>
          <p:nvPr/>
        </p:nvCxnSpPr>
        <p:spPr>
          <a:xfrm>
            <a:off x="2257200" y="3700440"/>
            <a:ext cx="10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06" name=""/>
          <p:cNvCxnSpPr>
            <a:stCxn id="1100" idx="6"/>
            <a:endCxn id="1101" idx="2"/>
          </p:cNvCxnSpPr>
          <p:nvPr/>
        </p:nvCxnSpPr>
        <p:spPr>
          <a:xfrm>
            <a:off x="2309400" y="4080960"/>
            <a:ext cx="376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07" name=""/>
          <p:cNvCxnSpPr>
            <a:stCxn id="1103" idx="4"/>
            <a:endCxn id="1101" idx="0"/>
          </p:cNvCxnSpPr>
          <p:nvPr/>
        </p:nvCxnSpPr>
        <p:spPr>
          <a:xfrm>
            <a:off x="2738160" y="3700440"/>
            <a:ext cx="10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08" name=""/>
          <p:cNvCxnSpPr>
            <a:stCxn id="1103" idx="6"/>
            <a:endCxn id="1094" idx="2"/>
          </p:cNvCxnSpPr>
          <p:nvPr/>
        </p:nvCxnSpPr>
        <p:spPr>
          <a:xfrm>
            <a:off x="2792520" y="3652560"/>
            <a:ext cx="37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09" name=""/>
          <p:cNvCxnSpPr>
            <a:stCxn id="1101" idx="6"/>
            <a:endCxn id="1092" idx="2"/>
          </p:cNvCxnSpPr>
          <p:nvPr/>
        </p:nvCxnSpPr>
        <p:spPr>
          <a:xfrm>
            <a:off x="2792520" y="4080960"/>
            <a:ext cx="37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110" name=""/>
          <p:cNvSpPr/>
          <p:nvPr/>
        </p:nvSpPr>
        <p:spPr>
          <a:xfrm>
            <a:off x="5094360" y="4033800"/>
            <a:ext cx="10800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"/>
          <p:cNvSpPr/>
          <p:nvPr/>
        </p:nvSpPr>
        <p:spPr>
          <a:xfrm>
            <a:off x="5576760" y="4033800"/>
            <a:ext cx="10656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"/>
          <p:cNvSpPr/>
          <p:nvPr/>
        </p:nvSpPr>
        <p:spPr>
          <a:xfrm>
            <a:off x="5094360" y="3605040"/>
            <a:ext cx="10800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"/>
          <p:cNvSpPr/>
          <p:nvPr/>
        </p:nvSpPr>
        <p:spPr>
          <a:xfrm>
            <a:off x="5576760" y="3605040"/>
            <a:ext cx="10656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14" name=""/>
          <p:cNvCxnSpPr>
            <a:stCxn id="1112" idx="6"/>
            <a:endCxn id="1113" idx="2"/>
          </p:cNvCxnSpPr>
          <p:nvPr/>
        </p:nvCxnSpPr>
        <p:spPr>
          <a:xfrm>
            <a:off x="5202360" y="3652560"/>
            <a:ext cx="37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15" name=""/>
          <p:cNvCxnSpPr>
            <a:stCxn id="1112" idx="4"/>
            <a:endCxn id="1110" idx="0"/>
          </p:cNvCxnSpPr>
          <p:nvPr/>
        </p:nvCxnSpPr>
        <p:spPr>
          <a:xfrm>
            <a:off x="5148000" y="3700440"/>
            <a:ext cx="10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16" name=""/>
          <p:cNvCxnSpPr>
            <a:stCxn id="1110" idx="6"/>
            <a:endCxn id="1111" idx="2"/>
          </p:cNvCxnSpPr>
          <p:nvPr/>
        </p:nvCxnSpPr>
        <p:spPr>
          <a:xfrm>
            <a:off x="5202360" y="4080960"/>
            <a:ext cx="37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17" name=""/>
          <p:cNvCxnSpPr>
            <a:stCxn id="1113" idx="4"/>
            <a:endCxn id="1111" idx="0"/>
          </p:cNvCxnSpPr>
          <p:nvPr/>
        </p:nvCxnSpPr>
        <p:spPr>
          <a:xfrm>
            <a:off x="5628960" y="3700440"/>
            <a:ext cx="10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18" name=""/>
          <p:cNvCxnSpPr>
            <a:stCxn id="1095" idx="6"/>
            <a:endCxn id="1119" idx="2"/>
          </p:cNvCxnSpPr>
          <p:nvPr/>
        </p:nvCxnSpPr>
        <p:spPr>
          <a:xfrm>
            <a:off x="3755520" y="365256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20" name=""/>
          <p:cNvCxnSpPr>
            <a:stCxn id="1093" idx="6"/>
            <a:endCxn id="1121" idx="2"/>
          </p:cNvCxnSpPr>
          <p:nvPr/>
        </p:nvCxnSpPr>
        <p:spPr>
          <a:xfrm>
            <a:off x="3755520" y="408096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122" name=""/>
          <p:cNvSpPr/>
          <p:nvPr/>
        </p:nvSpPr>
        <p:spPr>
          <a:xfrm>
            <a:off x="6111720" y="4033800"/>
            <a:ext cx="10656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"/>
          <p:cNvSpPr/>
          <p:nvPr/>
        </p:nvSpPr>
        <p:spPr>
          <a:xfrm>
            <a:off x="6593040" y="4033800"/>
            <a:ext cx="10764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"/>
          <p:cNvSpPr/>
          <p:nvPr/>
        </p:nvSpPr>
        <p:spPr>
          <a:xfrm>
            <a:off x="6111720" y="3605040"/>
            <a:ext cx="10656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"/>
          <p:cNvSpPr/>
          <p:nvPr/>
        </p:nvSpPr>
        <p:spPr>
          <a:xfrm>
            <a:off x="6593040" y="3605040"/>
            <a:ext cx="10764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26" name=""/>
          <p:cNvCxnSpPr>
            <a:stCxn id="1124" idx="6"/>
            <a:endCxn id="1125" idx="2"/>
          </p:cNvCxnSpPr>
          <p:nvPr/>
        </p:nvCxnSpPr>
        <p:spPr>
          <a:xfrm>
            <a:off x="6217920" y="365256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27" name=""/>
          <p:cNvCxnSpPr>
            <a:stCxn id="1124" idx="4"/>
            <a:endCxn id="1122" idx="0"/>
          </p:cNvCxnSpPr>
          <p:nvPr/>
        </p:nvCxnSpPr>
        <p:spPr>
          <a:xfrm>
            <a:off x="6165360" y="3700440"/>
            <a:ext cx="10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28" name=""/>
          <p:cNvCxnSpPr>
            <a:stCxn id="1122" idx="6"/>
            <a:endCxn id="1123" idx="2"/>
          </p:cNvCxnSpPr>
          <p:nvPr/>
        </p:nvCxnSpPr>
        <p:spPr>
          <a:xfrm>
            <a:off x="6217920" y="408096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29" name=""/>
          <p:cNvCxnSpPr>
            <a:stCxn id="1125" idx="4"/>
            <a:endCxn id="1123" idx="0"/>
          </p:cNvCxnSpPr>
          <p:nvPr/>
        </p:nvCxnSpPr>
        <p:spPr>
          <a:xfrm>
            <a:off x="6646680" y="3700440"/>
            <a:ext cx="10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30" name=""/>
          <p:cNvCxnSpPr>
            <a:stCxn id="1113" idx="6"/>
            <a:endCxn id="1124" idx="2"/>
          </p:cNvCxnSpPr>
          <p:nvPr/>
        </p:nvCxnSpPr>
        <p:spPr>
          <a:xfrm>
            <a:off x="5683320" y="3652560"/>
            <a:ext cx="429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31" name=""/>
          <p:cNvCxnSpPr>
            <a:stCxn id="1111" idx="6"/>
            <a:endCxn id="1122" idx="2"/>
          </p:cNvCxnSpPr>
          <p:nvPr/>
        </p:nvCxnSpPr>
        <p:spPr>
          <a:xfrm>
            <a:off x="5683320" y="4080960"/>
            <a:ext cx="429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32" name=""/>
          <p:cNvCxnSpPr>
            <a:stCxn id="1100" idx="4"/>
            <a:endCxn id="1070" idx="0"/>
          </p:cNvCxnSpPr>
          <p:nvPr/>
        </p:nvCxnSpPr>
        <p:spPr>
          <a:xfrm>
            <a:off x="2257200" y="4129200"/>
            <a:ext cx="108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33" name=""/>
          <p:cNvCxnSpPr>
            <a:stCxn id="1101" idx="4"/>
            <a:endCxn id="1071" idx="0"/>
          </p:cNvCxnSpPr>
          <p:nvPr/>
        </p:nvCxnSpPr>
        <p:spPr>
          <a:xfrm>
            <a:off x="2738160" y="4129200"/>
            <a:ext cx="108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34" name=""/>
          <p:cNvCxnSpPr>
            <a:stCxn id="1092" idx="4"/>
            <a:endCxn id="1065" idx="0"/>
          </p:cNvCxnSpPr>
          <p:nvPr/>
        </p:nvCxnSpPr>
        <p:spPr>
          <a:xfrm>
            <a:off x="3220560" y="4129200"/>
            <a:ext cx="108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35" name=""/>
          <p:cNvCxnSpPr>
            <a:stCxn id="1093" idx="4"/>
            <a:endCxn id="1066" idx="0"/>
          </p:cNvCxnSpPr>
          <p:nvPr/>
        </p:nvCxnSpPr>
        <p:spPr>
          <a:xfrm>
            <a:off x="3701520" y="4129200"/>
            <a:ext cx="108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36" name=""/>
          <p:cNvCxnSpPr>
            <a:stCxn id="1110" idx="4"/>
            <a:endCxn id="1076" idx="0"/>
          </p:cNvCxnSpPr>
          <p:nvPr/>
        </p:nvCxnSpPr>
        <p:spPr>
          <a:xfrm>
            <a:off x="5148000" y="4129200"/>
            <a:ext cx="108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37" name=""/>
          <p:cNvCxnSpPr>
            <a:stCxn id="1111" idx="4"/>
            <a:endCxn id="1077" idx="0"/>
          </p:cNvCxnSpPr>
          <p:nvPr/>
        </p:nvCxnSpPr>
        <p:spPr>
          <a:xfrm>
            <a:off x="5628960" y="4129200"/>
            <a:ext cx="108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38" name=""/>
          <p:cNvCxnSpPr>
            <a:stCxn id="1122" idx="4"/>
            <a:endCxn id="1086" idx="0"/>
          </p:cNvCxnSpPr>
          <p:nvPr/>
        </p:nvCxnSpPr>
        <p:spPr>
          <a:xfrm>
            <a:off x="6165360" y="4129200"/>
            <a:ext cx="108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39" name=""/>
          <p:cNvCxnSpPr>
            <a:stCxn id="1123" idx="4"/>
            <a:endCxn id="1087" idx="0"/>
          </p:cNvCxnSpPr>
          <p:nvPr/>
        </p:nvCxnSpPr>
        <p:spPr>
          <a:xfrm>
            <a:off x="6646680" y="4129200"/>
            <a:ext cx="108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140" name=""/>
          <p:cNvSpPr/>
          <p:nvPr/>
        </p:nvSpPr>
        <p:spPr>
          <a:xfrm>
            <a:off x="3166920" y="3174840"/>
            <a:ext cx="10656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"/>
          <p:cNvSpPr/>
          <p:nvPr/>
        </p:nvSpPr>
        <p:spPr>
          <a:xfrm>
            <a:off x="3649680" y="3174840"/>
            <a:ext cx="10620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"/>
          <p:cNvSpPr/>
          <p:nvPr/>
        </p:nvSpPr>
        <p:spPr>
          <a:xfrm>
            <a:off x="3166920" y="2744640"/>
            <a:ext cx="10656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"/>
          <p:cNvSpPr/>
          <p:nvPr/>
        </p:nvSpPr>
        <p:spPr>
          <a:xfrm>
            <a:off x="3649680" y="2744640"/>
            <a:ext cx="10620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44" name=""/>
          <p:cNvCxnSpPr>
            <a:stCxn id="1142" idx="6"/>
            <a:endCxn id="1143" idx="2"/>
          </p:cNvCxnSpPr>
          <p:nvPr/>
        </p:nvCxnSpPr>
        <p:spPr>
          <a:xfrm>
            <a:off x="3273120" y="2792160"/>
            <a:ext cx="376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45" name=""/>
          <p:cNvCxnSpPr>
            <a:stCxn id="1142" idx="4"/>
            <a:endCxn id="1140" idx="0"/>
          </p:cNvCxnSpPr>
          <p:nvPr/>
        </p:nvCxnSpPr>
        <p:spPr>
          <a:xfrm>
            <a:off x="3220560" y="2840040"/>
            <a:ext cx="108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46" name=""/>
          <p:cNvCxnSpPr>
            <a:stCxn id="1140" idx="6"/>
            <a:endCxn id="1141" idx="2"/>
          </p:cNvCxnSpPr>
          <p:nvPr/>
        </p:nvCxnSpPr>
        <p:spPr>
          <a:xfrm>
            <a:off x="3273120" y="3222360"/>
            <a:ext cx="376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47" name=""/>
          <p:cNvCxnSpPr>
            <a:stCxn id="1143" idx="4"/>
            <a:endCxn id="1141" idx="0"/>
          </p:cNvCxnSpPr>
          <p:nvPr/>
        </p:nvCxnSpPr>
        <p:spPr>
          <a:xfrm>
            <a:off x="3701520" y="2840040"/>
            <a:ext cx="108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148" name=""/>
          <p:cNvSpPr/>
          <p:nvPr/>
        </p:nvSpPr>
        <p:spPr>
          <a:xfrm>
            <a:off x="2203560" y="3174840"/>
            <a:ext cx="10620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"/>
          <p:cNvSpPr/>
          <p:nvPr/>
        </p:nvSpPr>
        <p:spPr>
          <a:xfrm>
            <a:off x="2685960" y="3174840"/>
            <a:ext cx="10656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"/>
          <p:cNvSpPr/>
          <p:nvPr/>
        </p:nvSpPr>
        <p:spPr>
          <a:xfrm>
            <a:off x="2203560" y="2744640"/>
            <a:ext cx="10620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"/>
          <p:cNvSpPr/>
          <p:nvPr/>
        </p:nvSpPr>
        <p:spPr>
          <a:xfrm>
            <a:off x="2685960" y="2744640"/>
            <a:ext cx="10656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52" name=""/>
          <p:cNvCxnSpPr>
            <a:stCxn id="1150" idx="6"/>
            <a:endCxn id="1151" idx="2"/>
          </p:cNvCxnSpPr>
          <p:nvPr/>
        </p:nvCxnSpPr>
        <p:spPr>
          <a:xfrm>
            <a:off x="2309400" y="2792160"/>
            <a:ext cx="376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53" name=""/>
          <p:cNvCxnSpPr>
            <a:stCxn id="1150" idx="4"/>
            <a:endCxn id="1148" idx="0"/>
          </p:cNvCxnSpPr>
          <p:nvPr/>
        </p:nvCxnSpPr>
        <p:spPr>
          <a:xfrm>
            <a:off x="2257200" y="2840040"/>
            <a:ext cx="108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54" name=""/>
          <p:cNvCxnSpPr>
            <a:stCxn id="1148" idx="6"/>
            <a:endCxn id="1149" idx="2"/>
          </p:cNvCxnSpPr>
          <p:nvPr/>
        </p:nvCxnSpPr>
        <p:spPr>
          <a:xfrm>
            <a:off x="2309400" y="3222360"/>
            <a:ext cx="376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55" name=""/>
          <p:cNvCxnSpPr>
            <a:stCxn id="1151" idx="4"/>
            <a:endCxn id="1149" idx="0"/>
          </p:cNvCxnSpPr>
          <p:nvPr/>
        </p:nvCxnSpPr>
        <p:spPr>
          <a:xfrm>
            <a:off x="2738160" y="2840040"/>
            <a:ext cx="108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56" name=""/>
          <p:cNvCxnSpPr>
            <a:stCxn id="1151" idx="6"/>
            <a:endCxn id="1142" idx="2"/>
          </p:cNvCxnSpPr>
          <p:nvPr/>
        </p:nvCxnSpPr>
        <p:spPr>
          <a:xfrm>
            <a:off x="2792520" y="2792160"/>
            <a:ext cx="37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57" name=""/>
          <p:cNvCxnSpPr>
            <a:stCxn id="1149" idx="6"/>
            <a:endCxn id="1140" idx="2"/>
          </p:cNvCxnSpPr>
          <p:nvPr/>
        </p:nvCxnSpPr>
        <p:spPr>
          <a:xfrm>
            <a:off x="2792520" y="3222360"/>
            <a:ext cx="37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158" name=""/>
          <p:cNvSpPr/>
          <p:nvPr/>
        </p:nvSpPr>
        <p:spPr>
          <a:xfrm>
            <a:off x="5094360" y="3174840"/>
            <a:ext cx="10800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"/>
          <p:cNvSpPr/>
          <p:nvPr/>
        </p:nvSpPr>
        <p:spPr>
          <a:xfrm>
            <a:off x="5576760" y="3174840"/>
            <a:ext cx="106560" cy="954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"/>
          <p:cNvSpPr/>
          <p:nvPr/>
        </p:nvSpPr>
        <p:spPr>
          <a:xfrm>
            <a:off x="5094360" y="2744640"/>
            <a:ext cx="10800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"/>
          <p:cNvSpPr/>
          <p:nvPr/>
        </p:nvSpPr>
        <p:spPr>
          <a:xfrm>
            <a:off x="5576760" y="2744640"/>
            <a:ext cx="10656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2" name=""/>
          <p:cNvCxnSpPr>
            <a:stCxn id="1160" idx="6"/>
            <a:endCxn id="1161" idx="2"/>
          </p:cNvCxnSpPr>
          <p:nvPr/>
        </p:nvCxnSpPr>
        <p:spPr>
          <a:xfrm>
            <a:off x="5202360" y="2792160"/>
            <a:ext cx="37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63" name=""/>
          <p:cNvCxnSpPr>
            <a:stCxn id="1160" idx="4"/>
            <a:endCxn id="1158" idx="0"/>
          </p:cNvCxnSpPr>
          <p:nvPr/>
        </p:nvCxnSpPr>
        <p:spPr>
          <a:xfrm>
            <a:off x="5148000" y="2840040"/>
            <a:ext cx="108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64" name=""/>
          <p:cNvCxnSpPr>
            <a:stCxn id="1158" idx="6"/>
            <a:endCxn id="1159" idx="2"/>
          </p:cNvCxnSpPr>
          <p:nvPr/>
        </p:nvCxnSpPr>
        <p:spPr>
          <a:xfrm>
            <a:off x="5202360" y="3222360"/>
            <a:ext cx="37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65" name=""/>
          <p:cNvCxnSpPr>
            <a:stCxn id="1161" idx="4"/>
            <a:endCxn id="1159" idx="0"/>
          </p:cNvCxnSpPr>
          <p:nvPr/>
        </p:nvCxnSpPr>
        <p:spPr>
          <a:xfrm>
            <a:off x="5628960" y="2840040"/>
            <a:ext cx="108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166" name=""/>
          <p:cNvSpPr/>
          <p:nvPr/>
        </p:nvSpPr>
        <p:spPr>
          <a:xfrm>
            <a:off x="4130640" y="3174840"/>
            <a:ext cx="10800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"/>
          <p:cNvSpPr/>
          <p:nvPr/>
        </p:nvSpPr>
        <p:spPr>
          <a:xfrm>
            <a:off x="4613400" y="3174840"/>
            <a:ext cx="10620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"/>
          <p:cNvSpPr/>
          <p:nvPr/>
        </p:nvSpPr>
        <p:spPr>
          <a:xfrm>
            <a:off x="4130640" y="2744640"/>
            <a:ext cx="10800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"/>
          <p:cNvSpPr/>
          <p:nvPr/>
        </p:nvSpPr>
        <p:spPr>
          <a:xfrm>
            <a:off x="4613400" y="2744640"/>
            <a:ext cx="10620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70" name=""/>
          <p:cNvCxnSpPr>
            <a:stCxn id="1168" idx="6"/>
            <a:endCxn id="1169" idx="2"/>
          </p:cNvCxnSpPr>
          <p:nvPr/>
        </p:nvCxnSpPr>
        <p:spPr>
          <a:xfrm>
            <a:off x="4238280" y="279216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71" name=""/>
          <p:cNvCxnSpPr>
            <a:stCxn id="1168" idx="4"/>
            <a:endCxn id="1166" idx="0"/>
          </p:cNvCxnSpPr>
          <p:nvPr/>
        </p:nvCxnSpPr>
        <p:spPr>
          <a:xfrm>
            <a:off x="4184280" y="2840040"/>
            <a:ext cx="108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72" name=""/>
          <p:cNvCxnSpPr>
            <a:stCxn id="1166" idx="6"/>
            <a:endCxn id="1167" idx="2"/>
          </p:cNvCxnSpPr>
          <p:nvPr/>
        </p:nvCxnSpPr>
        <p:spPr>
          <a:xfrm>
            <a:off x="4238280" y="322236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73" name=""/>
          <p:cNvCxnSpPr>
            <a:stCxn id="1169" idx="4"/>
            <a:endCxn id="1167" idx="0"/>
          </p:cNvCxnSpPr>
          <p:nvPr/>
        </p:nvCxnSpPr>
        <p:spPr>
          <a:xfrm>
            <a:off x="4665240" y="2840040"/>
            <a:ext cx="108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74" name=""/>
          <p:cNvCxnSpPr>
            <a:stCxn id="1169" idx="6"/>
            <a:endCxn id="1160" idx="2"/>
          </p:cNvCxnSpPr>
          <p:nvPr/>
        </p:nvCxnSpPr>
        <p:spPr>
          <a:xfrm>
            <a:off x="4719240" y="279216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75" name=""/>
          <p:cNvCxnSpPr>
            <a:stCxn id="1167" idx="6"/>
            <a:endCxn id="1158" idx="2"/>
          </p:cNvCxnSpPr>
          <p:nvPr/>
        </p:nvCxnSpPr>
        <p:spPr>
          <a:xfrm>
            <a:off x="4719240" y="322236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76" name=""/>
          <p:cNvCxnSpPr>
            <a:stCxn id="1143" idx="6"/>
            <a:endCxn id="1168" idx="2"/>
          </p:cNvCxnSpPr>
          <p:nvPr/>
        </p:nvCxnSpPr>
        <p:spPr>
          <a:xfrm>
            <a:off x="3755520" y="279216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77" name=""/>
          <p:cNvCxnSpPr>
            <a:stCxn id="1141" idx="6"/>
            <a:endCxn id="1166" idx="2"/>
          </p:cNvCxnSpPr>
          <p:nvPr/>
        </p:nvCxnSpPr>
        <p:spPr>
          <a:xfrm>
            <a:off x="3755520" y="322236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178" name=""/>
          <p:cNvSpPr/>
          <p:nvPr/>
        </p:nvSpPr>
        <p:spPr>
          <a:xfrm>
            <a:off x="6111720" y="3174840"/>
            <a:ext cx="10656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"/>
          <p:cNvSpPr/>
          <p:nvPr/>
        </p:nvSpPr>
        <p:spPr>
          <a:xfrm>
            <a:off x="6593040" y="3174840"/>
            <a:ext cx="10764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"/>
          <p:cNvSpPr/>
          <p:nvPr/>
        </p:nvSpPr>
        <p:spPr>
          <a:xfrm>
            <a:off x="6111720" y="2744640"/>
            <a:ext cx="10656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"/>
          <p:cNvSpPr/>
          <p:nvPr/>
        </p:nvSpPr>
        <p:spPr>
          <a:xfrm>
            <a:off x="6593040" y="2744640"/>
            <a:ext cx="10764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2" name=""/>
          <p:cNvCxnSpPr>
            <a:stCxn id="1180" idx="6"/>
            <a:endCxn id="1181" idx="2"/>
          </p:cNvCxnSpPr>
          <p:nvPr/>
        </p:nvCxnSpPr>
        <p:spPr>
          <a:xfrm>
            <a:off x="6217920" y="279216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83" name=""/>
          <p:cNvCxnSpPr>
            <a:stCxn id="1180" idx="4"/>
            <a:endCxn id="1178" idx="0"/>
          </p:cNvCxnSpPr>
          <p:nvPr/>
        </p:nvCxnSpPr>
        <p:spPr>
          <a:xfrm>
            <a:off x="6165360" y="2840040"/>
            <a:ext cx="108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84" name=""/>
          <p:cNvCxnSpPr>
            <a:stCxn id="1178" idx="6"/>
            <a:endCxn id="1179" idx="2"/>
          </p:cNvCxnSpPr>
          <p:nvPr/>
        </p:nvCxnSpPr>
        <p:spPr>
          <a:xfrm>
            <a:off x="6217920" y="322236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85" name=""/>
          <p:cNvCxnSpPr>
            <a:stCxn id="1181" idx="4"/>
            <a:endCxn id="1179" idx="0"/>
          </p:cNvCxnSpPr>
          <p:nvPr/>
        </p:nvCxnSpPr>
        <p:spPr>
          <a:xfrm>
            <a:off x="6646680" y="2840040"/>
            <a:ext cx="108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86" name=""/>
          <p:cNvCxnSpPr>
            <a:stCxn id="1161" idx="6"/>
            <a:endCxn id="1180" idx="2"/>
          </p:cNvCxnSpPr>
          <p:nvPr/>
        </p:nvCxnSpPr>
        <p:spPr>
          <a:xfrm>
            <a:off x="5683320" y="2792160"/>
            <a:ext cx="429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87" name=""/>
          <p:cNvCxnSpPr>
            <a:stCxn id="1159" idx="6"/>
            <a:endCxn id="1178" idx="2"/>
          </p:cNvCxnSpPr>
          <p:nvPr/>
        </p:nvCxnSpPr>
        <p:spPr>
          <a:xfrm>
            <a:off x="5683320" y="3222360"/>
            <a:ext cx="429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188" name=""/>
          <p:cNvSpPr/>
          <p:nvPr/>
        </p:nvSpPr>
        <p:spPr>
          <a:xfrm>
            <a:off x="3166920" y="2316240"/>
            <a:ext cx="10656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"/>
          <p:cNvSpPr/>
          <p:nvPr/>
        </p:nvSpPr>
        <p:spPr>
          <a:xfrm>
            <a:off x="3649680" y="2316240"/>
            <a:ext cx="10620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"/>
          <p:cNvSpPr/>
          <p:nvPr/>
        </p:nvSpPr>
        <p:spPr>
          <a:xfrm>
            <a:off x="3166920" y="1886040"/>
            <a:ext cx="10656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"/>
          <p:cNvSpPr/>
          <p:nvPr/>
        </p:nvSpPr>
        <p:spPr>
          <a:xfrm>
            <a:off x="3649680" y="1886040"/>
            <a:ext cx="10620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2" name=""/>
          <p:cNvCxnSpPr>
            <a:stCxn id="1190" idx="6"/>
            <a:endCxn id="1191" idx="2"/>
          </p:cNvCxnSpPr>
          <p:nvPr/>
        </p:nvCxnSpPr>
        <p:spPr>
          <a:xfrm>
            <a:off x="3273120" y="1933200"/>
            <a:ext cx="376920" cy="1080"/>
          </a:xfrm>
          <a:prstGeom prst="straightConnector1">
            <a:avLst/>
          </a:prstGeom>
          <a:ln w="9360">
            <a:solidFill>
              <a:srgbClr val="0000cc"/>
            </a:solidFill>
            <a:miter/>
          </a:ln>
        </p:spPr>
      </p:cxnSp>
      <p:cxnSp>
        <p:nvCxnSpPr>
          <p:cNvPr id="1193" name=""/>
          <p:cNvCxnSpPr>
            <a:stCxn id="1190" idx="4"/>
            <a:endCxn id="1188" idx="0"/>
          </p:cNvCxnSpPr>
          <p:nvPr/>
        </p:nvCxnSpPr>
        <p:spPr>
          <a:xfrm>
            <a:off x="3220560" y="198072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4" name=""/>
          <p:cNvCxnSpPr>
            <a:stCxn id="1188" idx="6"/>
            <a:endCxn id="1189" idx="2"/>
          </p:cNvCxnSpPr>
          <p:nvPr/>
        </p:nvCxnSpPr>
        <p:spPr>
          <a:xfrm>
            <a:off x="3273120" y="2363400"/>
            <a:ext cx="376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5" name=""/>
          <p:cNvCxnSpPr>
            <a:stCxn id="1191" idx="4"/>
            <a:endCxn id="1189" idx="0"/>
          </p:cNvCxnSpPr>
          <p:nvPr/>
        </p:nvCxnSpPr>
        <p:spPr>
          <a:xfrm>
            <a:off x="3701520" y="198072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196" name=""/>
          <p:cNvSpPr/>
          <p:nvPr/>
        </p:nvSpPr>
        <p:spPr>
          <a:xfrm>
            <a:off x="2203560" y="2316240"/>
            <a:ext cx="10620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"/>
          <p:cNvSpPr/>
          <p:nvPr/>
        </p:nvSpPr>
        <p:spPr>
          <a:xfrm>
            <a:off x="2685960" y="2316240"/>
            <a:ext cx="10656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"/>
          <p:cNvSpPr/>
          <p:nvPr/>
        </p:nvSpPr>
        <p:spPr>
          <a:xfrm>
            <a:off x="2203560" y="1886040"/>
            <a:ext cx="10620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"/>
          <p:cNvSpPr/>
          <p:nvPr/>
        </p:nvSpPr>
        <p:spPr>
          <a:xfrm>
            <a:off x="2685960" y="1886040"/>
            <a:ext cx="10656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0" name=""/>
          <p:cNvCxnSpPr>
            <a:stCxn id="1198" idx="6"/>
            <a:endCxn id="1199" idx="2"/>
          </p:cNvCxnSpPr>
          <p:nvPr/>
        </p:nvCxnSpPr>
        <p:spPr>
          <a:xfrm>
            <a:off x="2309400" y="1933200"/>
            <a:ext cx="376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01" name=""/>
          <p:cNvCxnSpPr>
            <a:stCxn id="1198" idx="4"/>
            <a:endCxn id="1196" idx="0"/>
          </p:cNvCxnSpPr>
          <p:nvPr/>
        </p:nvCxnSpPr>
        <p:spPr>
          <a:xfrm>
            <a:off x="2257200" y="198072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02" name=""/>
          <p:cNvCxnSpPr>
            <a:stCxn id="1196" idx="6"/>
            <a:endCxn id="1197" idx="2"/>
          </p:cNvCxnSpPr>
          <p:nvPr/>
        </p:nvCxnSpPr>
        <p:spPr>
          <a:xfrm>
            <a:off x="2309400" y="2363400"/>
            <a:ext cx="376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03" name=""/>
          <p:cNvCxnSpPr>
            <a:stCxn id="1199" idx="4"/>
            <a:endCxn id="1197" idx="0"/>
          </p:cNvCxnSpPr>
          <p:nvPr/>
        </p:nvCxnSpPr>
        <p:spPr>
          <a:xfrm>
            <a:off x="2738160" y="198072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04" name=""/>
          <p:cNvCxnSpPr>
            <a:stCxn id="1199" idx="6"/>
            <a:endCxn id="1190" idx="2"/>
          </p:cNvCxnSpPr>
          <p:nvPr/>
        </p:nvCxnSpPr>
        <p:spPr>
          <a:xfrm>
            <a:off x="2792520" y="1933200"/>
            <a:ext cx="375120" cy="1080"/>
          </a:xfrm>
          <a:prstGeom prst="straightConnector1">
            <a:avLst/>
          </a:prstGeom>
          <a:ln w="9360">
            <a:solidFill>
              <a:srgbClr val="0000cc"/>
            </a:solidFill>
            <a:miter/>
          </a:ln>
        </p:spPr>
      </p:cxnSp>
      <p:cxnSp>
        <p:nvCxnSpPr>
          <p:cNvPr id="1205" name=""/>
          <p:cNvCxnSpPr>
            <a:stCxn id="1197" idx="6"/>
            <a:endCxn id="1188" idx="2"/>
          </p:cNvCxnSpPr>
          <p:nvPr/>
        </p:nvCxnSpPr>
        <p:spPr>
          <a:xfrm>
            <a:off x="2792520" y="2363400"/>
            <a:ext cx="37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6" name=""/>
          <p:cNvSpPr/>
          <p:nvPr/>
        </p:nvSpPr>
        <p:spPr>
          <a:xfrm>
            <a:off x="5094360" y="2316240"/>
            <a:ext cx="10800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"/>
          <p:cNvSpPr/>
          <p:nvPr/>
        </p:nvSpPr>
        <p:spPr>
          <a:xfrm>
            <a:off x="5576760" y="2316240"/>
            <a:ext cx="10656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>
            <a:off x="5094360" y="1886040"/>
            <a:ext cx="10800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>
            <a:off x="5576760" y="1886040"/>
            <a:ext cx="10656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0" name=""/>
          <p:cNvCxnSpPr>
            <a:stCxn id="1208" idx="6"/>
            <a:endCxn id="1209" idx="2"/>
          </p:cNvCxnSpPr>
          <p:nvPr/>
        </p:nvCxnSpPr>
        <p:spPr>
          <a:xfrm>
            <a:off x="5202360" y="1933200"/>
            <a:ext cx="375120" cy="1080"/>
          </a:xfrm>
          <a:prstGeom prst="straightConnector1">
            <a:avLst/>
          </a:prstGeom>
          <a:ln w="9360">
            <a:solidFill>
              <a:srgbClr val="0000cc"/>
            </a:solidFill>
            <a:miter/>
          </a:ln>
        </p:spPr>
      </p:cxnSp>
      <p:cxnSp>
        <p:nvCxnSpPr>
          <p:cNvPr id="1211" name=""/>
          <p:cNvCxnSpPr>
            <a:stCxn id="1208" idx="4"/>
            <a:endCxn id="1206" idx="0"/>
          </p:cNvCxnSpPr>
          <p:nvPr/>
        </p:nvCxnSpPr>
        <p:spPr>
          <a:xfrm>
            <a:off x="5148000" y="198072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12" name=""/>
          <p:cNvCxnSpPr>
            <a:stCxn id="1206" idx="6"/>
            <a:endCxn id="1207" idx="2"/>
          </p:cNvCxnSpPr>
          <p:nvPr/>
        </p:nvCxnSpPr>
        <p:spPr>
          <a:xfrm>
            <a:off x="5202360" y="2363400"/>
            <a:ext cx="37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13" name=""/>
          <p:cNvCxnSpPr>
            <a:stCxn id="1209" idx="4"/>
            <a:endCxn id="1207" idx="0"/>
          </p:cNvCxnSpPr>
          <p:nvPr/>
        </p:nvCxnSpPr>
        <p:spPr>
          <a:xfrm>
            <a:off x="5628960" y="198072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14" name=""/>
          <p:cNvSpPr/>
          <p:nvPr/>
        </p:nvSpPr>
        <p:spPr>
          <a:xfrm>
            <a:off x="4130640" y="2316240"/>
            <a:ext cx="10800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"/>
          <p:cNvSpPr/>
          <p:nvPr/>
        </p:nvSpPr>
        <p:spPr>
          <a:xfrm>
            <a:off x="4613400" y="2316240"/>
            <a:ext cx="10620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"/>
          <p:cNvSpPr/>
          <p:nvPr/>
        </p:nvSpPr>
        <p:spPr>
          <a:xfrm>
            <a:off x="4130640" y="1886040"/>
            <a:ext cx="10800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"/>
          <p:cNvSpPr/>
          <p:nvPr/>
        </p:nvSpPr>
        <p:spPr>
          <a:xfrm>
            <a:off x="4613400" y="1886040"/>
            <a:ext cx="10620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8" name=""/>
          <p:cNvCxnSpPr>
            <a:stCxn id="1216" idx="6"/>
            <a:endCxn id="1217" idx="2"/>
          </p:cNvCxnSpPr>
          <p:nvPr/>
        </p:nvCxnSpPr>
        <p:spPr>
          <a:xfrm>
            <a:off x="4238280" y="1933200"/>
            <a:ext cx="375480" cy="1080"/>
          </a:xfrm>
          <a:prstGeom prst="straightConnector1">
            <a:avLst/>
          </a:prstGeom>
          <a:ln w="9360">
            <a:solidFill>
              <a:srgbClr val="0000cc"/>
            </a:solidFill>
            <a:miter/>
          </a:ln>
        </p:spPr>
      </p:cxnSp>
      <p:cxnSp>
        <p:nvCxnSpPr>
          <p:cNvPr id="1219" name=""/>
          <p:cNvCxnSpPr>
            <a:stCxn id="1216" idx="4"/>
            <a:endCxn id="1214" idx="0"/>
          </p:cNvCxnSpPr>
          <p:nvPr/>
        </p:nvCxnSpPr>
        <p:spPr>
          <a:xfrm>
            <a:off x="4184280" y="198072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20" name=""/>
          <p:cNvCxnSpPr>
            <a:stCxn id="1214" idx="6"/>
            <a:endCxn id="1215" idx="2"/>
          </p:cNvCxnSpPr>
          <p:nvPr/>
        </p:nvCxnSpPr>
        <p:spPr>
          <a:xfrm>
            <a:off x="4238280" y="236340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21" name=""/>
          <p:cNvCxnSpPr>
            <a:stCxn id="1217" idx="4"/>
            <a:endCxn id="1215" idx="0"/>
          </p:cNvCxnSpPr>
          <p:nvPr/>
        </p:nvCxnSpPr>
        <p:spPr>
          <a:xfrm>
            <a:off x="4665240" y="198072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22" name=""/>
          <p:cNvCxnSpPr>
            <a:stCxn id="1217" idx="6"/>
            <a:endCxn id="1208" idx="2"/>
          </p:cNvCxnSpPr>
          <p:nvPr/>
        </p:nvCxnSpPr>
        <p:spPr>
          <a:xfrm>
            <a:off x="4719240" y="1933200"/>
            <a:ext cx="375480" cy="1080"/>
          </a:xfrm>
          <a:prstGeom prst="straightConnector1">
            <a:avLst/>
          </a:prstGeom>
          <a:ln w="9360">
            <a:solidFill>
              <a:srgbClr val="0000cc"/>
            </a:solidFill>
            <a:miter/>
          </a:ln>
        </p:spPr>
      </p:cxnSp>
      <p:cxnSp>
        <p:nvCxnSpPr>
          <p:cNvPr id="1223" name=""/>
          <p:cNvCxnSpPr>
            <a:stCxn id="1215" idx="6"/>
            <a:endCxn id="1206" idx="2"/>
          </p:cNvCxnSpPr>
          <p:nvPr/>
        </p:nvCxnSpPr>
        <p:spPr>
          <a:xfrm>
            <a:off x="4719240" y="236340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24" name=""/>
          <p:cNvCxnSpPr>
            <a:stCxn id="1191" idx="6"/>
            <a:endCxn id="1216" idx="2"/>
          </p:cNvCxnSpPr>
          <p:nvPr/>
        </p:nvCxnSpPr>
        <p:spPr>
          <a:xfrm>
            <a:off x="3755520" y="1933200"/>
            <a:ext cx="375480" cy="1080"/>
          </a:xfrm>
          <a:prstGeom prst="straightConnector1">
            <a:avLst/>
          </a:prstGeom>
          <a:ln w="9360">
            <a:solidFill>
              <a:srgbClr val="0000cc"/>
            </a:solidFill>
            <a:miter/>
          </a:ln>
        </p:spPr>
      </p:cxnSp>
      <p:cxnSp>
        <p:nvCxnSpPr>
          <p:cNvPr id="1225" name=""/>
          <p:cNvCxnSpPr>
            <a:stCxn id="1189" idx="6"/>
            <a:endCxn id="1214" idx="2"/>
          </p:cNvCxnSpPr>
          <p:nvPr/>
        </p:nvCxnSpPr>
        <p:spPr>
          <a:xfrm>
            <a:off x="3755520" y="236340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26" name=""/>
          <p:cNvSpPr/>
          <p:nvPr/>
        </p:nvSpPr>
        <p:spPr>
          <a:xfrm>
            <a:off x="6111720" y="2316240"/>
            <a:ext cx="10656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"/>
          <p:cNvSpPr/>
          <p:nvPr/>
        </p:nvSpPr>
        <p:spPr>
          <a:xfrm>
            <a:off x="6593040" y="2316240"/>
            <a:ext cx="10764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"/>
          <p:cNvSpPr/>
          <p:nvPr/>
        </p:nvSpPr>
        <p:spPr>
          <a:xfrm>
            <a:off x="6111720" y="1886040"/>
            <a:ext cx="10656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"/>
          <p:cNvSpPr/>
          <p:nvPr/>
        </p:nvSpPr>
        <p:spPr>
          <a:xfrm>
            <a:off x="6593040" y="1886040"/>
            <a:ext cx="10764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0" name=""/>
          <p:cNvCxnSpPr>
            <a:stCxn id="1228" idx="6"/>
            <a:endCxn id="1229" idx="2"/>
          </p:cNvCxnSpPr>
          <p:nvPr/>
        </p:nvCxnSpPr>
        <p:spPr>
          <a:xfrm>
            <a:off x="6217920" y="193320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1" name=""/>
          <p:cNvCxnSpPr>
            <a:stCxn id="1228" idx="4"/>
            <a:endCxn id="1226" idx="0"/>
          </p:cNvCxnSpPr>
          <p:nvPr/>
        </p:nvCxnSpPr>
        <p:spPr>
          <a:xfrm>
            <a:off x="6165360" y="198072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2" name=""/>
          <p:cNvCxnSpPr>
            <a:stCxn id="1226" idx="6"/>
            <a:endCxn id="1227" idx="2"/>
          </p:cNvCxnSpPr>
          <p:nvPr/>
        </p:nvCxnSpPr>
        <p:spPr>
          <a:xfrm>
            <a:off x="6217920" y="236340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3" name=""/>
          <p:cNvCxnSpPr>
            <a:stCxn id="1229" idx="4"/>
            <a:endCxn id="1227" idx="0"/>
          </p:cNvCxnSpPr>
          <p:nvPr/>
        </p:nvCxnSpPr>
        <p:spPr>
          <a:xfrm>
            <a:off x="6646680" y="198072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4" name=""/>
          <p:cNvCxnSpPr>
            <a:stCxn id="1209" idx="6"/>
            <a:endCxn id="1228" idx="2"/>
          </p:cNvCxnSpPr>
          <p:nvPr/>
        </p:nvCxnSpPr>
        <p:spPr>
          <a:xfrm>
            <a:off x="5683320" y="1933200"/>
            <a:ext cx="429120" cy="1080"/>
          </a:xfrm>
          <a:prstGeom prst="straightConnector1">
            <a:avLst/>
          </a:prstGeom>
          <a:ln w="9360">
            <a:solidFill>
              <a:srgbClr val="0000cc"/>
            </a:solidFill>
            <a:miter/>
          </a:ln>
        </p:spPr>
      </p:cxnSp>
      <p:cxnSp>
        <p:nvCxnSpPr>
          <p:cNvPr id="1235" name=""/>
          <p:cNvCxnSpPr>
            <a:stCxn id="1207" idx="6"/>
            <a:endCxn id="1226" idx="2"/>
          </p:cNvCxnSpPr>
          <p:nvPr/>
        </p:nvCxnSpPr>
        <p:spPr>
          <a:xfrm>
            <a:off x="5683320" y="2363400"/>
            <a:ext cx="429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6" name=""/>
          <p:cNvCxnSpPr>
            <a:stCxn id="1196" idx="4"/>
            <a:endCxn id="1150" idx="0"/>
          </p:cNvCxnSpPr>
          <p:nvPr/>
        </p:nvCxnSpPr>
        <p:spPr>
          <a:xfrm>
            <a:off x="2257200" y="2411280"/>
            <a:ext cx="10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7" name=""/>
          <p:cNvCxnSpPr>
            <a:stCxn id="1197" idx="4"/>
            <a:endCxn id="1151" idx="0"/>
          </p:cNvCxnSpPr>
          <p:nvPr/>
        </p:nvCxnSpPr>
        <p:spPr>
          <a:xfrm>
            <a:off x="2738160" y="2411280"/>
            <a:ext cx="10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8" name=""/>
          <p:cNvCxnSpPr>
            <a:stCxn id="1188" idx="4"/>
            <a:endCxn id="1142" idx="0"/>
          </p:cNvCxnSpPr>
          <p:nvPr/>
        </p:nvCxnSpPr>
        <p:spPr>
          <a:xfrm>
            <a:off x="3220560" y="2411280"/>
            <a:ext cx="10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9" name=""/>
          <p:cNvCxnSpPr>
            <a:stCxn id="1189" idx="4"/>
            <a:endCxn id="1143" idx="0"/>
          </p:cNvCxnSpPr>
          <p:nvPr/>
        </p:nvCxnSpPr>
        <p:spPr>
          <a:xfrm>
            <a:off x="3701520" y="2411280"/>
            <a:ext cx="10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40" name=""/>
          <p:cNvCxnSpPr>
            <a:stCxn id="1214" idx="4"/>
            <a:endCxn id="1168" idx="0"/>
          </p:cNvCxnSpPr>
          <p:nvPr/>
        </p:nvCxnSpPr>
        <p:spPr>
          <a:xfrm>
            <a:off x="4184280" y="2411280"/>
            <a:ext cx="10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41" name=""/>
          <p:cNvCxnSpPr>
            <a:stCxn id="1215" idx="4"/>
            <a:endCxn id="1169" idx="0"/>
          </p:cNvCxnSpPr>
          <p:nvPr/>
        </p:nvCxnSpPr>
        <p:spPr>
          <a:xfrm>
            <a:off x="4665240" y="2411280"/>
            <a:ext cx="10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42" name=""/>
          <p:cNvCxnSpPr>
            <a:stCxn id="1206" idx="4"/>
            <a:endCxn id="1160" idx="0"/>
          </p:cNvCxnSpPr>
          <p:nvPr/>
        </p:nvCxnSpPr>
        <p:spPr>
          <a:xfrm>
            <a:off x="5148000" y="2411280"/>
            <a:ext cx="10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43" name=""/>
          <p:cNvCxnSpPr>
            <a:stCxn id="1207" idx="4"/>
            <a:endCxn id="1161" idx="0"/>
          </p:cNvCxnSpPr>
          <p:nvPr/>
        </p:nvCxnSpPr>
        <p:spPr>
          <a:xfrm>
            <a:off x="5628960" y="2411280"/>
            <a:ext cx="10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44" name=""/>
          <p:cNvCxnSpPr>
            <a:stCxn id="1226" idx="4"/>
            <a:endCxn id="1180" idx="0"/>
          </p:cNvCxnSpPr>
          <p:nvPr/>
        </p:nvCxnSpPr>
        <p:spPr>
          <a:xfrm>
            <a:off x="6165360" y="2411280"/>
            <a:ext cx="10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45" name=""/>
          <p:cNvCxnSpPr>
            <a:stCxn id="1227" idx="4"/>
            <a:endCxn id="1181" idx="0"/>
          </p:cNvCxnSpPr>
          <p:nvPr/>
        </p:nvCxnSpPr>
        <p:spPr>
          <a:xfrm>
            <a:off x="6646680" y="2411280"/>
            <a:ext cx="10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46" name=""/>
          <p:cNvCxnSpPr>
            <a:stCxn id="1148" idx="4"/>
            <a:endCxn id="1102" idx="0"/>
          </p:cNvCxnSpPr>
          <p:nvPr/>
        </p:nvCxnSpPr>
        <p:spPr>
          <a:xfrm>
            <a:off x="2257200" y="3270240"/>
            <a:ext cx="108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47" name=""/>
          <p:cNvCxnSpPr>
            <a:stCxn id="1149" idx="4"/>
            <a:endCxn id="1103" idx="0"/>
          </p:cNvCxnSpPr>
          <p:nvPr/>
        </p:nvCxnSpPr>
        <p:spPr>
          <a:xfrm>
            <a:off x="2738160" y="3270240"/>
            <a:ext cx="108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48" name=""/>
          <p:cNvCxnSpPr>
            <a:stCxn id="1140" idx="4"/>
            <a:endCxn id="1094" idx="0"/>
          </p:cNvCxnSpPr>
          <p:nvPr/>
        </p:nvCxnSpPr>
        <p:spPr>
          <a:xfrm>
            <a:off x="3220560" y="3270240"/>
            <a:ext cx="108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49" name=""/>
          <p:cNvCxnSpPr>
            <a:stCxn id="1141" idx="4"/>
            <a:endCxn id="1095" idx="0"/>
          </p:cNvCxnSpPr>
          <p:nvPr/>
        </p:nvCxnSpPr>
        <p:spPr>
          <a:xfrm>
            <a:off x="3701520" y="3270240"/>
            <a:ext cx="108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50" name=""/>
          <p:cNvCxnSpPr>
            <a:stCxn id="1166" idx="4"/>
            <a:endCxn id="1119" idx="0"/>
          </p:cNvCxnSpPr>
          <p:nvPr/>
        </p:nvCxnSpPr>
        <p:spPr>
          <a:xfrm>
            <a:off x="4184280" y="3270240"/>
            <a:ext cx="108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51" name=""/>
          <p:cNvCxnSpPr>
            <a:stCxn id="1167" idx="4"/>
            <a:endCxn id="1252" idx="0"/>
          </p:cNvCxnSpPr>
          <p:nvPr/>
        </p:nvCxnSpPr>
        <p:spPr>
          <a:xfrm>
            <a:off x="4667040" y="3270240"/>
            <a:ext cx="108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53" name=""/>
          <p:cNvCxnSpPr>
            <a:stCxn id="1158" idx="4"/>
            <a:endCxn id="1112" idx="0"/>
          </p:cNvCxnSpPr>
          <p:nvPr/>
        </p:nvCxnSpPr>
        <p:spPr>
          <a:xfrm>
            <a:off x="5148000" y="3270240"/>
            <a:ext cx="108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54" name=""/>
          <p:cNvCxnSpPr>
            <a:stCxn id="1159" idx="4"/>
            <a:endCxn id="1113" idx="0"/>
          </p:cNvCxnSpPr>
          <p:nvPr/>
        </p:nvCxnSpPr>
        <p:spPr>
          <a:xfrm>
            <a:off x="5628960" y="3270240"/>
            <a:ext cx="108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55" name=""/>
          <p:cNvCxnSpPr>
            <a:stCxn id="1178" idx="4"/>
            <a:endCxn id="1124" idx="0"/>
          </p:cNvCxnSpPr>
          <p:nvPr/>
        </p:nvCxnSpPr>
        <p:spPr>
          <a:xfrm>
            <a:off x="6165360" y="3270240"/>
            <a:ext cx="108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56" name=""/>
          <p:cNvCxnSpPr>
            <a:stCxn id="1179" idx="4"/>
            <a:endCxn id="1125" idx="0"/>
          </p:cNvCxnSpPr>
          <p:nvPr/>
        </p:nvCxnSpPr>
        <p:spPr>
          <a:xfrm>
            <a:off x="6646680" y="3270240"/>
            <a:ext cx="108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57" name=""/>
          <p:cNvSpPr/>
          <p:nvPr/>
        </p:nvSpPr>
        <p:spPr>
          <a:xfrm>
            <a:off x="3170160" y="5753160"/>
            <a:ext cx="10800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"/>
          <p:cNvSpPr/>
          <p:nvPr/>
        </p:nvSpPr>
        <p:spPr>
          <a:xfrm>
            <a:off x="3652920" y="5753160"/>
            <a:ext cx="10620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59" name=""/>
          <p:cNvCxnSpPr>
            <a:stCxn id="1257" idx="6"/>
            <a:endCxn id="1258" idx="2"/>
          </p:cNvCxnSpPr>
          <p:nvPr/>
        </p:nvCxnSpPr>
        <p:spPr>
          <a:xfrm>
            <a:off x="3277800" y="580032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60" name=""/>
          <p:cNvSpPr/>
          <p:nvPr/>
        </p:nvSpPr>
        <p:spPr>
          <a:xfrm>
            <a:off x="2206800" y="5753160"/>
            <a:ext cx="107640" cy="95040"/>
          </a:xfrm>
          <a:prstGeom prst="ellipse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"/>
          <p:cNvSpPr/>
          <p:nvPr/>
        </p:nvSpPr>
        <p:spPr>
          <a:xfrm>
            <a:off x="2689200" y="5753160"/>
            <a:ext cx="10656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2" name=""/>
          <p:cNvCxnSpPr>
            <a:stCxn id="1260" idx="6"/>
            <a:endCxn id="1261" idx="2"/>
          </p:cNvCxnSpPr>
          <p:nvPr/>
        </p:nvCxnSpPr>
        <p:spPr>
          <a:xfrm>
            <a:off x="2314080" y="580032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63" name=""/>
          <p:cNvCxnSpPr>
            <a:stCxn id="1261" idx="6"/>
            <a:endCxn id="1257" idx="2"/>
          </p:cNvCxnSpPr>
          <p:nvPr/>
        </p:nvCxnSpPr>
        <p:spPr>
          <a:xfrm>
            <a:off x="2795760" y="5800320"/>
            <a:ext cx="37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64" name=""/>
          <p:cNvSpPr/>
          <p:nvPr/>
        </p:nvSpPr>
        <p:spPr>
          <a:xfrm>
            <a:off x="5097600" y="5753160"/>
            <a:ext cx="10764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"/>
          <p:cNvSpPr/>
          <p:nvPr/>
        </p:nvSpPr>
        <p:spPr>
          <a:xfrm>
            <a:off x="5580000" y="5753160"/>
            <a:ext cx="10656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6" name=""/>
          <p:cNvCxnSpPr>
            <a:stCxn id="1264" idx="6"/>
            <a:endCxn id="1265" idx="2"/>
          </p:cNvCxnSpPr>
          <p:nvPr/>
        </p:nvCxnSpPr>
        <p:spPr>
          <a:xfrm>
            <a:off x="5204880" y="580032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67" name=""/>
          <p:cNvSpPr/>
          <p:nvPr/>
        </p:nvSpPr>
        <p:spPr>
          <a:xfrm>
            <a:off x="4133880" y="5753160"/>
            <a:ext cx="10800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"/>
          <p:cNvSpPr/>
          <p:nvPr/>
        </p:nvSpPr>
        <p:spPr>
          <a:xfrm>
            <a:off x="4616280" y="5753160"/>
            <a:ext cx="10656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9" name=""/>
          <p:cNvCxnSpPr>
            <a:stCxn id="1267" idx="6"/>
            <a:endCxn id="1268" idx="2"/>
          </p:cNvCxnSpPr>
          <p:nvPr/>
        </p:nvCxnSpPr>
        <p:spPr>
          <a:xfrm>
            <a:off x="4241880" y="5800320"/>
            <a:ext cx="37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0" name=""/>
          <p:cNvCxnSpPr>
            <a:stCxn id="1268" idx="6"/>
            <a:endCxn id="1264" idx="2"/>
          </p:cNvCxnSpPr>
          <p:nvPr/>
        </p:nvCxnSpPr>
        <p:spPr>
          <a:xfrm>
            <a:off x="4722480" y="580032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1" name=""/>
          <p:cNvCxnSpPr>
            <a:stCxn id="1258" idx="6"/>
            <a:endCxn id="1267" idx="2"/>
          </p:cNvCxnSpPr>
          <p:nvPr/>
        </p:nvCxnSpPr>
        <p:spPr>
          <a:xfrm>
            <a:off x="3758760" y="580032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72" name=""/>
          <p:cNvSpPr/>
          <p:nvPr/>
        </p:nvSpPr>
        <p:spPr>
          <a:xfrm>
            <a:off x="6114960" y="5753160"/>
            <a:ext cx="10656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"/>
          <p:cNvSpPr/>
          <p:nvPr/>
        </p:nvSpPr>
        <p:spPr>
          <a:xfrm>
            <a:off x="6597720" y="5753160"/>
            <a:ext cx="10620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74" name=""/>
          <p:cNvCxnSpPr>
            <a:stCxn id="1272" idx="6"/>
            <a:endCxn id="1273" idx="2"/>
          </p:cNvCxnSpPr>
          <p:nvPr/>
        </p:nvCxnSpPr>
        <p:spPr>
          <a:xfrm>
            <a:off x="6221160" y="5800320"/>
            <a:ext cx="376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5" name=""/>
          <p:cNvCxnSpPr>
            <a:stCxn id="1265" idx="6"/>
            <a:endCxn id="1272" idx="2"/>
          </p:cNvCxnSpPr>
          <p:nvPr/>
        </p:nvCxnSpPr>
        <p:spPr>
          <a:xfrm>
            <a:off x="5686560" y="5800320"/>
            <a:ext cx="429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76" name=""/>
          <p:cNvSpPr/>
          <p:nvPr/>
        </p:nvSpPr>
        <p:spPr>
          <a:xfrm>
            <a:off x="3170160" y="5322960"/>
            <a:ext cx="10800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"/>
          <p:cNvSpPr/>
          <p:nvPr/>
        </p:nvSpPr>
        <p:spPr>
          <a:xfrm>
            <a:off x="3652920" y="5322960"/>
            <a:ext cx="10620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"/>
          <p:cNvSpPr/>
          <p:nvPr/>
        </p:nvSpPr>
        <p:spPr>
          <a:xfrm>
            <a:off x="3170160" y="4894200"/>
            <a:ext cx="10800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"/>
          <p:cNvSpPr/>
          <p:nvPr/>
        </p:nvSpPr>
        <p:spPr>
          <a:xfrm>
            <a:off x="3652920" y="4894200"/>
            <a:ext cx="10620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0" name=""/>
          <p:cNvCxnSpPr>
            <a:stCxn id="1278" idx="6"/>
            <a:endCxn id="1279" idx="2"/>
          </p:cNvCxnSpPr>
          <p:nvPr/>
        </p:nvCxnSpPr>
        <p:spPr>
          <a:xfrm>
            <a:off x="3277800" y="494136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81" name=""/>
          <p:cNvCxnSpPr>
            <a:stCxn id="1278" idx="4"/>
            <a:endCxn id="1276" idx="0"/>
          </p:cNvCxnSpPr>
          <p:nvPr/>
        </p:nvCxnSpPr>
        <p:spPr>
          <a:xfrm>
            <a:off x="3223800" y="4989600"/>
            <a:ext cx="10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82" name=""/>
          <p:cNvCxnSpPr>
            <a:stCxn id="1276" idx="6"/>
            <a:endCxn id="1277" idx="2"/>
          </p:cNvCxnSpPr>
          <p:nvPr/>
        </p:nvCxnSpPr>
        <p:spPr>
          <a:xfrm>
            <a:off x="3277800" y="537012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83" name=""/>
          <p:cNvCxnSpPr>
            <a:stCxn id="1279" idx="4"/>
            <a:endCxn id="1277" idx="0"/>
          </p:cNvCxnSpPr>
          <p:nvPr/>
        </p:nvCxnSpPr>
        <p:spPr>
          <a:xfrm>
            <a:off x="3704760" y="4989600"/>
            <a:ext cx="10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4" name=""/>
          <p:cNvSpPr/>
          <p:nvPr/>
        </p:nvSpPr>
        <p:spPr>
          <a:xfrm>
            <a:off x="2206800" y="5322960"/>
            <a:ext cx="10764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"/>
          <p:cNvSpPr/>
          <p:nvPr/>
        </p:nvSpPr>
        <p:spPr>
          <a:xfrm>
            <a:off x="2689200" y="5322960"/>
            <a:ext cx="10656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"/>
          <p:cNvSpPr/>
          <p:nvPr/>
        </p:nvSpPr>
        <p:spPr>
          <a:xfrm>
            <a:off x="2206800" y="4894200"/>
            <a:ext cx="10764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"/>
          <p:cNvSpPr/>
          <p:nvPr/>
        </p:nvSpPr>
        <p:spPr>
          <a:xfrm>
            <a:off x="2689200" y="4894200"/>
            <a:ext cx="10656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8" name=""/>
          <p:cNvCxnSpPr>
            <a:stCxn id="1286" idx="6"/>
            <a:endCxn id="1287" idx="2"/>
          </p:cNvCxnSpPr>
          <p:nvPr/>
        </p:nvCxnSpPr>
        <p:spPr>
          <a:xfrm>
            <a:off x="2314080" y="494136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89" name=""/>
          <p:cNvCxnSpPr>
            <a:stCxn id="1286" idx="4"/>
            <a:endCxn id="1284" idx="0"/>
          </p:cNvCxnSpPr>
          <p:nvPr/>
        </p:nvCxnSpPr>
        <p:spPr>
          <a:xfrm>
            <a:off x="2260080" y="4989600"/>
            <a:ext cx="10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90" name=""/>
          <p:cNvCxnSpPr>
            <a:stCxn id="1284" idx="6"/>
            <a:endCxn id="1285" idx="2"/>
          </p:cNvCxnSpPr>
          <p:nvPr/>
        </p:nvCxnSpPr>
        <p:spPr>
          <a:xfrm>
            <a:off x="2314080" y="537012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91" name=""/>
          <p:cNvCxnSpPr>
            <a:stCxn id="1287" idx="4"/>
            <a:endCxn id="1285" idx="0"/>
          </p:cNvCxnSpPr>
          <p:nvPr/>
        </p:nvCxnSpPr>
        <p:spPr>
          <a:xfrm>
            <a:off x="2741400" y="4989600"/>
            <a:ext cx="10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92" name=""/>
          <p:cNvCxnSpPr>
            <a:stCxn id="1287" idx="6"/>
            <a:endCxn id="1278" idx="2"/>
          </p:cNvCxnSpPr>
          <p:nvPr/>
        </p:nvCxnSpPr>
        <p:spPr>
          <a:xfrm>
            <a:off x="2795760" y="4941360"/>
            <a:ext cx="37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93" name=""/>
          <p:cNvCxnSpPr>
            <a:stCxn id="1285" idx="6"/>
            <a:endCxn id="1276" idx="2"/>
          </p:cNvCxnSpPr>
          <p:nvPr/>
        </p:nvCxnSpPr>
        <p:spPr>
          <a:xfrm>
            <a:off x="2795760" y="5370120"/>
            <a:ext cx="37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94" name=""/>
          <p:cNvSpPr/>
          <p:nvPr/>
        </p:nvSpPr>
        <p:spPr>
          <a:xfrm>
            <a:off x="5097600" y="5322960"/>
            <a:ext cx="10764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"/>
          <p:cNvSpPr/>
          <p:nvPr/>
        </p:nvSpPr>
        <p:spPr>
          <a:xfrm>
            <a:off x="5580000" y="5322960"/>
            <a:ext cx="10656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"/>
          <p:cNvSpPr/>
          <p:nvPr/>
        </p:nvSpPr>
        <p:spPr>
          <a:xfrm>
            <a:off x="5097600" y="4894200"/>
            <a:ext cx="10764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"/>
          <p:cNvSpPr/>
          <p:nvPr/>
        </p:nvSpPr>
        <p:spPr>
          <a:xfrm>
            <a:off x="5580000" y="4894200"/>
            <a:ext cx="10656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8" name=""/>
          <p:cNvCxnSpPr>
            <a:stCxn id="1296" idx="6"/>
            <a:endCxn id="1297" idx="2"/>
          </p:cNvCxnSpPr>
          <p:nvPr/>
        </p:nvCxnSpPr>
        <p:spPr>
          <a:xfrm>
            <a:off x="5204880" y="494136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99" name=""/>
          <p:cNvCxnSpPr>
            <a:stCxn id="1296" idx="4"/>
            <a:endCxn id="1294" idx="0"/>
          </p:cNvCxnSpPr>
          <p:nvPr/>
        </p:nvCxnSpPr>
        <p:spPr>
          <a:xfrm>
            <a:off x="5151240" y="4989600"/>
            <a:ext cx="10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00" name=""/>
          <p:cNvCxnSpPr>
            <a:stCxn id="1294" idx="6"/>
            <a:endCxn id="1295" idx="2"/>
          </p:cNvCxnSpPr>
          <p:nvPr/>
        </p:nvCxnSpPr>
        <p:spPr>
          <a:xfrm>
            <a:off x="5204880" y="537012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01" name=""/>
          <p:cNvCxnSpPr>
            <a:stCxn id="1297" idx="4"/>
            <a:endCxn id="1295" idx="0"/>
          </p:cNvCxnSpPr>
          <p:nvPr/>
        </p:nvCxnSpPr>
        <p:spPr>
          <a:xfrm>
            <a:off x="5633640" y="4989600"/>
            <a:ext cx="10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302" name=""/>
          <p:cNvSpPr/>
          <p:nvPr/>
        </p:nvSpPr>
        <p:spPr>
          <a:xfrm>
            <a:off x="4133880" y="5322960"/>
            <a:ext cx="10800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"/>
          <p:cNvSpPr/>
          <p:nvPr/>
        </p:nvSpPr>
        <p:spPr>
          <a:xfrm>
            <a:off x="4616280" y="5322960"/>
            <a:ext cx="10656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"/>
          <p:cNvSpPr/>
          <p:nvPr/>
        </p:nvSpPr>
        <p:spPr>
          <a:xfrm>
            <a:off x="4133880" y="4894200"/>
            <a:ext cx="10800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"/>
          <p:cNvSpPr/>
          <p:nvPr/>
        </p:nvSpPr>
        <p:spPr>
          <a:xfrm>
            <a:off x="4616280" y="4894200"/>
            <a:ext cx="10656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6" name=""/>
          <p:cNvCxnSpPr>
            <a:stCxn id="1304" idx="6"/>
            <a:endCxn id="1305" idx="2"/>
          </p:cNvCxnSpPr>
          <p:nvPr/>
        </p:nvCxnSpPr>
        <p:spPr>
          <a:xfrm>
            <a:off x="4241880" y="4941360"/>
            <a:ext cx="37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07" name=""/>
          <p:cNvCxnSpPr>
            <a:stCxn id="1304" idx="4"/>
            <a:endCxn id="1302" idx="0"/>
          </p:cNvCxnSpPr>
          <p:nvPr/>
        </p:nvCxnSpPr>
        <p:spPr>
          <a:xfrm>
            <a:off x="4187520" y="4989600"/>
            <a:ext cx="10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08" name=""/>
          <p:cNvCxnSpPr>
            <a:stCxn id="1302" idx="6"/>
            <a:endCxn id="1303" idx="2"/>
          </p:cNvCxnSpPr>
          <p:nvPr/>
        </p:nvCxnSpPr>
        <p:spPr>
          <a:xfrm>
            <a:off x="4241880" y="5370120"/>
            <a:ext cx="37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09" name=""/>
          <p:cNvCxnSpPr>
            <a:stCxn id="1305" idx="4"/>
            <a:endCxn id="1303" idx="0"/>
          </p:cNvCxnSpPr>
          <p:nvPr/>
        </p:nvCxnSpPr>
        <p:spPr>
          <a:xfrm>
            <a:off x="4668480" y="4989600"/>
            <a:ext cx="10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10" name=""/>
          <p:cNvCxnSpPr>
            <a:stCxn id="1305" idx="6"/>
            <a:endCxn id="1296" idx="2"/>
          </p:cNvCxnSpPr>
          <p:nvPr/>
        </p:nvCxnSpPr>
        <p:spPr>
          <a:xfrm>
            <a:off x="4722480" y="494136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11" name=""/>
          <p:cNvCxnSpPr>
            <a:stCxn id="1303" idx="6"/>
            <a:endCxn id="1294" idx="2"/>
          </p:cNvCxnSpPr>
          <p:nvPr/>
        </p:nvCxnSpPr>
        <p:spPr>
          <a:xfrm>
            <a:off x="4722480" y="537012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12" name=""/>
          <p:cNvCxnSpPr>
            <a:stCxn id="1279" idx="6"/>
            <a:endCxn id="1304" idx="2"/>
          </p:cNvCxnSpPr>
          <p:nvPr/>
        </p:nvCxnSpPr>
        <p:spPr>
          <a:xfrm>
            <a:off x="3758760" y="494136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13" name=""/>
          <p:cNvCxnSpPr>
            <a:stCxn id="1277" idx="6"/>
            <a:endCxn id="1302" idx="2"/>
          </p:cNvCxnSpPr>
          <p:nvPr/>
        </p:nvCxnSpPr>
        <p:spPr>
          <a:xfrm>
            <a:off x="3758760" y="537012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314" name=""/>
          <p:cNvSpPr/>
          <p:nvPr/>
        </p:nvSpPr>
        <p:spPr>
          <a:xfrm>
            <a:off x="6114960" y="5322960"/>
            <a:ext cx="10656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"/>
          <p:cNvSpPr/>
          <p:nvPr/>
        </p:nvSpPr>
        <p:spPr>
          <a:xfrm>
            <a:off x="6597720" y="5322960"/>
            <a:ext cx="10620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"/>
          <p:cNvSpPr/>
          <p:nvPr/>
        </p:nvSpPr>
        <p:spPr>
          <a:xfrm>
            <a:off x="6114960" y="4894200"/>
            <a:ext cx="10656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"/>
          <p:cNvSpPr/>
          <p:nvPr/>
        </p:nvSpPr>
        <p:spPr>
          <a:xfrm>
            <a:off x="6597720" y="4894200"/>
            <a:ext cx="10620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8" name=""/>
          <p:cNvCxnSpPr>
            <a:stCxn id="1316" idx="6"/>
            <a:endCxn id="1317" idx="2"/>
          </p:cNvCxnSpPr>
          <p:nvPr/>
        </p:nvCxnSpPr>
        <p:spPr>
          <a:xfrm>
            <a:off x="6221160" y="4941360"/>
            <a:ext cx="376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19" name=""/>
          <p:cNvCxnSpPr>
            <a:stCxn id="1316" idx="4"/>
            <a:endCxn id="1314" idx="0"/>
          </p:cNvCxnSpPr>
          <p:nvPr/>
        </p:nvCxnSpPr>
        <p:spPr>
          <a:xfrm>
            <a:off x="6168600" y="4989600"/>
            <a:ext cx="10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20" name=""/>
          <p:cNvCxnSpPr>
            <a:stCxn id="1314" idx="6"/>
            <a:endCxn id="1315" idx="2"/>
          </p:cNvCxnSpPr>
          <p:nvPr/>
        </p:nvCxnSpPr>
        <p:spPr>
          <a:xfrm>
            <a:off x="6221160" y="5370120"/>
            <a:ext cx="376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21" name=""/>
          <p:cNvCxnSpPr>
            <a:stCxn id="1317" idx="4"/>
            <a:endCxn id="1315" idx="0"/>
          </p:cNvCxnSpPr>
          <p:nvPr/>
        </p:nvCxnSpPr>
        <p:spPr>
          <a:xfrm>
            <a:off x="6649560" y="4989600"/>
            <a:ext cx="10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22" name=""/>
          <p:cNvCxnSpPr>
            <a:stCxn id="1297" idx="6"/>
            <a:endCxn id="1316" idx="2"/>
          </p:cNvCxnSpPr>
          <p:nvPr/>
        </p:nvCxnSpPr>
        <p:spPr>
          <a:xfrm>
            <a:off x="5686560" y="4941360"/>
            <a:ext cx="429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23" name=""/>
          <p:cNvCxnSpPr>
            <a:stCxn id="1295" idx="6"/>
            <a:endCxn id="1314" idx="2"/>
          </p:cNvCxnSpPr>
          <p:nvPr/>
        </p:nvCxnSpPr>
        <p:spPr>
          <a:xfrm>
            <a:off x="5686560" y="5370120"/>
            <a:ext cx="429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24" name=""/>
          <p:cNvCxnSpPr>
            <a:stCxn id="1284" idx="4"/>
            <a:endCxn id="1260" idx="0"/>
          </p:cNvCxnSpPr>
          <p:nvPr/>
        </p:nvCxnSpPr>
        <p:spPr>
          <a:xfrm>
            <a:off x="2260080" y="541764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25" name=""/>
          <p:cNvCxnSpPr>
            <a:stCxn id="1285" idx="4"/>
            <a:endCxn id="1261" idx="0"/>
          </p:cNvCxnSpPr>
          <p:nvPr/>
        </p:nvCxnSpPr>
        <p:spPr>
          <a:xfrm>
            <a:off x="2741400" y="541764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26" name=""/>
          <p:cNvCxnSpPr>
            <a:stCxn id="1276" idx="4"/>
            <a:endCxn id="1257" idx="0"/>
          </p:cNvCxnSpPr>
          <p:nvPr/>
        </p:nvCxnSpPr>
        <p:spPr>
          <a:xfrm>
            <a:off x="3223800" y="541764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27" name=""/>
          <p:cNvCxnSpPr>
            <a:stCxn id="1277" idx="4"/>
            <a:endCxn id="1258" idx="0"/>
          </p:cNvCxnSpPr>
          <p:nvPr/>
        </p:nvCxnSpPr>
        <p:spPr>
          <a:xfrm>
            <a:off x="3704760" y="541764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28" name=""/>
          <p:cNvCxnSpPr>
            <a:stCxn id="1302" idx="4"/>
            <a:endCxn id="1267" idx="0"/>
          </p:cNvCxnSpPr>
          <p:nvPr/>
        </p:nvCxnSpPr>
        <p:spPr>
          <a:xfrm>
            <a:off x="4187520" y="541764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29" name=""/>
          <p:cNvCxnSpPr>
            <a:stCxn id="1303" idx="4"/>
            <a:endCxn id="1268" idx="0"/>
          </p:cNvCxnSpPr>
          <p:nvPr/>
        </p:nvCxnSpPr>
        <p:spPr>
          <a:xfrm>
            <a:off x="4668480" y="541764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30" name=""/>
          <p:cNvCxnSpPr>
            <a:stCxn id="1294" idx="4"/>
            <a:endCxn id="1264" idx="0"/>
          </p:cNvCxnSpPr>
          <p:nvPr/>
        </p:nvCxnSpPr>
        <p:spPr>
          <a:xfrm>
            <a:off x="5151240" y="541764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31" name=""/>
          <p:cNvCxnSpPr>
            <a:stCxn id="1295" idx="4"/>
            <a:endCxn id="1265" idx="0"/>
          </p:cNvCxnSpPr>
          <p:nvPr/>
        </p:nvCxnSpPr>
        <p:spPr>
          <a:xfrm>
            <a:off x="5633640" y="541764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32" name=""/>
          <p:cNvCxnSpPr>
            <a:stCxn id="1314" idx="4"/>
            <a:endCxn id="1272" idx="0"/>
          </p:cNvCxnSpPr>
          <p:nvPr/>
        </p:nvCxnSpPr>
        <p:spPr>
          <a:xfrm>
            <a:off x="6168600" y="541764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33" name=""/>
          <p:cNvCxnSpPr>
            <a:stCxn id="1315" idx="4"/>
            <a:endCxn id="1273" idx="0"/>
          </p:cNvCxnSpPr>
          <p:nvPr/>
        </p:nvCxnSpPr>
        <p:spPr>
          <a:xfrm>
            <a:off x="6649560" y="541764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334" name=""/>
          <p:cNvSpPr/>
          <p:nvPr/>
        </p:nvSpPr>
        <p:spPr>
          <a:xfrm>
            <a:off x="3381480" y="5753160"/>
            <a:ext cx="160200" cy="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"/>
          <p:cNvSpPr/>
          <p:nvPr/>
        </p:nvSpPr>
        <p:spPr>
          <a:xfrm>
            <a:off x="3862440" y="5753160"/>
            <a:ext cx="162000" cy="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"/>
          <p:cNvSpPr/>
          <p:nvPr/>
        </p:nvSpPr>
        <p:spPr>
          <a:xfrm>
            <a:off x="4344840" y="5753160"/>
            <a:ext cx="160560" cy="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"/>
          <p:cNvSpPr/>
          <p:nvPr/>
        </p:nvSpPr>
        <p:spPr>
          <a:xfrm>
            <a:off x="4827600" y="5753160"/>
            <a:ext cx="160200" cy="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"/>
          <p:cNvSpPr/>
          <p:nvPr/>
        </p:nvSpPr>
        <p:spPr>
          <a:xfrm>
            <a:off x="5308560" y="5753160"/>
            <a:ext cx="160200" cy="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"/>
          <p:cNvSpPr/>
          <p:nvPr/>
        </p:nvSpPr>
        <p:spPr>
          <a:xfrm>
            <a:off x="5791320" y="5753160"/>
            <a:ext cx="160200" cy="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"/>
          <p:cNvSpPr/>
          <p:nvPr/>
        </p:nvSpPr>
        <p:spPr>
          <a:xfrm>
            <a:off x="6326280" y="5753160"/>
            <a:ext cx="160200" cy="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"/>
          <p:cNvSpPr/>
          <p:nvPr/>
        </p:nvSpPr>
        <p:spPr>
          <a:xfrm>
            <a:off x="2898720" y="5753160"/>
            <a:ext cx="162000" cy="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"/>
          <p:cNvSpPr/>
          <p:nvPr/>
        </p:nvSpPr>
        <p:spPr>
          <a:xfrm>
            <a:off x="2417760" y="5753160"/>
            <a:ext cx="160200" cy="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"/>
          <p:cNvSpPr/>
          <p:nvPr/>
        </p:nvSpPr>
        <p:spPr>
          <a:xfrm>
            <a:off x="3381480" y="4464000"/>
            <a:ext cx="160200" cy="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"/>
          <p:cNvSpPr/>
          <p:nvPr/>
        </p:nvSpPr>
        <p:spPr>
          <a:xfrm>
            <a:off x="3862440" y="4464000"/>
            <a:ext cx="162000" cy="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"/>
          <p:cNvSpPr/>
          <p:nvPr/>
        </p:nvSpPr>
        <p:spPr>
          <a:xfrm>
            <a:off x="5308560" y="4464000"/>
            <a:ext cx="160200" cy="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"/>
          <p:cNvSpPr/>
          <p:nvPr/>
        </p:nvSpPr>
        <p:spPr>
          <a:xfrm>
            <a:off x="5791320" y="4464000"/>
            <a:ext cx="160200" cy="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"/>
          <p:cNvSpPr/>
          <p:nvPr/>
        </p:nvSpPr>
        <p:spPr>
          <a:xfrm>
            <a:off x="6326280" y="4464000"/>
            <a:ext cx="160200" cy="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"/>
          <p:cNvSpPr/>
          <p:nvPr/>
        </p:nvSpPr>
        <p:spPr>
          <a:xfrm>
            <a:off x="2898720" y="4464000"/>
            <a:ext cx="162000" cy="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"/>
          <p:cNvSpPr/>
          <p:nvPr/>
        </p:nvSpPr>
        <p:spPr>
          <a:xfrm>
            <a:off x="2417760" y="4464000"/>
            <a:ext cx="160200" cy="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"/>
          <p:cNvSpPr/>
          <p:nvPr/>
        </p:nvSpPr>
        <p:spPr>
          <a:xfrm>
            <a:off x="3381480" y="3174840"/>
            <a:ext cx="160200" cy="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"/>
          <p:cNvSpPr/>
          <p:nvPr/>
        </p:nvSpPr>
        <p:spPr>
          <a:xfrm>
            <a:off x="3862440" y="3174840"/>
            <a:ext cx="162000" cy="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"/>
          <p:cNvSpPr/>
          <p:nvPr/>
        </p:nvSpPr>
        <p:spPr>
          <a:xfrm>
            <a:off x="4344840" y="3174840"/>
            <a:ext cx="160560" cy="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"/>
          <p:cNvSpPr/>
          <p:nvPr/>
        </p:nvSpPr>
        <p:spPr>
          <a:xfrm>
            <a:off x="4827600" y="3174840"/>
            <a:ext cx="160200" cy="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"/>
          <p:cNvSpPr/>
          <p:nvPr/>
        </p:nvSpPr>
        <p:spPr>
          <a:xfrm>
            <a:off x="5308560" y="3174840"/>
            <a:ext cx="160200" cy="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"/>
          <p:cNvSpPr/>
          <p:nvPr/>
        </p:nvSpPr>
        <p:spPr>
          <a:xfrm>
            <a:off x="5791320" y="3174840"/>
            <a:ext cx="160200" cy="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"/>
          <p:cNvSpPr/>
          <p:nvPr/>
        </p:nvSpPr>
        <p:spPr>
          <a:xfrm>
            <a:off x="6326280" y="3174840"/>
            <a:ext cx="160200" cy="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"/>
          <p:cNvSpPr/>
          <p:nvPr/>
        </p:nvSpPr>
        <p:spPr>
          <a:xfrm>
            <a:off x="2898720" y="3174840"/>
            <a:ext cx="162000" cy="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"/>
          <p:cNvSpPr/>
          <p:nvPr/>
        </p:nvSpPr>
        <p:spPr>
          <a:xfrm>
            <a:off x="2417760" y="3174840"/>
            <a:ext cx="160200" cy="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"/>
          <p:cNvSpPr/>
          <p:nvPr/>
        </p:nvSpPr>
        <p:spPr>
          <a:xfrm>
            <a:off x="3381480" y="1886040"/>
            <a:ext cx="160200" cy="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"/>
          <p:cNvSpPr/>
          <p:nvPr/>
        </p:nvSpPr>
        <p:spPr>
          <a:xfrm>
            <a:off x="3862440" y="1886040"/>
            <a:ext cx="162000" cy="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"/>
          <p:cNvSpPr/>
          <p:nvPr/>
        </p:nvSpPr>
        <p:spPr>
          <a:xfrm>
            <a:off x="4344840" y="1886040"/>
            <a:ext cx="160560" cy="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"/>
          <p:cNvSpPr/>
          <p:nvPr/>
        </p:nvSpPr>
        <p:spPr>
          <a:xfrm>
            <a:off x="4827600" y="1886040"/>
            <a:ext cx="160200" cy="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"/>
          <p:cNvSpPr/>
          <p:nvPr/>
        </p:nvSpPr>
        <p:spPr>
          <a:xfrm>
            <a:off x="5308560" y="1886040"/>
            <a:ext cx="160200" cy="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"/>
          <p:cNvSpPr/>
          <p:nvPr/>
        </p:nvSpPr>
        <p:spPr>
          <a:xfrm>
            <a:off x="5791320" y="1886040"/>
            <a:ext cx="160200" cy="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"/>
          <p:cNvSpPr/>
          <p:nvPr/>
        </p:nvSpPr>
        <p:spPr>
          <a:xfrm>
            <a:off x="6326280" y="1886040"/>
            <a:ext cx="160200" cy="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"/>
          <p:cNvSpPr/>
          <p:nvPr/>
        </p:nvSpPr>
        <p:spPr>
          <a:xfrm>
            <a:off x="2898720" y="1886040"/>
            <a:ext cx="162000" cy="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"/>
          <p:cNvSpPr/>
          <p:nvPr/>
        </p:nvSpPr>
        <p:spPr>
          <a:xfrm>
            <a:off x="2417760" y="1886040"/>
            <a:ext cx="160200" cy="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"/>
          <p:cNvSpPr/>
          <p:nvPr/>
        </p:nvSpPr>
        <p:spPr>
          <a:xfrm flipV="1">
            <a:off x="2309760" y="4225680"/>
            <a:ext cx="0" cy="14292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"/>
          <p:cNvSpPr/>
          <p:nvPr/>
        </p:nvSpPr>
        <p:spPr>
          <a:xfrm flipV="1">
            <a:off x="2309760" y="3795480"/>
            <a:ext cx="0" cy="14292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"/>
          <p:cNvSpPr/>
          <p:nvPr/>
        </p:nvSpPr>
        <p:spPr>
          <a:xfrm flipV="1">
            <a:off x="2309760" y="3365640"/>
            <a:ext cx="0" cy="14256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"/>
          <p:cNvSpPr/>
          <p:nvPr/>
        </p:nvSpPr>
        <p:spPr>
          <a:xfrm flipV="1">
            <a:off x="2309760" y="2936520"/>
            <a:ext cx="0" cy="14292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"/>
          <p:cNvSpPr/>
          <p:nvPr/>
        </p:nvSpPr>
        <p:spPr>
          <a:xfrm flipV="1">
            <a:off x="2309760" y="2506320"/>
            <a:ext cx="0" cy="14292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"/>
          <p:cNvSpPr/>
          <p:nvPr/>
        </p:nvSpPr>
        <p:spPr>
          <a:xfrm flipV="1">
            <a:off x="2309760" y="2028600"/>
            <a:ext cx="0" cy="14292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"/>
          <p:cNvSpPr/>
          <p:nvPr/>
        </p:nvSpPr>
        <p:spPr>
          <a:xfrm flipV="1">
            <a:off x="2309760" y="5513040"/>
            <a:ext cx="0" cy="14436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"/>
          <p:cNvSpPr/>
          <p:nvPr/>
        </p:nvSpPr>
        <p:spPr>
          <a:xfrm flipV="1">
            <a:off x="2309760" y="5084280"/>
            <a:ext cx="0" cy="14292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"/>
          <p:cNvSpPr/>
          <p:nvPr/>
        </p:nvSpPr>
        <p:spPr>
          <a:xfrm flipV="1">
            <a:off x="2309760" y="4654080"/>
            <a:ext cx="0" cy="14292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7" name=""/>
          <p:cNvGrpSpPr/>
          <p:nvPr/>
        </p:nvGrpSpPr>
        <p:grpSpPr>
          <a:xfrm>
            <a:off x="4130640" y="3365640"/>
            <a:ext cx="963720" cy="1431720"/>
            <a:chOff x="4130640" y="3365640"/>
            <a:chExt cx="963720" cy="1431720"/>
          </a:xfrm>
        </p:grpSpPr>
        <p:sp>
          <p:nvSpPr>
            <p:cNvPr id="1082" name=""/>
            <p:cNvSpPr/>
            <p:nvPr/>
          </p:nvSpPr>
          <p:spPr>
            <a:xfrm>
              <a:off x="4130640" y="4464000"/>
              <a:ext cx="10800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4613400" y="4464000"/>
              <a:ext cx="10620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378" name=""/>
            <p:cNvCxnSpPr>
              <a:stCxn id="1082" idx="6"/>
              <a:endCxn id="1084" idx="2"/>
            </p:cNvCxnSpPr>
            <p:nvPr/>
          </p:nvCxnSpPr>
          <p:spPr>
            <a:xfrm>
              <a:off x="4238280" y="4511160"/>
              <a:ext cx="3754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379" name=""/>
            <p:cNvCxnSpPr>
              <a:stCxn id="1084" idx="6"/>
              <a:endCxn id="1076" idx="2"/>
            </p:cNvCxnSpPr>
            <p:nvPr/>
          </p:nvCxnSpPr>
          <p:spPr>
            <a:xfrm>
              <a:off x="4719240" y="4511160"/>
              <a:ext cx="3754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121" name=""/>
            <p:cNvSpPr/>
            <p:nvPr/>
          </p:nvSpPr>
          <p:spPr>
            <a:xfrm>
              <a:off x="4130640" y="4033800"/>
              <a:ext cx="108000" cy="95400"/>
            </a:xfrm>
            <a:prstGeom prst="ellipse">
              <a:avLst/>
            </a:prstGeom>
            <a:solidFill>
              <a:srgbClr val="ff0000">
                <a:alpha val="99000"/>
              </a:srgbClr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4613400" y="4033800"/>
              <a:ext cx="10620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4130640" y="3605040"/>
              <a:ext cx="10800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4613400" y="3605040"/>
              <a:ext cx="10620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381" name=""/>
            <p:cNvCxnSpPr>
              <a:stCxn id="1119" idx="6"/>
              <a:endCxn id="1252" idx="2"/>
            </p:cNvCxnSpPr>
            <p:nvPr/>
          </p:nvCxnSpPr>
          <p:spPr>
            <a:xfrm>
              <a:off x="4238280" y="3652560"/>
              <a:ext cx="3754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382" name=""/>
            <p:cNvCxnSpPr>
              <a:stCxn id="1119" idx="4"/>
              <a:endCxn id="1121" idx="0"/>
            </p:cNvCxnSpPr>
            <p:nvPr/>
          </p:nvCxnSpPr>
          <p:spPr>
            <a:xfrm>
              <a:off x="4184280" y="3700440"/>
              <a:ext cx="1080" cy="33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383" name=""/>
            <p:cNvCxnSpPr>
              <a:stCxn id="1121" idx="6"/>
              <a:endCxn id="1380" idx="2"/>
            </p:cNvCxnSpPr>
            <p:nvPr/>
          </p:nvCxnSpPr>
          <p:spPr>
            <a:xfrm>
              <a:off x="4238280" y="4080960"/>
              <a:ext cx="3754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384" name=""/>
            <p:cNvCxnSpPr>
              <a:stCxn id="1252" idx="4"/>
              <a:endCxn id="1380" idx="0"/>
            </p:cNvCxnSpPr>
            <p:nvPr/>
          </p:nvCxnSpPr>
          <p:spPr>
            <a:xfrm>
              <a:off x="4665240" y="3700440"/>
              <a:ext cx="1080" cy="33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385" name=""/>
            <p:cNvCxnSpPr>
              <a:stCxn id="1252" idx="6"/>
              <a:endCxn id="1112" idx="2"/>
            </p:cNvCxnSpPr>
            <p:nvPr/>
          </p:nvCxnSpPr>
          <p:spPr>
            <a:xfrm>
              <a:off x="4719240" y="3652560"/>
              <a:ext cx="3754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386" name=""/>
            <p:cNvCxnSpPr>
              <a:stCxn id="1380" idx="6"/>
              <a:endCxn id="1110" idx="2"/>
            </p:cNvCxnSpPr>
            <p:nvPr/>
          </p:nvCxnSpPr>
          <p:spPr>
            <a:xfrm>
              <a:off x="4719240" y="4080960"/>
              <a:ext cx="3754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387" name=""/>
            <p:cNvCxnSpPr>
              <a:stCxn id="1121" idx="4"/>
              <a:endCxn id="1082" idx="0"/>
            </p:cNvCxnSpPr>
            <p:nvPr/>
          </p:nvCxnSpPr>
          <p:spPr>
            <a:xfrm>
              <a:off x="4184280" y="4129200"/>
              <a:ext cx="1080" cy="335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388" name=""/>
            <p:cNvCxnSpPr>
              <a:stCxn id="1380" idx="4"/>
              <a:endCxn id="1084" idx="0"/>
            </p:cNvCxnSpPr>
            <p:nvPr/>
          </p:nvCxnSpPr>
          <p:spPr>
            <a:xfrm>
              <a:off x="4665240" y="4129200"/>
              <a:ext cx="1080" cy="335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389" name=""/>
            <p:cNvSpPr/>
            <p:nvPr/>
          </p:nvSpPr>
          <p:spPr>
            <a:xfrm flipV="1">
              <a:off x="4238640" y="3795480"/>
              <a:ext cx="0" cy="142920"/>
            </a:xfrm>
            <a:prstGeom prst="line">
              <a:avLst/>
            </a:prstGeom>
            <a:ln w="9360">
              <a:solidFill>
                <a:srgbClr val="9933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0" name=""/>
            <p:cNvSpPr/>
            <p:nvPr/>
          </p:nvSpPr>
          <p:spPr>
            <a:xfrm flipV="1">
              <a:off x="4238640" y="3365640"/>
              <a:ext cx="0" cy="142560"/>
            </a:xfrm>
            <a:prstGeom prst="line">
              <a:avLst/>
            </a:prstGeom>
            <a:ln w="9360">
              <a:solidFill>
                <a:srgbClr val="9933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4238640" y="4226040"/>
              <a:ext cx="0" cy="142920"/>
            </a:xfrm>
            <a:prstGeom prst="line">
              <a:avLst/>
            </a:prstGeom>
            <a:ln w="9360">
              <a:solidFill>
                <a:srgbClr val="9933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4238640" y="4654440"/>
              <a:ext cx="0" cy="142920"/>
            </a:xfrm>
            <a:prstGeom prst="line">
              <a:avLst/>
            </a:prstGeom>
            <a:ln w="9360">
              <a:solidFill>
                <a:srgbClr val="9933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4344840" y="4464000"/>
              <a:ext cx="160560" cy="0"/>
            </a:xfrm>
            <a:prstGeom prst="line">
              <a:avLst/>
            </a:prstGeom>
            <a:ln w="93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4827600" y="4464000"/>
              <a:ext cx="160200" cy="0"/>
            </a:xfrm>
            <a:prstGeom prst="line">
              <a:avLst/>
            </a:prstGeom>
            <a:ln w="93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4226760" y="3738600"/>
              <a:ext cx="83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Ev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6" name=""/>
          <p:cNvSpPr/>
          <p:nvPr/>
        </p:nvSpPr>
        <p:spPr>
          <a:xfrm>
            <a:off x="1469520" y="5702400"/>
            <a:ext cx="87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  <a:ea typeface="Arial"/>
              </a:rPr>
              <a:t>Qu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7" name=""/>
          <p:cNvGrpSpPr/>
          <p:nvPr/>
        </p:nvGrpSpPr>
        <p:grpSpPr>
          <a:xfrm>
            <a:off x="5668200" y="2487240"/>
            <a:ext cx="831600" cy="1432440"/>
            <a:chOff x="5668200" y="2487240"/>
            <a:chExt cx="831600" cy="1432440"/>
          </a:xfrm>
        </p:grpSpPr>
        <p:sp>
          <p:nvSpPr>
            <p:cNvPr id="1398" name=""/>
            <p:cNvSpPr/>
            <p:nvPr/>
          </p:nvSpPr>
          <p:spPr>
            <a:xfrm flipV="1">
              <a:off x="5680440" y="2917440"/>
              <a:ext cx="0" cy="142920"/>
            </a:xfrm>
            <a:prstGeom prst="line">
              <a:avLst/>
            </a:prstGeom>
            <a:ln w="9360">
              <a:solidFill>
                <a:srgbClr val="9933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9" name=""/>
            <p:cNvSpPr/>
            <p:nvPr/>
          </p:nvSpPr>
          <p:spPr>
            <a:xfrm flipV="1">
              <a:off x="5680440" y="2487240"/>
              <a:ext cx="0" cy="142920"/>
            </a:xfrm>
            <a:prstGeom prst="line">
              <a:avLst/>
            </a:prstGeom>
            <a:ln w="9360">
              <a:solidFill>
                <a:srgbClr val="9933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5680440" y="3348000"/>
              <a:ext cx="0" cy="142920"/>
            </a:xfrm>
            <a:prstGeom prst="line">
              <a:avLst/>
            </a:prstGeom>
            <a:ln w="9360">
              <a:solidFill>
                <a:srgbClr val="9933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5680440" y="3776760"/>
              <a:ext cx="0" cy="142920"/>
            </a:xfrm>
            <a:prstGeom prst="line">
              <a:avLst/>
            </a:prstGeom>
            <a:ln w="9360">
              <a:solidFill>
                <a:srgbClr val="9933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5668200" y="2847960"/>
              <a:ext cx="83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Ev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M Sensy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32561-613A-4354-B15E-C394706901EC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4/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Tuning Comb-Needle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4" name="" descr=""/>
          <p:cNvPicPr/>
          <p:nvPr/>
        </p:nvPicPr>
        <p:blipFill>
          <a:blip r:embed="rId1"/>
          <a:stretch/>
        </p:blipFill>
        <p:spPr>
          <a:xfrm>
            <a:off x="1071720" y="1730520"/>
            <a:ext cx="4425840" cy="4573440"/>
          </a:xfrm>
          <a:prstGeom prst="rect">
            <a:avLst/>
          </a:prstGeom>
          <a:ln w="0">
            <a:noFill/>
          </a:ln>
        </p:spPr>
      </p:pic>
      <p:pic>
        <p:nvPicPr>
          <p:cNvPr id="1405" name="" descr=""/>
          <p:cNvPicPr/>
          <p:nvPr/>
        </p:nvPicPr>
        <p:blipFill>
          <a:blip r:embed="rId2"/>
          <a:stretch/>
        </p:blipFill>
        <p:spPr>
          <a:xfrm>
            <a:off x="2549520" y="5345280"/>
            <a:ext cx="5148360" cy="1153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M Sensy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F0281-7465-4C73-B11A-9EBCB2987436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4/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Query Freq. &lt; Event Freq.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7" name="" descr=""/>
          <p:cNvPicPr/>
          <p:nvPr/>
        </p:nvPicPr>
        <p:blipFill>
          <a:blip r:embed="rId1"/>
          <a:stretch/>
        </p:blipFill>
        <p:spPr>
          <a:xfrm>
            <a:off x="2521080" y="1690560"/>
            <a:ext cx="4843440" cy="4764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M Sensy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69DBF-4DD4-49E5-99C5-803ACE2815E4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4/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Query Freq. &lt; Event Freq.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9" name="" descr=""/>
          <p:cNvPicPr/>
          <p:nvPr/>
        </p:nvPicPr>
        <p:blipFill>
          <a:blip r:embed="rId1"/>
          <a:stretch/>
        </p:blipFill>
        <p:spPr>
          <a:xfrm>
            <a:off x="2627280" y="1801800"/>
            <a:ext cx="4313160" cy="4246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M Sensy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37E86-B392-4F8D-890D-691E41D28C91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4/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Reverse Comb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1" name=""/>
          <p:cNvGrpSpPr/>
          <p:nvPr/>
        </p:nvGrpSpPr>
        <p:grpSpPr>
          <a:xfrm>
            <a:off x="1944720" y="1706400"/>
            <a:ext cx="4500000" cy="3962160"/>
            <a:chOff x="1944720" y="1706400"/>
            <a:chExt cx="4500000" cy="3962160"/>
          </a:xfrm>
        </p:grpSpPr>
        <p:sp>
          <p:nvSpPr>
            <p:cNvPr id="1412" name=""/>
            <p:cNvSpPr/>
            <p:nvPr/>
          </p:nvSpPr>
          <p:spPr>
            <a:xfrm>
              <a:off x="2908080" y="4284360"/>
              <a:ext cx="10584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3390480" y="4284360"/>
              <a:ext cx="10620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414" name=""/>
            <p:cNvCxnSpPr>
              <a:stCxn id="1412" idx="6"/>
              <a:endCxn id="1413" idx="2"/>
            </p:cNvCxnSpPr>
            <p:nvPr/>
          </p:nvCxnSpPr>
          <p:spPr>
            <a:xfrm>
              <a:off x="3014280" y="4331520"/>
              <a:ext cx="3765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15" name=""/>
            <p:cNvCxnSpPr>
              <a:stCxn id="1412" idx="4"/>
            </p:cNvCxnSpPr>
            <p:nvPr/>
          </p:nvCxnSpPr>
          <p:spPr>
            <a:xfrm>
              <a:off x="2961720" y="4379760"/>
              <a:ext cx="1080" cy="335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16" name=""/>
            <p:cNvCxnSpPr>
              <a:stCxn id="1413" idx="4"/>
            </p:cNvCxnSpPr>
            <p:nvPr/>
          </p:nvCxnSpPr>
          <p:spPr>
            <a:xfrm>
              <a:off x="3444120" y="4379760"/>
              <a:ext cx="1080" cy="335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417" name=""/>
            <p:cNvSpPr/>
            <p:nvPr/>
          </p:nvSpPr>
          <p:spPr>
            <a:xfrm>
              <a:off x="1944720" y="4284360"/>
              <a:ext cx="10620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2427120" y="4284360"/>
              <a:ext cx="10584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419" name=""/>
            <p:cNvCxnSpPr>
              <a:stCxn id="1417" idx="6"/>
              <a:endCxn id="1418" idx="2"/>
            </p:cNvCxnSpPr>
            <p:nvPr/>
          </p:nvCxnSpPr>
          <p:spPr>
            <a:xfrm>
              <a:off x="2050920" y="4331520"/>
              <a:ext cx="3765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20" name=""/>
            <p:cNvCxnSpPr>
              <a:stCxn id="1418" idx="4"/>
            </p:cNvCxnSpPr>
            <p:nvPr/>
          </p:nvCxnSpPr>
          <p:spPr>
            <a:xfrm>
              <a:off x="2480760" y="4379760"/>
              <a:ext cx="1080" cy="335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21" name=""/>
            <p:cNvCxnSpPr>
              <a:stCxn id="1418" idx="6"/>
              <a:endCxn id="1412" idx="2"/>
            </p:cNvCxnSpPr>
            <p:nvPr/>
          </p:nvCxnSpPr>
          <p:spPr>
            <a:xfrm>
              <a:off x="2533320" y="4331520"/>
              <a:ext cx="375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422" name=""/>
            <p:cNvSpPr/>
            <p:nvPr/>
          </p:nvSpPr>
          <p:spPr>
            <a:xfrm>
              <a:off x="4835160" y="4284360"/>
              <a:ext cx="10764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5317920" y="4284360"/>
              <a:ext cx="10584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424" name=""/>
            <p:cNvCxnSpPr>
              <a:stCxn id="1422" idx="6"/>
              <a:endCxn id="1423" idx="2"/>
            </p:cNvCxnSpPr>
            <p:nvPr/>
          </p:nvCxnSpPr>
          <p:spPr>
            <a:xfrm>
              <a:off x="4943160" y="4331520"/>
              <a:ext cx="375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25" name=""/>
            <p:cNvCxnSpPr>
              <a:stCxn id="1422" idx="4"/>
            </p:cNvCxnSpPr>
            <p:nvPr/>
          </p:nvCxnSpPr>
          <p:spPr>
            <a:xfrm>
              <a:off x="4888800" y="4379760"/>
              <a:ext cx="1080" cy="335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26" name=""/>
            <p:cNvCxnSpPr>
              <a:stCxn id="1423" idx="4"/>
            </p:cNvCxnSpPr>
            <p:nvPr/>
          </p:nvCxnSpPr>
          <p:spPr>
            <a:xfrm>
              <a:off x="5371560" y="4379760"/>
              <a:ext cx="1080" cy="335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427" name=""/>
            <p:cNvSpPr/>
            <p:nvPr/>
          </p:nvSpPr>
          <p:spPr>
            <a:xfrm>
              <a:off x="3871800" y="4284360"/>
              <a:ext cx="10728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4354200" y="4284360"/>
              <a:ext cx="10620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429" name=""/>
            <p:cNvCxnSpPr>
              <a:stCxn id="1427" idx="6"/>
              <a:endCxn id="1428" idx="2"/>
            </p:cNvCxnSpPr>
            <p:nvPr/>
          </p:nvCxnSpPr>
          <p:spPr>
            <a:xfrm>
              <a:off x="3979440" y="4331520"/>
              <a:ext cx="375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30" name=""/>
            <p:cNvCxnSpPr>
              <a:stCxn id="1427" idx="4"/>
            </p:cNvCxnSpPr>
            <p:nvPr/>
          </p:nvCxnSpPr>
          <p:spPr>
            <a:xfrm>
              <a:off x="3925080" y="4379760"/>
              <a:ext cx="1080" cy="335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31" name=""/>
            <p:cNvCxnSpPr>
              <a:stCxn id="1428" idx="4"/>
            </p:cNvCxnSpPr>
            <p:nvPr/>
          </p:nvCxnSpPr>
          <p:spPr>
            <a:xfrm>
              <a:off x="4407840" y="4379760"/>
              <a:ext cx="1080" cy="335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32" name=""/>
            <p:cNvCxnSpPr>
              <a:stCxn id="1428" idx="6"/>
              <a:endCxn id="1422" idx="2"/>
            </p:cNvCxnSpPr>
            <p:nvPr/>
          </p:nvCxnSpPr>
          <p:spPr>
            <a:xfrm>
              <a:off x="4460400" y="4331520"/>
              <a:ext cx="3747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33" name=""/>
            <p:cNvCxnSpPr>
              <a:stCxn id="1413" idx="6"/>
              <a:endCxn id="1427" idx="2"/>
            </p:cNvCxnSpPr>
            <p:nvPr/>
          </p:nvCxnSpPr>
          <p:spPr>
            <a:xfrm>
              <a:off x="3497040" y="4331520"/>
              <a:ext cx="375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434" name=""/>
            <p:cNvSpPr/>
            <p:nvPr/>
          </p:nvSpPr>
          <p:spPr>
            <a:xfrm>
              <a:off x="5852880" y="4284360"/>
              <a:ext cx="10584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6333840" y="4284360"/>
              <a:ext cx="10764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436" name=""/>
            <p:cNvCxnSpPr>
              <a:stCxn id="1434" idx="6"/>
              <a:endCxn id="1435" idx="2"/>
            </p:cNvCxnSpPr>
            <p:nvPr/>
          </p:nvCxnSpPr>
          <p:spPr>
            <a:xfrm>
              <a:off x="5959080" y="4331520"/>
              <a:ext cx="375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37" name=""/>
            <p:cNvCxnSpPr>
              <a:stCxn id="1434" idx="4"/>
            </p:cNvCxnSpPr>
            <p:nvPr/>
          </p:nvCxnSpPr>
          <p:spPr>
            <a:xfrm>
              <a:off x="5906520" y="4379760"/>
              <a:ext cx="1080" cy="335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38" name=""/>
            <p:cNvCxnSpPr>
              <a:stCxn id="1435" idx="4"/>
            </p:cNvCxnSpPr>
            <p:nvPr/>
          </p:nvCxnSpPr>
          <p:spPr>
            <a:xfrm>
              <a:off x="6387480" y="4379760"/>
              <a:ext cx="1080" cy="335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39" name=""/>
            <p:cNvCxnSpPr>
              <a:stCxn id="1423" idx="6"/>
              <a:endCxn id="1434" idx="2"/>
            </p:cNvCxnSpPr>
            <p:nvPr/>
          </p:nvCxnSpPr>
          <p:spPr>
            <a:xfrm>
              <a:off x="5424120" y="4331520"/>
              <a:ext cx="429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440" name=""/>
            <p:cNvSpPr/>
            <p:nvPr/>
          </p:nvSpPr>
          <p:spPr>
            <a:xfrm>
              <a:off x="2908080" y="3854160"/>
              <a:ext cx="10584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3390480" y="3854160"/>
              <a:ext cx="10620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2908080" y="3425400"/>
              <a:ext cx="10584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3390480" y="3425400"/>
              <a:ext cx="10620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444" name=""/>
            <p:cNvCxnSpPr>
              <a:stCxn id="1442" idx="6"/>
              <a:endCxn id="1443" idx="2"/>
            </p:cNvCxnSpPr>
            <p:nvPr/>
          </p:nvCxnSpPr>
          <p:spPr>
            <a:xfrm>
              <a:off x="3014280" y="3472920"/>
              <a:ext cx="3765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45" name=""/>
            <p:cNvCxnSpPr>
              <a:stCxn id="1442" idx="4"/>
              <a:endCxn id="1440" idx="0"/>
            </p:cNvCxnSpPr>
            <p:nvPr/>
          </p:nvCxnSpPr>
          <p:spPr>
            <a:xfrm>
              <a:off x="2961720" y="3520800"/>
              <a:ext cx="1080" cy="33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46" name=""/>
            <p:cNvCxnSpPr>
              <a:stCxn id="1440" idx="6"/>
              <a:endCxn id="1441" idx="2"/>
            </p:cNvCxnSpPr>
            <p:nvPr/>
          </p:nvCxnSpPr>
          <p:spPr>
            <a:xfrm>
              <a:off x="3014280" y="3901320"/>
              <a:ext cx="3765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47" name=""/>
            <p:cNvCxnSpPr>
              <a:stCxn id="1443" idx="4"/>
              <a:endCxn id="1441" idx="0"/>
            </p:cNvCxnSpPr>
            <p:nvPr/>
          </p:nvCxnSpPr>
          <p:spPr>
            <a:xfrm>
              <a:off x="3442680" y="3520800"/>
              <a:ext cx="1080" cy="33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448" name=""/>
            <p:cNvSpPr/>
            <p:nvPr/>
          </p:nvSpPr>
          <p:spPr>
            <a:xfrm>
              <a:off x="1944720" y="3854160"/>
              <a:ext cx="10620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2427120" y="3854160"/>
              <a:ext cx="10584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1944720" y="3425400"/>
              <a:ext cx="10620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2427120" y="3425400"/>
              <a:ext cx="10584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452" name=""/>
            <p:cNvCxnSpPr>
              <a:stCxn id="1450" idx="6"/>
              <a:endCxn id="1451" idx="2"/>
            </p:cNvCxnSpPr>
            <p:nvPr/>
          </p:nvCxnSpPr>
          <p:spPr>
            <a:xfrm>
              <a:off x="2050920" y="3472920"/>
              <a:ext cx="3765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53" name=""/>
            <p:cNvCxnSpPr>
              <a:stCxn id="1448" idx="6"/>
              <a:endCxn id="1449" idx="2"/>
            </p:cNvCxnSpPr>
            <p:nvPr/>
          </p:nvCxnSpPr>
          <p:spPr>
            <a:xfrm>
              <a:off x="2050920" y="3901320"/>
              <a:ext cx="3765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54" name=""/>
            <p:cNvCxnSpPr>
              <a:stCxn id="1451" idx="4"/>
              <a:endCxn id="1449" idx="0"/>
            </p:cNvCxnSpPr>
            <p:nvPr/>
          </p:nvCxnSpPr>
          <p:spPr>
            <a:xfrm>
              <a:off x="2478960" y="3520800"/>
              <a:ext cx="1080" cy="33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55" name=""/>
            <p:cNvCxnSpPr>
              <a:stCxn id="1451" idx="6"/>
              <a:endCxn id="1442" idx="2"/>
            </p:cNvCxnSpPr>
            <p:nvPr/>
          </p:nvCxnSpPr>
          <p:spPr>
            <a:xfrm>
              <a:off x="2533320" y="3472920"/>
              <a:ext cx="375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56" name=""/>
            <p:cNvCxnSpPr>
              <a:stCxn id="1449" idx="6"/>
              <a:endCxn id="1440" idx="2"/>
            </p:cNvCxnSpPr>
            <p:nvPr/>
          </p:nvCxnSpPr>
          <p:spPr>
            <a:xfrm>
              <a:off x="2533320" y="3901320"/>
              <a:ext cx="375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457" name=""/>
            <p:cNvSpPr/>
            <p:nvPr/>
          </p:nvSpPr>
          <p:spPr>
            <a:xfrm>
              <a:off x="4835160" y="3854160"/>
              <a:ext cx="10764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5317920" y="3854160"/>
              <a:ext cx="10584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4835160" y="3425400"/>
              <a:ext cx="10764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5317920" y="3425400"/>
              <a:ext cx="10584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461" name=""/>
            <p:cNvCxnSpPr>
              <a:stCxn id="1459" idx="6"/>
              <a:endCxn id="1460" idx="2"/>
            </p:cNvCxnSpPr>
            <p:nvPr/>
          </p:nvCxnSpPr>
          <p:spPr>
            <a:xfrm>
              <a:off x="4943160" y="3472920"/>
              <a:ext cx="375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62" name=""/>
            <p:cNvCxnSpPr>
              <a:stCxn id="1459" idx="4"/>
              <a:endCxn id="1457" idx="0"/>
            </p:cNvCxnSpPr>
            <p:nvPr/>
          </p:nvCxnSpPr>
          <p:spPr>
            <a:xfrm>
              <a:off x="4888800" y="3520800"/>
              <a:ext cx="1080" cy="33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63" name=""/>
            <p:cNvCxnSpPr>
              <a:stCxn id="1457" idx="6"/>
              <a:endCxn id="1458" idx="2"/>
            </p:cNvCxnSpPr>
            <p:nvPr/>
          </p:nvCxnSpPr>
          <p:spPr>
            <a:xfrm>
              <a:off x="4943160" y="3901320"/>
              <a:ext cx="375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64" name=""/>
            <p:cNvCxnSpPr>
              <a:stCxn id="1460" idx="4"/>
              <a:endCxn id="1458" idx="0"/>
            </p:cNvCxnSpPr>
            <p:nvPr/>
          </p:nvCxnSpPr>
          <p:spPr>
            <a:xfrm>
              <a:off x="5369760" y="3520800"/>
              <a:ext cx="1080" cy="33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465" name=""/>
            <p:cNvSpPr/>
            <p:nvPr/>
          </p:nvSpPr>
          <p:spPr>
            <a:xfrm>
              <a:off x="3871800" y="3854160"/>
              <a:ext cx="107280" cy="95400"/>
            </a:xfrm>
            <a:prstGeom prst="ellipse">
              <a:avLst/>
            </a:prstGeom>
            <a:solidFill>
              <a:srgbClr val="ff0000">
                <a:alpha val="99000"/>
              </a:srgbClr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4354200" y="3854160"/>
              <a:ext cx="10620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3871800" y="3425400"/>
              <a:ext cx="10728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4354200" y="3425400"/>
              <a:ext cx="10620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469" name=""/>
            <p:cNvCxnSpPr>
              <a:stCxn id="1467" idx="6"/>
              <a:endCxn id="1468" idx="2"/>
            </p:cNvCxnSpPr>
            <p:nvPr/>
          </p:nvCxnSpPr>
          <p:spPr>
            <a:xfrm>
              <a:off x="3979440" y="3472920"/>
              <a:ext cx="375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70" name=""/>
            <p:cNvCxnSpPr>
              <a:stCxn id="1467" idx="4"/>
              <a:endCxn id="1465" idx="0"/>
            </p:cNvCxnSpPr>
            <p:nvPr/>
          </p:nvCxnSpPr>
          <p:spPr>
            <a:xfrm>
              <a:off x="3925080" y="3520800"/>
              <a:ext cx="1080" cy="33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71" name=""/>
            <p:cNvCxnSpPr>
              <a:stCxn id="1465" idx="6"/>
              <a:endCxn id="1466" idx="2"/>
            </p:cNvCxnSpPr>
            <p:nvPr/>
          </p:nvCxnSpPr>
          <p:spPr>
            <a:xfrm>
              <a:off x="3979440" y="3901320"/>
              <a:ext cx="375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72" name=""/>
            <p:cNvCxnSpPr>
              <a:stCxn id="1468" idx="4"/>
              <a:endCxn id="1466" idx="0"/>
            </p:cNvCxnSpPr>
            <p:nvPr/>
          </p:nvCxnSpPr>
          <p:spPr>
            <a:xfrm>
              <a:off x="4406400" y="3520800"/>
              <a:ext cx="1080" cy="33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73" name=""/>
            <p:cNvCxnSpPr>
              <a:stCxn id="1468" idx="6"/>
              <a:endCxn id="1459" idx="2"/>
            </p:cNvCxnSpPr>
            <p:nvPr/>
          </p:nvCxnSpPr>
          <p:spPr>
            <a:xfrm>
              <a:off x="4460400" y="3472920"/>
              <a:ext cx="3747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74" name=""/>
            <p:cNvCxnSpPr>
              <a:stCxn id="1466" idx="6"/>
              <a:endCxn id="1457" idx="2"/>
            </p:cNvCxnSpPr>
            <p:nvPr/>
          </p:nvCxnSpPr>
          <p:spPr>
            <a:xfrm>
              <a:off x="4460400" y="3901320"/>
              <a:ext cx="3747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75" name=""/>
            <p:cNvCxnSpPr>
              <a:stCxn id="1443" idx="6"/>
              <a:endCxn id="1467" idx="2"/>
            </p:cNvCxnSpPr>
            <p:nvPr/>
          </p:nvCxnSpPr>
          <p:spPr>
            <a:xfrm>
              <a:off x="3497040" y="3472920"/>
              <a:ext cx="375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76" name=""/>
            <p:cNvCxnSpPr>
              <a:stCxn id="1441" idx="6"/>
              <a:endCxn id="1465" idx="2"/>
            </p:cNvCxnSpPr>
            <p:nvPr/>
          </p:nvCxnSpPr>
          <p:spPr>
            <a:xfrm>
              <a:off x="3497040" y="3901320"/>
              <a:ext cx="375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477" name=""/>
            <p:cNvSpPr/>
            <p:nvPr/>
          </p:nvSpPr>
          <p:spPr>
            <a:xfrm>
              <a:off x="5852880" y="3854160"/>
              <a:ext cx="10584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6333840" y="3854160"/>
              <a:ext cx="10764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5852880" y="3425400"/>
              <a:ext cx="10584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6333840" y="3425400"/>
              <a:ext cx="10764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481" name=""/>
            <p:cNvCxnSpPr>
              <a:stCxn id="1479" idx="6"/>
              <a:endCxn id="1480" idx="2"/>
            </p:cNvCxnSpPr>
            <p:nvPr/>
          </p:nvCxnSpPr>
          <p:spPr>
            <a:xfrm>
              <a:off x="5959080" y="3472920"/>
              <a:ext cx="375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82" name=""/>
            <p:cNvCxnSpPr>
              <a:stCxn id="1479" idx="4"/>
              <a:endCxn id="1477" idx="0"/>
            </p:cNvCxnSpPr>
            <p:nvPr/>
          </p:nvCxnSpPr>
          <p:spPr>
            <a:xfrm>
              <a:off x="5906520" y="3520800"/>
              <a:ext cx="1080" cy="33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83" name=""/>
            <p:cNvCxnSpPr>
              <a:stCxn id="1477" idx="6"/>
              <a:endCxn id="1478" idx="2"/>
            </p:cNvCxnSpPr>
            <p:nvPr/>
          </p:nvCxnSpPr>
          <p:spPr>
            <a:xfrm>
              <a:off x="5959080" y="3901320"/>
              <a:ext cx="375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84" name=""/>
            <p:cNvCxnSpPr>
              <a:stCxn id="1480" idx="4"/>
              <a:endCxn id="1478" idx="0"/>
            </p:cNvCxnSpPr>
            <p:nvPr/>
          </p:nvCxnSpPr>
          <p:spPr>
            <a:xfrm>
              <a:off x="6387480" y="3520800"/>
              <a:ext cx="1080" cy="33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85" name=""/>
            <p:cNvCxnSpPr>
              <a:stCxn id="1460" idx="6"/>
              <a:endCxn id="1479" idx="2"/>
            </p:cNvCxnSpPr>
            <p:nvPr/>
          </p:nvCxnSpPr>
          <p:spPr>
            <a:xfrm>
              <a:off x="5424120" y="3472920"/>
              <a:ext cx="429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86" name=""/>
            <p:cNvCxnSpPr>
              <a:stCxn id="1458" idx="6"/>
              <a:endCxn id="1477" idx="2"/>
            </p:cNvCxnSpPr>
            <p:nvPr/>
          </p:nvCxnSpPr>
          <p:spPr>
            <a:xfrm>
              <a:off x="5424120" y="3901320"/>
              <a:ext cx="429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87" name=""/>
            <p:cNvCxnSpPr>
              <a:stCxn id="1449" idx="4"/>
              <a:endCxn id="1418" idx="0"/>
            </p:cNvCxnSpPr>
            <p:nvPr/>
          </p:nvCxnSpPr>
          <p:spPr>
            <a:xfrm>
              <a:off x="2478960" y="3949560"/>
              <a:ext cx="1080" cy="335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88" name=""/>
            <p:cNvCxnSpPr>
              <a:stCxn id="1440" idx="4"/>
              <a:endCxn id="1412" idx="0"/>
            </p:cNvCxnSpPr>
            <p:nvPr/>
          </p:nvCxnSpPr>
          <p:spPr>
            <a:xfrm>
              <a:off x="2961720" y="3949560"/>
              <a:ext cx="1080" cy="335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89" name=""/>
            <p:cNvCxnSpPr>
              <a:stCxn id="1441" idx="4"/>
              <a:endCxn id="1413" idx="0"/>
            </p:cNvCxnSpPr>
            <p:nvPr/>
          </p:nvCxnSpPr>
          <p:spPr>
            <a:xfrm>
              <a:off x="3442680" y="3949560"/>
              <a:ext cx="1080" cy="335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90" name=""/>
            <p:cNvCxnSpPr>
              <a:stCxn id="1465" idx="4"/>
              <a:endCxn id="1427" idx="0"/>
            </p:cNvCxnSpPr>
            <p:nvPr/>
          </p:nvCxnSpPr>
          <p:spPr>
            <a:xfrm>
              <a:off x="3925080" y="3949560"/>
              <a:ext cx="1080" cy="335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91" name=""/>
            <p:cNvCxnSpPr>
              <a:stCxn id="1466" idx="4"/>
              <a:endCxn id="1428" idx="0"/>
            </p:cNvCxnSpPr>
            <p:nvPr/>
          </p:nvCxnSpPr>
          <p:spPr>
            <a:xfrm>
              <a:off x="4406400" y="3949560"/>
              <a:ext cx="1080" cy="335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92" name=""/>
            <p:cNvCxnSpPr>
              <a:stCxn id="1457" idx="4"/>
              <a:endCxn id="1422" idx="0"/>
            </p:cNvCxnSpPr>
            <p:nvPr/>
          </p:nvCxnSpPr>
          <p:spPr>
            <a:xfrm>
              <a:off x="4888800" y="3949560"/>
              <a:ext cx="1080" cy="335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93" name=""/>
            <p:cNvCxnSpPr>
              <a:stCxn id="1458" idx="4"/>
              <a:endCxn id="1423" idx="0"/>
            </p:cNvCxnSpPr>
            <p:nvPr/>
          </p:nvCxnSpPr>
          <p:spPr>
            <a:xfrm>
              <a:off x="5369760" y="3949560"/>
              <a:ext cx="1080" cy="335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94" name=""/>
            <p:cNvCxnSpPr>
              <a:stCxn id="1477" idx="4"/>
              <a:endCxn id="1434" idx="0"/>
            </p:cNvCxnSpPr>
            <p:nvPr/>
          </p:nvCxnSpPr>
          <p:spPr>
            <a:xfrm>
              <a:off x="5906520" y="3949560"/>
              <a:ext cx="1080" cy="335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95" name=""/>
            <p:cNvCxnSpPr>
              <a:stCxn id="1478" idx="4"/>
              <a:endCxn id="1435" idx="0"/>
            </p:cNvCxnSpPr>
            <p:nvPr/>
          </p:nvCxnSpPr>
          <p:spPr>
            <a:xfrm>
              <a:off x="6387480" y="3949560"/>
              <a:ext cx="1080" cy="335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496" name=""/>
            <p:cNvSpPr/>
            <p:nvPr/>
          </p:nvSpPr>
          <p:spPr>
            <a:xfrm>
              <a:off x="2908080" y="2995200"/>
              <a:ext cx="10584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3390480" y="2995200"/>
              <a:ext cx="10620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2908080" y="2565000"/>
              <a:ext cx="10584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3390480" y="2565000"/>
              <a:ext cx="10620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500" name=""/>
            <p:cNvCxnSpPr>
              <a:stCxn id="1498" idx="6"/>
              <a:endCxn id="1499" idx="2"/>
            </p:cNvCxnSpPr>
            <p:nvPr/>
          </p:nvCxnSpPr>
          <p:spPr>
            <a:xfrm>
              <a:off x="3014280" y="2612520"/>
              <a:ext cx="3765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01" name=""/>
            <p:cNvCxnSpPr>
              <a:stCxn id="1498" idx="4"/>
              <a:endCxn id="1496" idx="0"/>
            </p:cNvCxnSpPr>
            <p:nvPr/>
          </p:nvCxnSpPr>
          <p:spPr>
            <a:xfrm>
              <a:off x="2961720" y="2660400"/>
              <a:ext cx="1080" cy="335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02" name=""/>
            <p:cNvCxnSpPr>
              <a:stCxn id="1496" idx="6"/>
              <a:endCxn id="1497" idx="2"/>
            </p:cNvCxnSpPr>
            <p:nvPr/>
          </p:nvCxnSpPr>
          <p:spPr>
            <a:xfrm>
              <a:off x="3014280" y="3042720"/>
              <a:ext cx="3765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03" name=""/>
            <p:cNvCxnSpPr>
              <a:stCxn id="1499" idx="4"/>
              <a:endCxn id="1497" idx="0"/>
            </p:cNvCxnSpPr>
            <p:nvPr/>
          </p:nvCxnSpPr>
          <p:spPr>
            <a:xfrm>
              <a:off x="3442680" y="2660400"/>
              <a:ext cx="1080" cy="335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504" name=""/>
            <p:cNvSpPr/>
            <p:nvPr/>
          </p:nvSpPr>
          <p:spPr>
            <a:xfrm>
              <a:off x="1944720" y="2995200"/>
              <a:ext cx="10620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2427120" y="2995200"/>
              <a:ext cx="10584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1944720" y="2565000"/>
              <a:ext cx="10620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2427120" y="2565000"/>
              <a:ext cx="10584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508" name=""/>
            <p:cNvCxnSpPr>
              <a:stCxn id="1506" idx="6"/>
              <a:endCxn id="1507" idx="2"/>
            </p:cNvCxnSpPr>
            <p:nvPr/>
          </p:nvCxnSpPr>
          <p:spPr>
            <a:xfrm>
              <a:off x="2050920" y="2612520"/>
              <a:ext cx="3765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09" name=""/>
            <p:cNvCxnSpPr>
              <a:stCxn id="1504" idx="6"/>
              <a:endCxn id="1505" idx="2"/>
            </p:cNvCxnSpPr>
            <p:nvPr/>
          </p:nvCxnSpPr>
          <p:spPr>
            <a:xfrm>
              <a:off x="2050920" y="3042720"/>
              <a:ext cx="3765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10" name=""/>
            <p:cNvCxnSpPr>
              <a:stCxn id="1507" idx="4"/>
              <a:endCxn id="1505" idx="0"/>
            </p:cNvCxnSpPr>
            <p:nvPr/>
          </p:nvCxnSpPr>
          <p:spPr>
            <a:xfrm>
              <a:off x="2478960" y="2660400"/>
              <a:ext cx="1080" cy="335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11" name=""/>
            <p:cNvCxnSpPr>
              <a:stCxn id="1507" idx="6"/>
              <a:endCxn id="1498" idx="2"/>
            </p:cNvCxnSpPr>
            <p:nvPr/>
          </p:nvCxnSpPr>
          <p:spPr>
            <a:xfrm>
              <a:off x="2533320" y="2612520"/>
              <a:ext cx="375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12" name=""/>
            <p:cNvCxnSpPr>
              <a:stCxn id="1505" idx="6"/>
              <a:endCxn id="1496" idx="2"/>
            </p:cNvCxnSpPr>
            <p:nvPr/>
          </p:nvCxnSpPr>
          <p:spPr>
            <a:xfrm>
              <a:off x="2533320" y="3042720"/>
              <a:ext cx="375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513" name=""/>
            <p:cNvSpPr/>
            <p:nvPr/>
          </p:nvSpPr>
          <p:spPr>
            <a:xfrm>
              <a:off x="4835160" y="2995200"/>
              <a:ext cx="10764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5317920" y="2995200"/>
              <a:ext cx="10584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4835160" y="2565000"/>
              <a:ext cx="107640" cy="9540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5317920" y="2565000"/>
              <a:ext cx="10584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517" name=""/>
            <p:cNvCxnSpPr>
              <a:stCxn id="1515" idx="6"/>
              <a:endCxn id="1516" idx="2"/>
            </p:cNvCxnSpPr>
            <p:nvPr/>
          </p:nvCxnSpPr>
          <p:spPr>
            <a:xfrm>
              <a:off x="4943160" y="2612520"/>
              <a:ext cx="375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18" name=""/>
            <p:cNvCxnSpPr>
              <a:stCxn id="1515" idx="4"/>
              <a:endCxn id="1513" idx="0"/>
            </p:cNvCxnSpPr>
            <p:nvPr/>
          </p:nvCxnSpPr>
          <p:spPr>
            <a:xfrm>
              <a:off x="4888800" y="2660400"/>
              <a:ext cx="1080" cy="335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19" name=""/>
            <p:cNvCxnSpPr>
              <a:stCxn id="1513" idx="6"/>
              <a:endCxn id="1514" idx="2"/>
            </p:cNvCxnSpPr>
            <p:nvPr/>
          </p:nvCxnSpPr>
          <p:spPr>
            <a:xfrm>
              <a:off x="4943160" y="3042720"/>
              <a:ext cx="375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20" name=""/>
            <p:cNvCxnSpPr>
              <a:stCxn id="1516" idx="4"/>
              <a:endCxn id="1514" idx="0"/>
            </p:cNvCxnSpPr>
            <p:nvPr/>
          </p:nvCxnSpPr>
          <p:spPr>
            <a:xfrm>
              <a:off x="5369760" y="2660400"/>
              <a:ext cx="1080" cy="335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521" name=""/>
            <p:cNvSpPr/>
            <p:nvPr/>
          </p:nvSpPr>
          <p:spPr>
            <a:xfrm>
              <a:off x="3871800" y="2995200"/>
              <a:ext cx="10728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4354200" y="2995200"/>
              <a:ext cx="10620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3871800" y="2565000"/>
              <a:ext cx="10728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4354200" y="2565000"/>
              <a:ext cx="10620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525" name=""/>
            <p:cNvCxnSpPr>
              <a:stCxn id="1523" idx="6"/>
              <a:endCxn id="1524" idx="2"/>
            </p:cNvCxnSpPr>
            <p:nvPr/>
          </p:nvCxnSpPr>
          <p:spPr>
            <a:xfrm>
              <a:off x="3979440" y="2612520"/>
              <a:ext cx="375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26" name=""/>
            <p:cNvCxnSpPr>
              <a:stCxn id="1523" idx="4"/>
              <a:endCxn id="1521" idx="0"/>
            </p:cNvCxnSpPr>
            <p:nvPr/>
          </p:nvCxnSpPr>
          <p:spPr>
            <a:xfrm>
              <a:off x="3925080" y="2660400"/>
              <a:ext cx="1080" cy="335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27" name=""/>
            <p:cNvCxnSpPr>
              <a:stCxn id="1521" idx="6"/>
              <a:endCxn id="1522" idx="2"/>
            </p:cNvCxnSpPr>
            <p:nvPr/>
          </p:nvCxnSpPr>
          <p:spPr>
            <a:xfrm>
              <a:off x="3979440" y="3042720"/>
              <a:ext cx="375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28" name=""/>
            <p:cNvCxnSpPr>
              <a:stCxn id="1524" idx="4"/>
              <a:endCxn id="1522" idx="0"/>
            </p:cNvCxnSpPr>
            <p:nvPr/>
          </p:nvCxnSpPr>
          <p:spPr>
            <a:xfrm>
              <a:off x="4406400" y="2660400"/>
              <a:ext cx="1080" cy="335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29" name=""/>
            <p:cNvCxnSpPr>
              <a:stCxn id="1524" idx="6"/>
              <a:endCxn id="1515" idx="2"/>
            </p:cNvCxnSpPr>
            <p:nvPr/>
          </p:nvCxnSpPr>
          <p:spPr>
            <a:xfrm>
              <a:off x="4460400" y="2612520"/>
              <a:ext cx="3747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30" name=""/>
            <p:cNvCxnSpPr>
              <a:stCxn id="1522" idx="6"/>
              <a:endCxn id="1513" idx="2"/>
            </p:cNvCxnSpPr>
            <p:nvPr/>
          </p:nvCxnSpPr>
          <p:spPr>
            <a:xfrm>
              <a:off x="4460400" y="3042720"/>
              <a:ext cx="3747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31" name=""/>
            <p:cNvCxnSpPr>
              <a:stCxn id="1499" idx="6"/>
              <a:endCxn id="1523" idx="2"/>
            </p:cNvCxnSpPr>
            <p:nvPr/>
          </p:nvCxnSpPr>
          <p:spPr>
            <a:xfrm>
              <a:off x="3497040" y="2612520"/>
              <a:ext cx="375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32" name=""/>
            <p:cNvCxnSpPr>
              <a:stCxn id="1497" idx="6"/>
              <a:endCxn id="1521" idx="2"/>
            </p:cNvCxnSpPr>
            <p:nvPr/>
          </p:nvCxnSpPr>
          <p:spPr>
            <a:xfrm>
              <a:off x="3497040" y="3042720"/>
              <a:ext cx="375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533" name=""/>
            <p:cNvSpPr/>
            <p:nvPr/>
          </p:nvSpPr>
          <p:spPr>
            <a:xfrm>
              <a:off x="5852880" y="2995200"/>
              <a:ext cx="10584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6333840" y="2995200"/>
              <a:ext cx="10764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5852880" y="2565000"/>
              <a:ext cx="10584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6333840" y="2565000"/>
              <a:ext cx="10764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537" name=""/>
            <p:cNvCxnSpPr>
              <a:stCxn id="1535" idx="6"/>
              <a:endCxn id="1536" idx="2"/>
            </p:cNvCxnSpPr>
            <p:nvPr/>
          </p:nvCxnSpPr>
          <p:spPr>
            <a:xfrm>
              <a:off x="5959080" y="2612520"/>
              <a:ext cx="375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38" name=""/>
            <p:cNvCxnSpPr>
              <a:stCxn id="1535" idx="4"/>
              <a:endCxn id="1533" idx="0"/>
            </p:cNvCxnSpPr>
            <p:nvPr/>
          </p:nvCxnSpPr>
          <p:spPr>
            <a:xfrm>
              <a:off x="5906520" y="2660400"/>
              <a:ext cx="1080" cy="335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39" name=""/>
            <p:cNvCxnSpPr>
              <a:stCxn id="1533" idx="6"/>
              <a:endCxn id="1534" idx="2"/>
            </p:cNvCxnSpPr>
            <p:nvPr/>
          </p:nvCxnSpPr>
          <p:spPr>
            <a:xfrm>
              <a:off x="5959080" y="3042720"/>
              <a:ext cx="375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40" name=""/>
            <p:cNvCxnSpPr>
              <a:stCxn id="1536" idx="4"/>
              <a:endCxn id="1534" idx="0"/>
            </p:cNvCxnSpPr>
            <p:nvPr/>
          </p:nvCxnSpPr>
          <p:spPr>
            <a:xfrm>
              <a:off x="6387480" y="2660400"/>
              <a:ext cx="1080" cy="335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41" name=""/>
            <p:cNvCxnSpPr>
              <a:stCxn id="1516" idx="6"/>
              <a:endCxn id="1535" idx="2"/>
            </p:cNvCxnSpPr>
            <p:nvPr/>
          </p:nvCxnSpPr>
          <p:spPr>
            <a:xfrm>
              <a:off x="5424120" y="2612520"/>
              <a:ext cx="429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42" name=""/>
            <p:cNvCxnSpPr>
              <a:stCxn id="1514" idx="6"/>
              <a:endCxn id="1533" idx="2"/>
            </p:cNvCxnSpPr>
            <p:nvPr/>
          </p:nvCxnSpPr>
          <p:spPr>
            <a:xfrm>
              <a:off x="5424120" y="3042720"/>
              <a:ext cx="429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543" name=""/>
            <p:cNvSpPr/>
            <p:nvPr/>
          </p:nvSpPr>
          <p:spPr>
            <a:xfrm>
              <a:off x="2908080" y="2136600"/>
              <a:ext cx="105840" cy="95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3390480" y="2136600"/>
              <a:ext cx="106200" cy="95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2908080" y="1706400"/>
              <a:ext cx="105840" cy="95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3390480" y="1706400"/>
              <a:ext cx="106200" cy="95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547" name=""/>
            <p:cNvCxnSpPr>
              <a:stCxn id="1545" idx="6"/>
              <a:endCxn id="1546" idx="2"/>
            </p:cNvCxnSpPr>
            <p:nvPr/>
          </p:nvCxnSpPr>
          <p:spPr>
            <a:xfrm>
              <a:off x="3014280" y="1753560"/>
              <a:ext cx="376560" cy="1080"/>
            </a:xfrm>
            <a:prstGeom prst="straightConnector1">
              <a:avLst/>
            </a:prstGeom>
            <a:ln w="9360">
              <a:solidFill>
                <a:srgbClr val="0000cc"/>
              </a:solidFill>
              <a:miter/>
            </a:ln>
          </p:spPr>
        </p:cxnSp>
        <p:cxnSp>
          <p:nvCxnSpPr>
            <p:cNvPr id="1548" name=""/>
            <p:cNvCxnSpPr>
              <a:stCxn id="1545" idx="4"/>
              <a:endCxn id="1543" idx="0"/>
            </p:cNvCxnSpPr>
            <p:nvPr/>
          </p:nvCxnSpPr>
          <p:spPr>
            <a:xfrm>
              <a:off x="2961720" y="1801080"/>
              <a:ext cx="1080" cy="335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49" name=""/>
            <p:cNvCxnSpPr>
              <a:stCxn id="1543" idx="6"/>
              <a:endCxn id="1544" idx="2"/>
            </p:cNvCxnSpPr>
            <p:nvPr/>
          </p:nvCxnSpPr>
          <p:spPr>
            <a:xfrm>
              <a:off x="3014280" y="2183760"/>
              <a:ext cx="3765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50" name=""/>
            <p:cNvCxnSpPr>
              <a:stCxn id="1546" idx="4"/>
              <a:endCxn id="1544" idx="0"/>
            </p:cNvCxnSpPr>
            <p:nvPr/>
          </p:nvCxnSpPr>
          <p:spPr>
            <a:xfrm>
              <a:off x="3442680" y="1801080"/>
              <a:ext cx="1080" cy="335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551" name=""/>
            <p:cNvSpPr/>
            <p:nvPr/>
          </p:nvSpPr>
          <p:spPr>
            <a:xfrm>
              <a:off x="1944720" y="2136600"/>
              <a:ext cx="106200" cy="95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2427120" y="2136600"/>
              <a:ext cx="105840" cy="95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1944720" y="1706400"/>
              <a:ext cx="106200" cy="95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2427120" y="1706400"/>
              <a:ext cx="105840" cy="95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555" name=""/>
            <p:cNvCxnSpPr>
              <a:stCxn id="1553" idx="6"/>
              <a:endCxn id="1554" idx="2"/>
            </p:cNvCxnSpPr>
            <p:nvPr/>
          </p:nvCxnSpPr>
          <p:spPr>
            <a:xfrm>
              <a:off x="2050920" y="1753560"/>
              <a:ext cx="3765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56" name=""/>
            <p:cNvCxnSpPr>
              <a:stCxn id="1551" idx="6"/>
              <a:endCxn id="1552" idx="2"/>
            </p:cNvCxnSpPr>
            <p:nvPr/>
          </p:nvCxnSpPr>
          <p:spPr>
            <a:xfrm>
              <a:off x="2050920" y="2183760"/>
              <a:ext cx="3765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57" name=""/>
            <p:cNvCxnSpPr>
              <a:stCxn id="1554" idx="4"/>
              <a:endCxn id="1552" idx="0"/>
            </p:cNvCxnSpPr>
            <p:nvPr/>
          </p:nvCxnSpPr>
          <p:spPr>
            <a:xfrm>
              <a:off x="2478960" y="1801080"/>
              <a:ext cx="1080" cy="335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58" name=""/>
            <p:cNvCxnSpPr>
              <a:stCxn id="1554" idx="6"/>
              <a:endCxn id="1545" idx="2"/>
            </p:cNvCxnSpPr>
            <p:nvPr/>
          </p:nvCxnSpPr>
          <p:spPr>
            <a:xfrm>
              <a:off x="2533320" y="1753560"/>
              <a:ext cx="375120" cy="1080"/>
            </a:xfrm>
            <a:prstGeom prst="straightConnector1">
              <a:avLst/>
            </a:prstGeom>
            <a:ln w="9360">
              <a:solidFill>
                <a:srgbClr val="0000cc"/>
              </a:solidFill>
              <a:miter/>
            </a:ln>
          </p:spPr>
        </p:cxnSp>
        <p:cxnSp>
          <p:nvCxnSpPr>
            <p:cNvPr id="1559" name=""/>
            <p:cNvCxnSpPr>
              <a:stCxn id="1552" idx="6"/>
              <a:endCxn id="1543" idx="2"/>
            </p:cNvCxnSpPr>
            <p:nvPr/>
          </p:nvCxnSpPr>
          <p:spPr>
            <a:xfrm>
              <a:off x="2533320" y="2183760"/>
              <a:ext cx="375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560" name=""/>
            <p:cNvSpPr/>
            <p:nvPr/>
          </p:nvSpPr>
          <p:spPr>
            <a:xfrm>
              <a:off x="4835160" y="2136600"/>
              <a:ext cx="107640" cy="95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5317920" y="2136600"/>
              <a:ext cx="105840" cy="95040"/>
            </a:xfrm>
            <a:prstGeom prst="ellipse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4835160" y="1706400"/>
              <a:ext cx="107640" cy="95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5317920" y="1706400"/>
              <a:ext cx="105840" cy="95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564" name=""/>
            <p:cNvCxnSpPr>
              <a:stCxn id="1562" idx="6"/>
              <a:endCxn id="1563" idx="2"/>
            </p:cNvCxnSpPr>
            <p:nvPr/>
          </p:nvCxnSpPr>
          <p:spPr>
            <a:xfrm>
              <a:off x="4943160" y="1753560"/>
              <a:ext cx="375120" cy="1080"/>
            </a:xfrm>
            <a:prstGeom prst="straightConnector1">
              <a:avLst/>
            </a:prstGeom>
            <a:ln w="9360">
              <a:solidFill>
                <a:srgbClr val="0000cc"/>
              </a:solidFill>
              <a:miter/>
            </a:ln>
          </p:spPr>
        </p:cxnSp>
        <p:cxnSp>
          <p:nvCxnSpPr>
            <p:cNvPr id="1565" name=""/>
            <p:cNvCxnSpPr>
              <a:stCxn id="1562" idx="4"/>
              <a:endCxn id="1560" idx="0"/>
            </p:cNvCxnSpPr>
            <p:nvPr/>
          </p:nvCxnSpPr>
          <p:spPr>
            <a:xfrm>
              <a:off x="4888800" y="1801080"/>
              <a:ext cx="1080" cy="335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66" name=""/>
            <p:cNvCxnSpPr>
              <a:stCxn id="1560" idx="6"/>
              <a:endCxn id="1561" idx="2"/>
            </p:cNvCxnSpPr>
            <p:nvPr/>
          </p:nvCxnSpPr>
          <p:spPr>
            <a:xfrm>
              <a:off x="4943160" y="2183760"/>
              <a:ext cx="375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67" name=""/>
            <p:cNvCxnSpPr>
              <a:stCxn id="1563" idx="4"/>
              <a:endCxn id="1561" idx="0"/>
            </p:cNvCxnSpPr>
            <p:nvPr/>
          </p:nvCxnSpPr>
          <p:spPr>
            <a:xfrm>
              <a:off x="5369760" y="1801080"/>
              <a:ext cx="1080" cy="335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568" name=""/>
            <p:cNvSpPr/>
            <p:nvPr/>
          </p:nvSpPr>
          <p:spPr>
            <a:xfrm>
              <a:off x="3871800" y="2136600"/>
              <a:ext cx="107280" cy="95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4354200" y="2136600"/>
              <a:ext cx="106200" cy="95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3871800" y="1706400"/>
              <a:ext cx="107280" cy="95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4354200" y="1706400"/>
              <a:ext cx="106200" cy="95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572" name=""/>
            <p:cNvCxnSpPr>
              <a:stCxn id="1570" idx="6"/>
              <a:endCxn id="1571" idx="2"/>
            </p:cNvCxnSpPr>
            <p:nvPr/>
          </p:nvCxnSpPr>
          <p:spPr>
            <a:xfrm>
              <a:off x="3979440" y="1753560"/>
              <a:ext cx="375120" cy="1080"/>
            </a:xfrm>
            <a:prstGeom prst="straightConnector1">
              <a:avLst/>
            </a:prstGeom>
            <a:ln w="9360">
              <a:solidFill>
                <a:srgbClr val="0000cc"/>
              </a:solidFill>
              <a:miter/>
            </a:ln>
          </p:spPr>
        </p:cxnSp>
        <p:cxnSp>
          <p:nvCxnSpPr>
            <p:cNvPr id="1573" name=""/>
            <p:cNvCxnSpPr>
              <a:stCxn id="1570" idx="4"/>
              <a:endCxn id="1568" idx="0"/>
            </p:cNvCxnSpPr>
            <p:nvPr/>
          </p:nvCxnSpPr>
          <p:spPr>
            <a:xfrm>
              <a:off x="3925080" y="1801080"/>
              <a:ext cx="1080" cy="335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74" name=""/>
            <p:cNvCxnSpPr>
              <a:stCxn id="1568" idx="6"/>
              <a:endCxn id="1569" idx="2"/>
            </p:cNvCxnSpPr>
            <p:nvPr/>
          </p:nvCxnSpPr>
          <p:spPr>
            <a:xfrm>
              <a:off x="3979440" y="2183760"/>
              <a:ext cx="375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75" name=""/>
            <p:cNvCxnSpPr>
              <a:stCxn id="1571" idx="4"/>
              <a:endCxn id="1569" idx="0"/>
            </p:cNvCxnSpPr>
            <p:nvPr/>
          </p:nvCxnSpPr>
          <p:spPr>
            <a:xfrm>
              <a:off x="4407840" y="1801080"/>
              <a:ext cx="1080" cy="335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76" name=""/>
            <p:cNvCxnSpPr>
              <a:stCxn id="1571" idx="6"/>
              <a:endCxn id="1562" idx="2"/>
            </p:cNvCxnSpPr>
            <p:nvPr/>
          </p:nvCxnSpPr>
          <p:spPr>
            <a:xfrm>
              <a:off x="4460400" y="1753560"/>
              <a:ext cx="374760" cy="1080"/>
            </a:xfrm>
            <a:prstGeom prst="straightConnector1">
              <a:avLst/>
            </a:prstGeom>
            <a:ln w="9360">
              <a:solidFill>
                <a:srgbClr val="0000cc"/>
              </a:solidFill>
              <a:miter/>
            </a:ln>
          </p:spPr>
        </p:cxnSp>
        <p:cxnSp>
          <p:nvCxnSpPr>
            <p:cNvPr id="1577" name=""/>
            <p:cNvCxnSpPr>
              <a:stCxn id="1569" idx="6"/>
              <a:endCxn id="1560" idx="2"/>
            </p:cNvCxnSpPr>
            <p:nvPr/>
          </p:nvCxnSpPr>
          <p:spPr>
            <a:xfrm>
              <a:off x="4460400" y="2183760"/>
              <a:ext cx="3747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78" name=""/>
            <p:cNvCxnSpPr>
              <a:stCxn id="1546" idx="6"/>
              <a:endCxn id="1570" idx="2"/>
            </p:cNvCxnSpPr>
            <p:nvPr/>
          </p:nvCxnSpPr>
          <p:spPr>
            <a:xfrm>
              <a:off x="3497040" y="1753560"/>
              <a:ext cx="375120" cy="1080"/>
            </a:xfrm>
            <a:prstGeom prst="straightConnector1">
              <a:avLst/>
            </a:prstGeom>
            <a:ln w="9360">
              <a:solidFill>
                <a:srgbClr val="0000cc"/>
              </a:solidFill>
              <a:miter/>
            </a:ln>
          </p:spPr>
        </p:cxnSp>
        <p:cxnSp>
          <p:nvCxnSpPr>
            <p:cNvPr id="1579" name=""/>
            <p:cNvCxnSpPr>
              <a:stCxn id="1544" idx="6"/>
              <a:endCxn id="1568" idx="2"/>
            </p:cNvCxnSpPr>
            <p:nvPr/>
          </p:nvCxnSpPr>
          <p:spPr>
            <a:xfrm>
              <a:off x="3497040" y="2183760"/>
              <a:ext cx="375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580" name=""/>
            <p:cNvSpPr/>
            <p:nvPr/>
          </p:nvSpPr>
          <p:spPr>
            <a:xfrm>
              <a:off x="5852880" y="2136600"/>
              <a:ext cx="105840" cy="95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6333840" y="2136600"/>
              <a:ext cx="107640" cy="95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5852880" y="1706400"/>
              <a:ext cx="105840" cy="95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6333840" y="1706400"/>
              <a:ext cx="107640" cy="95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584" name=""/>
            <p:cNvCxnSpPr>
              <a:stCxn id="1582" idx="6"/>
              <a:endCxn id="1583" idx="2"/>
            </p:cNvCxnSpPr>
            <p:nvPr/>
          </p:nvCxnSpPr>
          <p:spPr>
            <a:xfrm>
              <a:off x="5959080" y="1753560"/>
              <a:ext cx="375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85" name=""/>
            <p:cNvCxnSpPr>
              <a:stCxn id="1582" idx="4"/>
              <a:endCxn id="1580" idx="0"/>
            </p:cNvCxnSpPr>
            <p:nvPr/>
          </p:nvCxnSpPr>
          <p:spPr>
            <a:xfrm>
              <a:off x="5906520" y="1801080"/>
              <a:ext cx="1080" cy="335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86" name=""/>
            <p:cNvCxnSpPr>
              <a:stCxn id="1580" idx="6"/>
              <a:endCxn id="1581" idx="2"/>
            </p:cNvCxnSpPr>
            <p:nvPr/>
          </p:nvCxnSpPr>
          <p:spPr>
            <a:xfrm>
              <a:off x="5959080" y="2183760"/>
              <a:ext cx="375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87" name=""/>
            <p:cNvCxnSpPr>
              <a:stCxn id="1583" idx="4"/>
              <a:endCxn id="1581" idx="0"/>
            </p:cNvCxnSpPr>
            <p:nvPr/>
          </p:nvCxnSpPr>
          <p:spPr>
            <a:xfrm>
              <a:off x="6387480" y="1801080"/>
              <a:ext cx="1080" cy="335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88" name=""/>
            <p:cNvCxnSpPr>
              <a:stCxn id="1563" idx="6"/>
              <a:endCxn id="1582" idx="2"/>
            </p:cNvCxnSpPr>
            <p:nvPr/>
          </p:nvCxnSpPr>
          <p:spPr>
            <a:xfrm>
              <a:off x="5424120" y="1753560"/>
              <a:ext cx="429120" cy="1080"/>
            </a:xfrm>
            <a:prstGeom prst="straightConnector1">
              <a:avLst/>
            </a:prstGeom>
            <a:ln w="9360">
              <a:solidFill>
                <a:srgbClr val="0000cc"/>
              </a:solidFill>
              <a:miter/>
            </a:ln>
          </p:spPr>
        </p:cxnSp>
        <p:cxnSp>
          <p:nvCxnSpPr>
            <p:cNvPr id="1589" name=""/>
            <p:cNvCxnSpPr>
              <a:stCxn id="1561" idx="6"/>
              <a:endCxn id="1580" idx="2"/>
            </p:cNvCxnSpPr>
            <p:nvPr/>
          </p:nvCxnSpPr>
          <p:spPr>
            <a:xfrm>
              <a:off x="5424120" y="2183760"/>
              <a:ext cx="429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90" name=""/>
            <p:cNvCxnSpPr>
              <a:stCxn id="1552" idx="4"/>
              <a:endCxn id="1507" idx="0"/>
            </p:cNvCxnSpPr>
            <p:nvPr/>
          </p:nvCxnSpPr>
          <p:spPr>
            <a:xfrm>
              <a:off x="2478960" y="2231640"/>
              <a:ext cx="1080" cy="33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91" name=""/>
            <p:cNvCxnSpPr>
              <a:stCxn id="1543" idx="4"/>
              <a:endCxn id="1498" idx="0"/>
            </p:cNvCxnSpPr>
            <p:nvPr/>
          </p:nvCxnSpPr>
          <p:spPr>
            <a:xfrm>
              <a:off x="2961720" y="2231640"/>
              <a:ext cx="1080" cy="33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92" name=""/>
            <p:cNvCxnSpPr>
              <a:stCxn id="1544" idx="4"/>
              <a:endCxn id="1499" idx="0"/>
            </p:cNvCxnSpPr>
            <p:nvPr/>
          </p:nvCxnSpPr>
          <p:spPr>
            <a:xfrm>
              <a:off x="3442680" y="2231640"/>
              <a:ext cx="1080" cy="33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93" name=""/>
            <p:cNvCxnSpPr>
              <a:stCxn id="1568" idx="4"/>
              <a:endCxn id="1523" idx="0"/>
            </p:cNvCxnSpPr>
            <p:nvPr/>
          </p:nvCxnSpPr>
          <p:spPr>
            <a:xfrm>
              <a:off x="3925080" y="2231640"/>
              <a:ext cx="1080" cy="33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94" name=""/>
            <p:cNvCxnSpPr>
              <a:stCxn id="1569" idx="4"/>
              <a:endCxn id="1524" idx="0"/>
            </p:cNvCxnSpPr>
            <p:nvPr/>
          </p:nvCxnSpPr>
          <p:spPr>
            <a:xfrm>
              <a:off x="4406400" y="2231640"/>
              <a:ext cx="1080" cy="33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95" name=""/>
            <p:cNvCxnSpPr>
              <a:stCxn id="1560" idx="4"/>
              <a:endCxn id="1515" idx="0"/>
            </p:cNvCxnSpPr>
            <p:nvPr/>
          </p:nvCxnSpPr>
          <p:spPr>
            <a:xfrm>
              <a:off x="4888800" y="2231640"/>
              <a:ext cx="1080" cy="33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96" name=""/>
            <p:cNvCxnSpPr>
              <a:stCxn id="1561" idx="4"/>
              <a:endCxn id="1516" idx="0"/>
            </p:cNvCxnSpPr>
            <p:nvPr/>
          </p:nvCxnSpPr>
          <p:spPr>
            <a:xfrm>
              <a:off x="5369760" y="2231640"/>
              <a:ext cx="1080" cy="33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97" name=""/>
            <p:cNvCxnSpPr>
              <a:stCxn id="1580" idx="4"/>
              <a:endCxn id="1535" idx="0"/>
            </p:cNvCxnSpPr>
            <p:nvPr/>
          </p:nvCxnSpPr>
          <p:spPr>
            <a:xfrm>
              <a:off x="5906520" y="2231640"/>
              <a:ext cx="1080" cy="33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98" name=""/>
            <p:cNvCxnSpPr>
              <a:stCxn id="1581" idx="4"/>
              <a:endCxn id="1536" idx="0"/>
            </p:cNvCxnSpPr>
            <p:nvPr/>
          </p:nvCxnSpPr>
          <p:spPr>
            <a:xfrm>
              <a:off x="6387480" y="2231640"/>
              <a:ext cx="1080" cy="33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99" name=""/>
            <p:cNvCxnSpPr>
              <a:stCxn id="1505" idx="4"/>
              <a:endCxn id="1451" idx="0"/>
            </p:cNvCxnSpPr>
            <p:nvPr/>
          </p:nvCxnSpPr>
          <p:spPr>
            <a:xfrm>
              <a:off x="2478960" y="3090600"/>
              <a:ext cx="1080" cy="335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00" name=""/>
            <p:cNvCxnSpPr>
              <a:stCxn id="1496" idx="4"/>
              <a:endCxn id="1442" idx="0"/>
            </p:cNvCxnSpPr>
            <p:nvPr/>
          </p:nvCxnSpPr>
          <p:spPr>
            <a:xfrm>
              <a:off x="2961720" y="3090600"/>
              <a:ext cx="1080" cy="335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01" name=""/>
            <p:cNvCxnSpPr>
              <a:stCxn id="1497" idx="4"/>
              <a:endCxn id="1443" idx="0"/>
            </p:cNvCxnSpPr>
            <p:nvPr/>
          </p:nvCxnSpPr>
          <p:spPr>
            <a:xfrm>
              <a:off x="3442680" y="3090600"/>
              <a:ext cx="1080" cy="335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02" name=""/>
            <p:cNvCxnSpPr>
              <a:stCxn id="1521" idx="4"/>
              <a:endCxn id="1467" idx="0"/>
            </p:cNvCxnSpPr>
            <p:nvPr/>
          </p:nvCxnSpPr>
          <p:spPr>
            <a:xfrm>
              <a:off x="3925080" y="3090600"/>
              <a:ext cx="1080" cy="335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03" name=""/>
            <p:cNvCxnSpPr>
              <a:stCxn id="1522" idx="4"/>
              <a:endCxn id="1468" idx="0"/>
            </p:cNvCxnSpPr>
            <p:nvPr/>
          </p:nvCxnSpPr>
          <p:spPr>
            <a:xfrm>
              <a:off x="4406400" y="3090600"/>
              <a:ext cx="1080" cy="335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04" name=""/>
            <p:cNvCxnSpPr>
              <a:stCxn id="1513" idx="4"/>
              <a:endCxn id="1459" idx="0"/>
            </p:cNvCxnSpPr>
            <p:nvPr/>
          </p:nvCxnSpPr>
          <p:spPr>
            <a:xfrm>
              <a:off x="4888800" y="3090600"/>
              <a:ext cx="1080" cy="335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05" name=""/>
            <p:cNvCxnSpPr>
              <a:stCxn id="1514" idx="4"/>
              <a:endCxn id="1460" idx="0"/>
            </p:cNvCxnSpPr>
            <p:nvPr/>
          </p:nvCxnSpPr>
          <p:spPr>
            <a:xfrm>
              <a:off x="5369760" y="3090600"/>
              <a:ext cx="1080" cy="335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06" name=""/>
            <p:cNvCxnSpPr>
              <a:stCxn id="1533" idx="4"/>
              <a:endCxn id="1479" idx="0"/>
            </p:cNvCxnSpPr>
            <p:nvPr/>
          </p:nvCxnSpPr>
          <p:spPr>
            <a:xfrm>
              <a:off x="5906520" y="3090600"/>
              <a:ext cx="1080" cy="335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07" name=""/>
            <p:cNvCxnSpPr>
              <a:stCxn id="1534" idx="4"/>
              <a:endCxn id="1480" idx="0"/>
            </p:cNvCxnSpPr>
            <p:nvPr/>
          </p:nvCxnSpPr>
          <p:spPr>
            <a:xfrm>
              <a:off x="6387480" y="3090600"/>
              <a:ext cx="1080" cy="335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608" name=""/>
            <p:cNvSpPr/>
            <p:nvPr/>
          </p:nvSpPr>
          <p:spPr>
            <a:xfrm>
              <a:off x="2911320" y="5573520"/>
              <a:ext cx="107640" cy="95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3393720" y="5573520"/>
              <a:ext cx="106200" cy="95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10" name=""/>
            <p:cNvCxnSpPr>
              <a:stCxn id="1608" idx="6"/>
              <a:endCxn id="1609" idx="2"/>
            </p:cNvCxnSpPr>
            <p:nvPr/>
          </p:nvCxnSpPr>
          <p:spPr>
            <a:xfrm>
              <a:off x="3018960" y="5620680"/>
              <a:ext cx="3747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611" name=""/>
            <p:cNvSpPr/>
            <p:nvPr/>
          </p:nvSpPr>
          <p:spPr>
            <a:xfrm>
              <a:off x="1947600" y="5573520"/>
              <a:ext cx="107640" cy="95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2430360" y="5573520"/>
              <a:ext cx="105840" cy="95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13" name=""/>
            <p:cNvCxnSpPr>
              <a:stCxn id="1611" idx="6"/>
              <a:endCxn id="1612" idx="2"/>
            </p:cNvCxnSpPr>
            <p:nvPr/>
          </p:nvCxnSpPr>
          <p:spPr>
            <a:xfrm>
              <a:off x="2055600" y="5620680"/>
              <a:ext cx="375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14" name=""/>
            <p:cNvCxnSpPr>
              <a:stCxn id="1612" idx="6"/>
              <a:endCxn id="1608" idx="2"/>
            </p:cNvCxnSpPr>
            <p:nvPr/>
          </p:nvCxnSpPr>
          <p:spPr>
            <a:xfrm>
              <a:off x="2536560" y="5620680"/>
              <a:ext cx="375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615" name=""/>
            <p:cNvSpPr/>
            <p:nvPr/>
          </p:nvSpPr>
          <p:spPr>
            <a:xfrm>
              <a:off x="4838400" y="5573520"/>
              <a:ext cx="107640" cy="95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5321160" y="5573520"/>
              <a:ext cx="105840" cy="95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17" name=""/>
            <p:cNvCxnSpPr>
              <a:stCxn id="1615" idx="6"/>
              <a:endCxn id="1616" idx="2"/>
            </p:cNvCxnSpPr>
            <p:nvPr/>
          </p:nvCxnSpPr>
          <p:spPr>
            <a:xfrm>
              <a:off x="4946400" y="5620680"/>
              <a:ext cx="375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618" name=""/>
            <p:cNvSpPr/>
            <p:nvPr/>
          </p:nvSpPr>
          <p:spPr>
            <a:xfrm>
              <a:off x="3874680" y="5573520"/>
              <a:ext cx="107640" cy="95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4357440" y="5573520"/>
              <a:ext cx="105840" cy="95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20" name=""/>
            <p:cNvCxnSpPr>
              <a:stCxn id="1618" idx="6"/>
              <a:endCxn id="1619" idx="2"/>
            </p:cNvCxnSpPr>
            <p:nvPr/>
          </p:nvCxnSpPr>
          <p:spPr>
            <a:xfrm>
              <a:off x="3982680" y="5620680"/>
              <a:ext cx="375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21" name=""/>
            <p:cNvCxnSpPr>
              <a:stCxn id="1619" idx="6"/>
              <a:endCxn id="1615" idx="2"/>
            </p:cNvCxnSpPr>
            <p:nvPr/>
          </p:nvCxnSpPr>
          <p:spPr>
            <a:xfrm>
              <a:off x="4463640" y="5620680"/>
              <a:ext cx="375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22" name=""/>
            <p:cNvCxnSpPr>
              <a:stCxn id="1609" idx="6"/>
              <a:endCxn id="1618" idx="2"/>
            </p:cNvCxnSpPr>
            <p:nvPr/>
          </p:nvCxnSpPr>
          <p:spPr>
            <a:xfrm>
              <a:off x="3499920" y="5620680"/>
              <a:ext cx="3747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623" name=""/>
            <p:cNvSpPr/>
            <p:nvPr/>
          </p:nvSpPr>
          <p:spPr>
            <a:xfrm>
              <a:off x="5856120" y="5573520"/>
              <a:ext cx="105840" cy="95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6338520" y="5573520"/>
              <a:ext cx="106200" cy="95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25" name=""/>
            <p:cNvCxnSpPr>
              <a:stCxn id="1623" idx="6"/>
              <a:endCxn id="1624" idx="2"/>
            </p:cNvCxnSpPr>
            <p:nvPr/>
          </p:nvCxnSpPr>
          <p:spPr>
            <a:xfrm>
              <a:off x="5962320" y="5620680"/>
              <a:ext cx="3765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26" name=""/>
            <p:cNvCxnSpPr>
              <a:stCxn id="1616" idx="6"/>
              <a:endCxn id="1623" idx="2"/>
            </p:cNvCxnSpPr>
            <p:nvPr/>
          </p:nvCxnSpPr>
          <p:spPr>
            <a:xfrm>
              <a:off x="5427360" y="5620680"/>
              <a:ext cx="429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627" name=""/>
            <p:cNvSpPr/>
            <p:nvPr/>
          </p:nvSpPr>
          <p:spPr>
            <a:xfrm>
              <a:off x="2911320" y="5143320"/>
              <a:ext cx="107640" cy="95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3393720" y="5143320"/>
              <a:ext cx="106200" cy="95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2911320" y="4714560"/>
              <a:ext cx="10764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3393720" y="4714560"/>
              <a:ext cx="10620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31" name=""/>
            <p:cNvCxnSpPr>
              <a:stCxn id="1629" idx="6"/>
              <a:endCxn id="1630" idx="2"/>
            </p:cNvCxnSpPr>
            <p:nvPr/>
          </p:nvCxnSpPr>
          <p:spPr>
            <a:xfrm>
              <a:off x="3018960" y="4761720"/>
              <a:ext cx="3747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32" name=""/>
            <p:cNvCxnSpPr>
              <a:stCxn id="1629" idx="4"/>
              <a:endCxn id="1627" idx="0"/>
            </p:cNvCxnSpPr>
            <p:nvPr/>
          </p:nvCxnSpPr>
          <p:spPr>
            <a:xfrm>
              <a:off x="2964960" y="4809960"/>
              <a:ext cx="1080" cy="33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33" name=""/>
            <p:cNvCxnSpPr>
              <a:stCxn id="1627" idx="6"/>
              <a:endCxn id="1628" idx="2"/>
            </p:cNvCxnSpPr>
            <p:nvPr/>
          </p:nvCxnSpPr>
          <p:spPr>
            <a:xfrm>
              <a:off x="3018960" y="5190480"/>
              <a:ext cx="3747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34" name=""/>
            <p:cNvCxnSpPr>
              <a:stCxn id="1630" idx="4"/>
              <a:endCxn id="1628" idx="0"/>
            </p:cNvCxnSpPr>
            <p:nvPr/>
          </p:nvCxnSpPr>
          <p:spPr>
            <a:xfrm>
              <a:off x="3445920" y="4809960"/>
              <a:ext cx="1080" cy="33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635" name=""/>
            <p:cNvSpPr/>
            <p:nvPr/>
          </p:nvSpPr>
          <p:spPr>
            <a:xfrm>
              <a:off x="1947600" y="5143320"/>
              <a:ext cx="107640" cy="95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2430360" y="5143320"/>
              <a:ext cx="105840" cy="95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1947600" y="4714560"/>
              <a:ext cx="10764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2430360" y="4714560"/>
              <a:ext cx="10584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39" name=""/>
            <p:cNvCxnSpPr>
              <a:stCxn id="1637" idx="6"/>
              <a:endCxn id="1638" idx="2"/>
            </p:cNvCxnSpPr>
            <p:nvPr/>
          </p:nvCxnSpPr>
          <p:spPr>
            <a:xfrm>
              <a:off x="2055600" y="4761720"/>
              <a:ext cx="375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40" name=""/>
            <p:cNvCxnSpPr>
              <a:stCxn id="1635" idx="6"/>
              <a:endCxn id="1636" idx="2"/>
            </p:cNvCxnSpPr>
            <p:nvPr/>
          </p:nvCxnSpPr>
          <p:spPr>
            <a:xfrm>
              <a:off x="2055600" y="5190480"/>
              <a:ext cx="375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41" name=""/>
            <p:cNvCxnSpPr>
              <a:stCxn id="1638" idx="4"/>
              <a:endCxn id="1636" idx="0"/>
            </p:cNvCxnSpPr>
            <p:nvPr/>
          </p:nvCxnSpPr>
          <p:spPr>
            <a:xfrm>
              <a:off x="2482200" y="4809960"/>
              <a:ext cx="1080" cy="33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42" name=""/>
            <p:cNvCxnSpPr>
              <a:stCxn id="1638" idx="6"/>
              <a:endCxn id="1629" idx="2"/>
            </p:cNvCxnSpPr>
            <p:nvPr/>
          </p:nvCxnSpPr>
          <p:spPr>
            <a:xfrm>
              <a:off x="2536560" y="4761720"/>
              <a:ext cx="375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43" name=""/>
            <p:cNvCxnSpPr>
              <a:stCxn id="1636" idx="6"/>
              <a:endCxn id="1627" idx="2"/>
            </p:cNvCxnSpPr>
            <p:nvPr/>
          </p:nvCxnSpPr>
          <p:spPr>
            <a:xfrm>
              <a:off x="2536560" y="5190480"/>
              <a:ext cx="375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644" name=""/>
            <p:cNvSpPr/>
            <p:nvPr/>
          </p:nvSpPr>
          <p:spPr>
            <a:xfrm>
              <a:off x="4838400" y="5143320"/>
              <a:ext cx="107640" cy="95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5321160" y="5143320"/>
              <a:ext cx="105840" cy="95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4838400" y="4714560"/>
              <a:ext cx="10764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5321160" y="4714560"/>
              <a:ext cx="10584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48" name=""/>
            <p:cNvCxnSpPr>
              <a:stCxn id="1646" idx="6"/>
              <a:endCxn id="1647" idx="2"/>
            </p:cNvCxnSpPr>
            <p:nvPr/>
          </p:nvCxnSpPr>
          <p:spPr>
            <a:xfrm>
              <a:off x="4946400" y="4761720"/>
              <a:ext cx="375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49" name=""/>
            <p:cNvCxnSpPr>
              <a:stCxn id="1646" idx="4"/>
              <a:endCxn id="1644" idx="0"/>
            </p:cNvCxnSpPr>
            <p:nvPr/>
          </p:nvCxnSpPr>
          <p:spPr>
            <a:xfrm>
              <a:off x="4892040" y="4809960"/>
              <a:ext cx="1080" cy="33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50" name=""/>
            <p:cNvCxnSpPr>
              <a:stCxn id="1644" idx="6"/>
              <a:endCxn id="1645" idx="2"/>
            </p:cNvCxnSpPr>
            <p:nvPr/>
          </p:nvCxnSpPr>
          <p:spPr>
            <a:xfrm>
              <a:off x="4946400" y="5190480"/>
              <a:ext cx="375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51" name=""/>
            <p:cNvCxnSpPr>
              <a:stCxn id="1647" idx="4"/>
              <a:endCxn id="1645" idx="0"/>
            </p:cNvCxnSpPr>
            <p:nvPr/>
          </p:nvCxnSpPr>
          <p:spPr>
            <a:xfrm>
              <a:off x="5374800" y="4809960"/>
              <a:ext cx="1080" cy="33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652" name=""/>
            <p:cNvSpPr/>
            <p:nvPr/>
          </p:nvSpPr>
          <p:spPr>
            <a:xfrm>
              <a:off x="3874680" y="5143320"/>
              <a:ext cx="107640" cy="95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4357440" y="5143320"/>
              <a:ext cx="105840" cy="95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3874680" y="4714560"/>
              <a:ext cx="10764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4357440" y="4714560"/>
              <a:ext cx="10584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56" name=""/>
            <p:cNvCxnSpPr>
              <a:stCxn id="1654" idx="6"/>
              <a:endCxn id="1655" idx="2"/>
            </p:cNvCxnSpPr>
            <p:nvPr/>
          </p:nvCxnSpPr>
          <p:spPr>
            <a:xfrm>
              <a:off x="3982680" y="4761720"/>
              <a:ext cx="375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57" name=""/>
            <p:cNvCxnSpPr>
              <a:stCxn id="1654" idx="4"/>
              <a:endCxn id="1652" idx="0"/>
            </p:cNvCxnSpPr>
            <p:nvPr/>
          </p:nvCxnSpPr>
          <p:spPr>
            <a:xfrm>
              <a:off x="3928320" y="4809960"/>
              <a:ext cx="1080" cy="33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58" name=""/>
            <p:cNvCxnSpPr>
              <a:stCxn id="1652" idx="6"/>
              <a:endCxn id="1653" idx="2"/>
            </p:cNvCxnSpPr>
            <p:nvPr/>
          </p:nvCxnSpPr>
          <p:spPr>
            <a:xfrm>
              <a:off x="3982680" y="5190480"/>
              <a:ext cx="375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59" name=""/>
            <p:cNvCxnSpPr>
              <a:stCxn id="1655" idx="4"/>
              <a:endCxn id="1653" idx="0"/>
            </p:cNvCxnSpPr>
            <p:nvPr/>
          </p:nvCxnSpPr>
          <p:spPr>
            <a:xfrm>
              <a:off x="4409280" y="4809960"/>
              <a:ext cx="1080" cy="33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60" name=""/>
            <p:cNvCxnSpPr>
              <a:stCxn id="1655" idx="6"/>
              <a:endCxn id="1646" idx="2"/>
            </p:cNvCxnSpPr>
            <p:nvPr/>
          </p:nvCxnSpPr>
          <p:spPr>
            <a:xfrm>
              <a:off x="4463640" y="4761720"/>
              <a:ext cx="375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61" name=""/>
            <p:cNvCxnSpPr>
              <a:stCxn id="1653" idx="6"/>
              <a:endCxn id="1644" idx="2"/>
            </p:cNvCxnSpPr>
            <p:nvPr/>
          </p:nvCxnSpPr>
          <p:spPr>
            <a:xfrm>
              <a:off x="4463640" y="5190480"/>
              <a:ext cx="375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62" name=""/>
            <p:cNvCxnSpPr>
              <a:stCxn id="1630" idx="6"/>
              <a:endCxn id="1654" idx="2"/>
            </p:cNvCxnSpPr>
            <p:nvPr/>
          </p:nvCxnSpPr>
          <p:spPr>
            <a:xfrm>
              <a:off x="3499920" y="4761720"/>
              <a:ext cx="3747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63" name=""/>
            <p:cNvCxnSpPr>
              <a:stCxn id="1628" idx="6"/>
              <a:endCxn id="1652" idx="2"/>
            </p:cNvCxnSpPr>
            <p:nvPr/>
          </p:nvCxnSpPr>
          <p:spPr>
            <a:xfrm>
              <a:off x="3499920" y="5190480"/>
              <a:ext cx="3747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664" name=""/>
            <p:cNvSpPr/>
            <p:nvPr/>
          </p:nvSpPr>
          <p:spPr>
            <a:xfrm>
              <a:off x="5856120" y="5143320"/>
              <a:ext cx="105840" cy="95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6338520" y="5143320"/>
              <a:ext cx="106200" cy="95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5856120" y="4714560"/>
              <a:ext cx="10584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6338520" y="4714560"/>
              <a:ext cx="10620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68" name=""/>
            <p:cNvCxnSpPr>
              <a:stCxn id="1666" idx="6"/>
              <a:endCxn id="1667" idx="2"/>
            </p:cNvCxnSpPr>
            <p:nvPr/>
          </p:nvCxnSpPr>
          <p:spPr>
            <a:xfrm>
              <a:off x="5962320" y="4761720"/>
              <a:ext cx="3765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69" name=""/>
            <p:cNvCxnSpPr>
              <a:stCxn id="1666" idx="4"/>
              <a:endCxn id="1664" idx="0"/>
            </p:cNvCxnSpPr>
            <p:nvPr/>
          </p:nvCxnSpPr>
          <p:spPr>
            <a:xfrm>
              <a:off x="5909760" y="4809960"/>
              <a:ext cx="1080" cy="33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70" name=""/>
            <p:cNvCxnSpPr>
              <a:stCxn id="1664" idx="6"/>
              <a:endCxn id="1665" idx="2"/>
            </p:cNvCxnSpPr>
            <p:nvPr/>
          </p:nvCxnSpPr>
          <p:spPr>
            <a:xfrm>
              <a:off x="5962320" y="5190480"/>
              <a:ext cx="3765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71" name=""/>
            <p:cNvCxnSpPr>
              <a:stCxn id="1667" idx="4"/>
              <a:endCxn id="1665" idx="0"/>
            </p:cNvCxnSpPr>
            <p:nvPr/>
          </p:nvCxnSpPr>
          <p:spPr>
            <a:xfrm>
              <a:off x="6390720" y="4809960"/>
              <a:ext cx="1080" cy="33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72" name=""/>
            <p:cNvCxnSpPr>
              <a:stCxn id="1647" idx="6"/>
              <a:endCxn id="1666" idx="2"/>
            </p:cNvCxnSpPr>
            <p:nvPr/>
          </p:nvCxnSpPr>
          <p:spPr>
            <a:xfrm>
              <a:off x="5427360" y="4761720"/>
              <a:ext cx="429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73" name=""/>
            <p:cNvCxnSpPr>
              <a:stCxn id="1645" idx="6"/>
              <a:endCxn id="1664" idx="2"/>
            </p:cNvCxnSpPr>
            <p:nvPr/>
          </p:nvCxnSpPr>
          <p:spPr>
            <a:xfrm>
              <a:off x="5427360" y="5190480"/>
              <a:ext cx="429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74" name=""/>
            <p:cNvCxnSpPr>
              <a:stCxn id="1635" idx="4"/>
              <a:endCxn id="1611" idx="0"/>
            </p:cNvCxnSpPr>
            <p:nvPr/>
          </p:nvCxnSpPr>
          <p:spPr>
            <a:xfrm>
              <a:off x="2001240" y="5238000"/>
              <a:ext cx="1080" cy="335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75" name=""/>
            <p:cNvCxnSpPr>
              <a:stCxn id="1636" idx="4"/>
              <a:endCxn id="1612" idx="0"/>
            </p:cNvCxnSpPr>
            <p:nvPr/>
          </p:nvCxnSpPr>
          <p:spPr>
            <a:xfrm>
              <a:off x="2482200" y="5238000"/>
              <a:ext cx="1080" cy="335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76" name=""/>
            <p:cNvCxnSpPr>
              <a:stCxn id="1627" idx="4"/>
              <a:endCxn id="1608" idx="0"/>
            </p:cNvCxnSpPr>
            <p:nvPr/>
          </p:nvCxnSpPr>
          <p:spPr>
            <a:xfrm>
              <a:off x="2964960" y="5238000"/>
              <a:ext cx="1080" cy="335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77" name=""/>
            <p:cNvCxnSpPr>
              <a:stCxn id="1628" idx="4"/>
              <a:endCxn id="1609" idx="0"/>
            </p:cNvCxnSpPr>
            <p:nvPr/>
          </p:nvCxnSpPr>
          <p:spPr>
            <a:xfrm>
              <a:off x="3445920" y="5238000"/>
              <a:ext cx="1080" cy="335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78" name=""/>
            <p:cNvCxnSpPr>
              <a:stCxn id="1652" idx="4"/>
              <a:endCxn id="1618" idx="0"/>
            </p:cNvCxnSpPr>
            <p:nvPr/>
          </p:nvCxnSpPr>
          <p:spPr>
            <a:xfrm>
              <a:off x="3928320" y="5238000"/>
              <a:ext cx="1080" cy="335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79" name=""/>
            <p:cNvCxnSpPr>
              <a:stCxn id="1653" idx="4"/>
              <a:endCxn id="1619" idx="0"/>
            </p:cNvCxnSpPr>
            <p:nvPr/>
          </p:nvCxnSpPr>
          <p:spPr>
            <a:xfrm>
              <a:off x="4409280" y="5238000"/>
              <a:ext cx="1080" cy="335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80" name=""/>
            <p:cNvCxnSpPr>
              <a:stCxn id="1644" idx="4"/>
              <a:endCxn id="1615" idx="0"/>
            </p:cNvCxnSpPr>
            <p:nvPr/>
          </p:nvCxnSpPr>
          <p:spPr>
            <a:xfrm>
              <a:off x="4892040" y="5238000"/>
              <a:ext cx="1080" cy="335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81" name=""/>
            <p:cNvCxnSpPr>
              <a:stCxn id="1645" idx="4"/>
              <a:endCxn id="1616" idx="0"/>
            </p:cNvCxnSpPr>
            <p:nvPr/>
          </p:nvCxnSpPr>
          <p:spPr>
            <a:xfrm>
              <a:off x="5374800" y="5238000"/>
              <a:ext cx="1080" cy="335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82" name=""/>
            <p:cNvCxnSpPr>
              <a:stCxn id="1664" idx="4"/>
              <a:endCxn id="1623" idx="0"/>
            </p:cNvCxnSpPr>
            <p:nvPr/>
          </p:nvCxnSpPr>
          <p:spPr>
            <a:xfrm>
              <a:off x="5909760" y="5238000"/>
              <a:ext cx="1080" cy="335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83" name=""/>
            <p:cNvCxnSpPr>
              <a:stCxn id="1665" idx="4"/>
              <a:endCxn id="1624" idx="0"/>
            </p:cNvCxnSpPr>
            <p:nvPr/>
          </p:nvCxnSpPr>
          <p:spPr>
            <a:xfrm>
              <a:off x="6390720" y="5238000"/>
              <a:ext cx="1080" cy="335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84" name=""/>
            <p:cNvCxnSpPr/>
            <p:nvPr/>
          </p:nvCxnSpPr>
          <p:spPr>
            <a:xfrm>
              <a:off x="1998000" y="4379760"/>
              <a:ext cx="1080" cy="335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85" name=""/>
            <p:cNvCxnSpPr/>
            <p:nvPr/>
          </p:nvCxnSpPr>
          <p:spPr>
            <a:xfrm>
              <a:off x="1998000" y="3520800"/>
              <a:ext cx="1080" cy="33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86" name=""/>
            <p:cNvCxnSpPr/>
            <p:nvPr/>
          </p:nvCxnSpPr>
          <p:spPr>
            <a:xfrm>
              <a:off x="1998000" y="3949560"/>
              <a:ext cx="1080" cy="335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87" name=""/>
            <p:cNvCxnSpPr/>
            <p:nvPr/>
          </p:nvCxnSpPr>
          <p:spPr>
            <a:xfrm>
              <a:off x="1998000" y="2660400"/>
              <a:ext cx="1080" cy="335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88" name=""/>
            <p:cNvCxnSpPr/>
            <p:nvPr/>
          </p:nvCxnSpPr>
          <p:spPr>
            <a:xfrm>
              <a:off x="1998000" y="1801080"/>
              <a:ext cx="1080" cy="335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89" name=""/>
            <p:cNvCxnSpPr/>
            <p:nvPr/>
          </p:nvCxnSpPr>
          <p:spPr>
            <a:xfrm>
              <a:off x="1998000" y="2231640"/>
              <a:ext cx="1080" cy="33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90" name=""/>
            <p:cNvCxnSpPr/>
            <p:nvPr/>
          </p:nvCxnSpPr>
          <p:spPr>
            <a:xfrm>
              <a:off x="1998000" y="3090600"/>
              <a:ext cx="1080" cy="335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91" name=""/>
            <p:cNvCxnSpPr/>
            <p:nvPr/>
          </p:nvCxnSpPr>
          <p:spPr>
            <a:xfrm>
              <a:off x="2001240" y="4809960"/>
              <a:ext cx="1080" cy="33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grpSp>
          <p:nvGrpSpPr>
            <p:cNvPr id="1692" name=""/>
            <p:cNvGrpSpPr/>
            <p:nvPr/>
          </p:nvGrpSpPr>
          <p:grpSpPr>
            <a:xfrm>
              <a:off x="4001760" y="1858320"/>
              <a:ext cx="0" cy="3629160"/>
              <a:chOff x="4001760" y="1858320"/>
              <a:chExt cx="0" cy="3629160"/>
            </a:xfrm>
          </p:grpSpPr>
          <p:sp>
            <p:nvSpPr>
              <p:cNvPr id="1693" name=""/>
              <p:cNvSpPr/>
              <p:nvPr/>
            </p:nvSpPr>
            <p:spPr>
              <a:xfrm>
                <a:off x="4001760" y="4055760"/>
                <a:ext cx="0" cy="1429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4" name=""/>
              <p:cNvSpPr/>
              <p:nvPr/>
            </p:nvSpPr>
            <p:spPr>
              <a:xfrm flipV="1">
                <a:off x="4001760" y="3625200"/>
                <a:ext cx="0" cy="1429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5" name=""/>
              <p:cNvSpPr/>
              <p:nvPr/>
            </p:nvSpPr>
            <p:spPr>
              <a:xfrm flipV="1">
                <a:off x="4001760" y="3195360"/>
                <a:ext cx="0" cy="1425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6" name=""/>
              <p:cNvSpPr/>
              <p:nvPr/>
            </p:nvSpPr>
            <p:spPr>
              <a:xfrm flipV="1">
                <a:off x="4001760" y="2766240"/>
                <a:ext cx="0" cy="1429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7" name=""/>
              <p:cNvSpPr/>
              <p:nvPr/>
            </p:nvSpPr>
            <p:spPr>
              <a:xfrm flipV="1">
                <a:off x="4001760" y="2336040"/>
                <a:ext cx="0" cy="1429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8" name=""/>
              <p:cNvSpPr/>
              <p:nvPr/>
            </p:nvSpPr>
            <p:spPr>
              <a:xfrm flipV="1">
                <a:off x="4001760" y="1858320"/>
                <a:ext cx="0" cy="1429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9" name=""/>
              <p:cNvSpPr/>
              <p:nvPr/>
            </p:nvSpPr>
            <p:spPr>
              <a:xfrm>
                <a:off x="4001760" y="5343120"/>
                <a:ext cx="0" cy="1443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0" name=""/>
              <p:cNvSpPr/>
              <p:nvPr/>
            </p:nvSpPr>
            <p:spPr>
              <a:xfrm>
                <a:off x="4001760" y="4914360"/>
                <a:ext cx="0" cy="1429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1" name=""/>
              <p:cNvSpPr/>
              <p:nvPr/>
            </p:nvSpPr>
            <p:spPr>
              <a:xfrm>
                <a:off x="4001760" y="4484160"/>
                <a:ext cx="0" cy="1429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02" name=""/>
            <p:cNvGrpSpPr/>
            <p:nvPr/>
          </p:nvGrpSpPr>
          <p:grpSpPr>
            <a:xfrm>
              <a:off x="2158200" y="2101680"/>
              <a:ext cx="4039920" cy="0"/>
              <a:chOff x="2158200" y="2101680"/>
              <a:chExt cx="4039920" cy="0"/>
            </a:xfrm>
          </p:grpSpPr>
          <p:sp>
            <p:nvSpPr>
              <p:cNvPr id="1703" name=""/>
              <p:cNvSpPr/>
              <p:nvPr/>
            </p:nvSpPr>
            <p:spPr>
              <a:xfrm flipH="1">
                <a:off x="3594960" y="2101680"/>
                <a:ext cx="15840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4" name=""/>
              <p:cNvSpPr/>
              <p:nvPr/>
            </p:nvSpPr>
            <p:spPr>
              <a:xfrm>
                <a:off x="4072680" y="2101680"/>
                <a:ext cx="15840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5" name=""/>
              <p:cNvSpPr/>
              <p:nvPr/>
            </p:nvSpPr>
            <p:spPr>
              <a:xfrm>
                <a:off x="4552200" y="2101680"/>
                <a:ext cx="15840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6" name=""/>
              <p:cNvSpPr/>
              <p:nvPr/>
            </p:nvSpPr>
            <p:spPr>
              <a:xfrm>
                <a:off x="5028480" y="2101680"/>
                <a:ext cx="15840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7" name=""/>
              <p:cNvSpPr/>
              <p:nvPr/>
            </p:nvSpPr>
            <p:spPr>
              <a:xfrm>
                <a:off x="5508000" y="2101680"/>
                <a:ext cx="15840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8" name=""/>
              <p:cNvSpPr/>
              <p:nvPr/>
            </p:nvSpPr>
            <p:spPr>
              <a:xfrm>
                <a:off x="6039720" y="2101680"/>
                <a:ext cx="15840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9" name=""/>
              <p:cNvSpPr/>
              <p:nvPr/>
            </p:nvSpPr>
            <p:spPr>
              <a:xfrm flipH="1">
                <a:off x="2158200" y="2101680"/>
                <a:ext cx="16020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0" name=""/>
              <p:cNvSpPr/>
              <p:nvPr/>
            </p:nvSpPr>
            <p:spPr>
              <a:xfrm flipH="1">
                <a:off x="2639160" y="2101680"/>
                <a:ext cx="15840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1" name=""/>
              <p:cNvSpPr/>
              <p:nvPr/>
            </p:nvSpPr>
            <p:spPr>
              <a:xfrm flipH="1">
                <a:off x="3117240" y="2101680"/>
                <a:ext cx="15840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12" name=""/>
            <p:cNvGrpSpPr/>
            <p:nvPr/>
          </p:nvGrpSpPr>
          <p:grpSpPr>
            <a:xfrm>
              <a:off x="4938480" y="1858320"/>
              <a:ext cx="0" cy="1479960"/>
              <a:chOff x="4938480" y="1858320"/>
              <a:chExt cx="0" cy="1479960"/>
            </a:xfrm>
          </p:grpSpPr>
          <p:sp>
            <p:nvSpPr>
              <p:cNvPr id="1713" name=""/>
              <p:cNvSpPr/>
              <p:nvPr/>
            </p:nvSpPr>
            <p:spPr>
              <a:xfrm>
                <a:off x="4938480" y="3195360"/>
                <a:ext cx="0" cy="142920"/>
              </a:xfrm>
              <a:prstGeom prst="line">
                <a:avLst/>
              </a:prstGeom>
              <a:ln w="9360">
                <a:solidFill>
                  <a:srgbClr val="0000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4" name=""/>
              <p:cNvSpPr/>
              <p:nvPr/>
            </p:nvSpPr>
            <p:spPr>
              <a:xfrm>
                <a:off x="4938480" y="2766600"/>
                <a:ext cx="0" cy="142920"/>
              </a:xfrm>
              <a:prstGeom prst="line">
                <a:avLst/>
              </a:prstGeom>
              <a:ln w="9360">
                <a:solidFill>
                  <a:srgbClr val="0000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5" name=""/>
              <p:cNvSpPr/>
              <p:nvPr/>
            </p:nvSpPr>
            <p:spPr>
              <a:xfrm flipV="1">
                <a:off x="4938480" y="2336040"/>
                <a:ext cx="0" cy="142920"/>
              </a:xfrm>
              <a:prstGeom prst="line">
                <a:avLst/>
              </a:prstGeom>
              <a:ln w="9360">
                <a:solidFill>
                  <a:srgbClr val="0000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6" name=""/>
              <p:cNvSpPr/>
              <p:nvPr/>
            </p:nvSpPr>
            <p:spPr>
              <a:xfrm flipV="1">
                <a:off x="4938480" y="1858320"/>
                <a:ext cx="0" cy="142920"/>
              </a:xfrm>
              <a:prstGeom prst="line">
                <a:avLst/>
              </a:prstGeom>
              <a:ln w="9360">
                <a:solidFill>
                  <a:srgbClr val="0000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17" name=""/>
            <p:cNvGrpSpPr/>
            <p:nvPr/>
          </p:nvGrpSpPr>
          <p:grpSpPr>
            <a:xfrm>
              <a:off x="2172600" y="3839760"/>
              <a:ext cx="4039920" cy="0"/>
              <a:chOff x="2172600" y="3839760"/>
              <a:chExt cx="4039920" cy="0"/>
            </a:xfrm>
          </p:grpSpPr>
          <p:sp>
            <p:nvSpPr>
              <p:cNvPr id="1718" name=""/>
              <p:cNvSpPr/>
              <p:nvPr/>
            </p:nvSpPr>
            <p:spPr>
              <a:xfrm flipH="1">
                <a:off x="3609360" y="3839760"/>
                <a:ext cx="15840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9" name=""/>
              <p:cNvSpPr/>
              <p:nvPr/>
            </p:nvSpPr>
            <p:spPr>
              <a:xfrm>
                <a:off x="4087080" y="3839760"/>
                <a:ext cx="15840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0" name=""/>
              <p:cNvSpPr/>
              <p:nvPr/>
            </p:nvSpPr>
            <p:spPr>
              <a:xfrm>
                <a:off x="4566600" y="3839760"/>
                <a:ext cx="15840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1" name=""/>
              <p:cNvSpPr/>
              <p:nvPr/>
            </p:nvSpPr>
            <p:spPr>
              <a:xfrm>
                <a:off x="5042880" y="3839760"/>
                <a:ext cx="15840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2" name=""/>
              <p:cNvSpPr/>
              <p:nvPr/>
            </p:nvSpPr>
            <p:spPr>
              <a:xfrm>
                <a:off x="5522400" y="3839760"/>
                <a:ext cx="15840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3" name=""/>
              <p:cNvSpPr/>
              <p:nvPr/>
            </p:nvSpPr>
            <p:spPr>
              <a:xfrm>
                <a:off x="6054120" y="3839760"/>
                <a:ext cx="15840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4" name=""/>
              <p:cNvSpPr/>
              <p:nvPr/>
            </p:nvSpPr>
            <p:spPr>
              <a:xfrm flipH="1">
                <a:off x="2172600" y="3839760"/>
                <a:ext cx="16020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5" name=""/>
              <p:cNvSpPr/>
              <p:nvPr/>
            </p:nvSpPr>
            <p:spPr>
              <a:xfrm flipH="1">
                <a:off x="2653560" y="3839760"/>
                <a:ext cx="15840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6" name=""/>
              <p:cNvSpPr/>
              <p:nvPr/>
            </p:nvSpPr>
            <p:spPr>
              <a:xfrm flipH="1">
                <a:off x="3131640" y="3839760"/>
                <a:ext cx="15840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27" name=""/>
            <p:cNvGrpSpPr/>
            <p:nvPr/>
          </p:nvGrpSpPr>
          <p:grpSpPr>
            <a:xfrm>
              <a:off x="2158200" y="5557680"/>
              <a:ext cx="4039920" cy="0"/>
              <a:chOff x="2158200" y="5557680"/>
              <a:chExt cx="4039920" cy="0"/>
            </a:xfrm>
          </p:grpSpPr>
          <p:sp>
            <p:nvSpPr>
              <p:cNvPr id="1728" name=""/>
              <p:cNvSpPr/>
              <p:nvPr/>
            </p:nvSpPr>
            <p:spPr>
              <a:xfrm flipH="1">
                <a:off x="3594960" y="5557680"/>
                <a:ext cx="15840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9" name=""/>
              <p:cNvSpPr/>
              <p:nvPr/>
            </p:nvSpPr>
            <p:spPr>
              <a:xfrm>
                <a:off x="4072680" y="5557680"/>
                <a:ext cx="15840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0" name=""/>
              <p:cNvSpPr/>
              <p:nvPr/>
            </p:nvSpPr>
            <p:spPr>
              <a:xfrm>
                <a:off x="4552200" y="5557680"/>
                <a:ext cx="15840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1" name=""/>
              <p:cNvSpPr/>
              <p:nvPr/>
            </p:nvSpPr>
            <p:spPr>
              <a:xfrm>
                <a:off x="5028480" y="5557680"/>
                <a:ext cx="15840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2" name=""/>
              <p:cNvSpPr/>
              <p:nvPr/>
            </p:nvSpPr>
            <p:spPr>
              <a:xfrm>
                <a:off x="5508000" y="5557680"/>
                <a:ext cx="15840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3" name=""/>
              <p:cNvSpPr/>
              <p:nvPr/>
            </p:nvSpPr>
            <p:spPr>
              <a:xfrm>
                <a:off x="6039720" y="5557680"/>
                <a:ext cx="15840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4" name=""/>
              <p:cNvSpPr/>
              <p:nvPr/>
            </p:nvSpPr>
            <p:spPr>
              <a:xfrm flipH="1">
                <a:off x="2158200" y="5557680"/>
                <a:ext cx="16020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5" name=""/>
              <p:cNvSpPr/>
              <p:nvPr/>
            </p:nvSpPr>
            <p:spPr>
              <a:xfrm flipH="1">
                <a:off x="2639160" y="5557680"/>
                <a:ext cx="15840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6" name=""/>
              <p:cNvSpPr/>
              <p:nvPr/>
            </p:nvSpPr>
            <p:spPr>
              <a:xfrm flipH="1">
                <a:off x="3117240" y="5557680"/>
                <a:ext cx="15840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37" name=""/>
            <p:cNvSpPr/>
            <p:nvPr/>
          </p:nvSpPr>
          <p:spPr>
            <a:xfrm>
              <a:off x="4901400" y="2288880"/>
              <a:ext cx="875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cc"/>
                  </a:solidFill>
                  <a:latin typeface="Arial"/>
                  <a:ea typeface="Arial"/>
                </a:rPr>
                <a:t>Quer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8" name=""/>
            <p:cNvSpPr/>
            <p:nvPr/>
          </p:nvSpPr>
          <p:spPr>
            <a:xfrm>
              <a:off x="3086640" y="3403440"/>
              <a:ext cx="83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Ev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9" name=""/>
          <p:cNvSpPr/>
          <p:nvPr/>
        </p:nvSpPr>
        <p:spPr>
          <a:xfrm>
            <a:off x="1598760" y="5811840"/>
            <a:ext cx="6705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query frequency &gt; event frequenc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M Sensy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658D7-BF1B-4C0C-89BA-B04C560DB925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4/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The Spectrum of Push and Pull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1" name=""/>
          <p:cNvGrpSpPr/>
          <p:nvPr/>
        </p:nvGrpSpPr>
        <p:grpSpPr>
          <a:xfrm>
            <a:off x="685800" y="2209680"/>
            <a:ext cx="8001000" cy="1282680"/>
            <a:chOff x="685800" y="2209680"/>
            <a:chExt cx="8001000" cy="1282680"/>
          </a:xfrm>
        </p:grpSpPr>
        <p:sp>
          <p:nvSpPr>
            <p:cNvPr id="1742" name=""/>
            <p:cNvSpPr/>
            <p:nvPr/>
          </p:nvSpPr>
          <p:spPr>
            <a:xfrm>
              <a:off x="1066680" y="2971800"/>
              <a:ext cx="6934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3" name=""/>
            <p:cNvSpPr/>
            <p:nvPr/>
          </p:nvSpPr>
          <p:spPr>
            <a:xfrm>
              <a:off x="685800" y="3124080"/>
              <a:ext cx="114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u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4" name=""/>
            <p:cNvSpPr/>
            <p:nvPr/>
          </p:nvSpPr>
          <p:spPr>
            <a:xfrm>
              <a:off x="7543800" y="3124080"/>
              <a:ext cx="114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us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5" name=""/>
            <p:cNvSpPr/>
            <p:nvPr/>
          </p:nvSpPr>
          <p:spPr>
            <a:xfrm>
              <a:off x="1904760" y="220968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Global pull +Local pus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6" name=""/>
            <p:cNvSpPr/>
            <p:nvPr/>
          </p:nvSpPr>
          <p:spPr>
            <a:xfrm>
              <a:off x="5562360" y="2209680"/>
              <a:ext cx="2057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Global push +Local pu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7" name=""/>
            <p:cNvSpPr/>
            <p:nvPr/>
          </p:nvSpPr>
          <p:spPr>
            <a:xfrm>
              <a:off x="3733560" y="3124080"/>
              <a:ext cx="221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ush &amp; Pu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8" name=""/>
            <p:cNvSpPr/>
            <p:nvPr/>
          </p:nvSpPr>
          <p:spPr>
            <a:xfrm>
              <a:off x="1066680" y="281916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8001000" y="281916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0" name=""/>
          <p:cNvSpPr/>
          <p:nvPr/>
        </p:nvSpPr>
        <p:spPr>
          <a:xfrm>
            <a:off x="1081800" y="5435640"/>
            <a:ext cx="348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3300"/>
                </a:solidFill>
                <a:latin typeface="Arial"/>
                <a:ea typeface="Arial"/>
              </a:rPr>
              <a:t>Inter-spike spacing incre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1" name=""/>
          <p:cNvSpPr/>
          <p:nvPr/>
        </p:nvSpPr>
        <p:spPr>
          <a:xfrm>
            <a:off x="1944720" y="5227560"/>
            <a:ext cx="1371600" cy="0"/>
          </a:xfrm>
          <a:prstGeom prst="line">
            <a:avLst/>
          </a:prstGeom>
          <a:ln w="19080">
            <a:solidFill>
              <a:srgbClr val="9933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2" name=""/>
          <p:cNvSpPr/>
          <p:nvPr/>
        </p:nvSpPr>
        <p:spPr>
          <a:xfrm>
            <a:off x="5256000" y="5029200"/>
            <a:ext cx="182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  <a:ea typeface="Arial"/>
              </a:rPr>
              <a:t>Reverse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com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3" name=""/>
          <p:cNvGrpSpPr/>
          <p:nvPr/>
        </p:nvGrpSpPr>
        <p:grpSpPr>
          <a:xfrm>
            <a:off x="1828800" y="4038480"/>
            <a:ext cx="5103720" cy="551520"/>
            <a:chOff x="1828800" y="4038480"/>
            <a:chExt cx="5103720" cy="551520"/>
          </a:xfrm>
        </p:grpSpPr>
        <p:sp>
          <p:nvSpPr>
            <p:cNvPr id="1754" name=""/>
            <p:cNvSpPr/>
            <p:nvPr/>
          </p:nvSpPr>
          <p:spPr>
            <a:xfrm>
              <a:off x="1828800" y="4038480"/>
              <a:ext cx="5103720" cy="0"/>
            </a:xfrm>
            <a:prstGeom prst="line">
              <a:avLst/>
            </a:prstGeom>
            <a:ln w="25560">
              <a:solidFill>
                <a:srgbClr val="0000cc"/>
              </a:solidFill>
              <a:prstDash val="dash"/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5" name=""/>
            <p:cNvSpPr/>
            <p:nvPr/>
          </p:nvSpPr>
          <p:spPr>
            <a:xfrm>
              <a:off x="2203200" y="4191120"/>
              <a:ext cx="4163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cc"/>
                  </a:solidFill>
                  <a:latin typeface="Arial"/>
                  <a:ea typeface="Arial"/>
                </a:rPr>
                <a:t>Relative query frequency increas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56" name="" descr=""/>
          <p:cNvPicPr/>
          <p:nvPr/>
        </p:nvPicPr>
        <p:blipFill>
          <a:blip r:embed="rId1"/>
          <a:stretch/>
        </p:blipFill>
        <p:spPr>
          <a:xfrm>
            <a:off x="4419720" y="5105520"/>
            <a:ext cx="504720" cy="352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M Sensy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BDF86-A375-406C-B436-BEBBAE6F5E42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4/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Mid-term Review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ic idea: balancing push and pu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view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liabil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andom network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 adaptive sche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M Sensy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60FF4-EC73-48B0-9DFB-84894F0C4935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4/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Strategies for Improving Reliability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enhanc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leaved mesh (transient failur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outing update (permanent failur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atial divers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rrelated failur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nhance and balance query success rate at different geo-loc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o-level redundancy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l=2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M Sensy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31B8A-0741-4356-854F-25B89DFD91F3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4/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Spatial Diversity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"/>
          <p:cNvSpPr/>
          <p:nvPr/>
        </p:nvSpPr>
        <p:spPr>
          <a:xfrm>
            <a:off x="2557440" y="4473720"/>
            <a:ext cx="10656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3" name=""/>
          <p:cNvSpPr/>
          <p:nvPr/>
        </p:nvSpPr>
        <p:spPr>
          <a:xfrm>
            <a:off x="3040200" y="4473720"/>
            <a:ext cx="10620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64" name=""/>
          <p:cNvCxnSpPr>
            <a:stCxn id="1762" idx="6"/>
            <a:endCxn id="1763" idx="2"/>
          </p:cNvCxnSpPr>
          <p:nvPr/>
        </p:nvCxnSpPr>
        <p:spPr>
          <a:xfrm>
            <a:off x="2663640" y="4520880"/>
            <a:ext cx="376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65" name=""/>
          <p:cNvCxnSpPr>
            <a:stCxn id="1762" idx="4"/>
          </p:cNvCxnSpPr>
          <p:nvPr/>
        </p:nvCxnSpPr>
        <p:spPr>
          <a:xfrm>
            <a:off x="2611080" y="456840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66" name=""/>
          <p:cNvCxnSpPr>
            <a:stCxn id="1763" idx="4"/>
          </p:cNvCxnSpPr>
          <p:nvPr/>
        </p:nvCxnSpPr>
        <p:spPr>
          <a:xfrm>
            <a:off x="3093840" y="456840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67" name=""/>
          <p:cNvSpPr/>
          <p:nvPr/>
        </p:nvSpPr>
        <p:spPr>
          <a:xfrm>
            <a:off x="1593720" y="4473720"/>
            <a:ext cx="10656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8" name=""/>
          <p:cNvSpPr/>
          <p:nvPr/>
        </p:nvSpPr>
        <p:spPr>
          <a:xfrm>
            <a:off x="2076480" y="4473720"/>
            <a:ext cx="10620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69" name=""/>
          <p:cNvCxnSpPr>
            <a:stCxn id="1767" idx="6"/>
            <a:endCxn id="1768" idx="2"/>
          </p:cNvCxnSpPr>
          <p:nvPr/>
        </p:nvCxnSpPr>
        <p:spPr>
          <a:xfrm>
            <a:off x="1699920" y="4520880"/>
            <a:ext cx="376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70" name=""/>
          <p:cNvCxnSpPr>
            <a:stCxn id="1767" idx="4"/>
          </p:cNvCxnSpPr>
          <p:nvPr/>
        </p:nvCxnSpPr>
        <p:spPr>
          <a:xfrm>
            <a:off x="1647360" y="456840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71" name=""/>
          <p:cNvCxnSpPr>
            <a:stCxn id="1768" idx="4"/>
          </p:cNvCxnSpPr>
          <p:nvPr/>
        </p:nvCxnSpPr>
        <p:spPr>
          <a:xfrm>
            <a:off x="2130120" y="456840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72" name=""/>
          <p:cNvCxnSpPr>
            <a:stCxn id="1768" idx="6"/>
            <a:endCxn id="1762" idx="2"/>
          </p:cNvCxnSpPr>
          <p:nvPr/>
        </p:nvCxnSpPr>
        <p:spPr>
          <a:xfrm>
            <a:off x="2182320" y="452088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73" name=""/>
          <p:cNvSpPr/>
          <p:nvPr/>
        </p:nvSpPr>
        <p:spPr>
          <a:xfrm>
            <a:off x="4484520" y="4473720"/>
            <a:ext cx="10800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4" name=""/>
          <p:cNvSpPr/>
          <p:nvPr/>
        </p:nvSpPr>
        <p:spPr>
          <a:xfrm>
            <a:off x="4967280" y="4473720"/>
            <a:ext cx="10620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75" name=""/>
          <p:cNvCxnSpPr>
            <a:stCxn id="1773" idx="6"/>
            <a:endCxn id="1774" idx="2"/>
          </p:cNvCxnSpPr>
          <p:nvPr/>
        </p:nvCxnSpPr>
        <p:spPr>
          <a:xfrm>
            <a:off x="4592160" y="452088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76" name=""/>
          <p:cNvCxnSpPr>
            <a:stCxn id="1773" idx="4"/>
          </p:cNvCxnSpPr>
          <p:nvPr/>
        </p:nvCxnSpPr>
        <p:spPr>
          <a:xfrm>
            <a:off x="4538160" y="456840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77" name=""/>
          <p:cNvCxnSpPr>
            <a:stCxn id="1774" idx="4"/>
          </p:cNvCxnSpPr>
          <p:nvPr/>
        </p:nvCxnSpPr>
        <p:spPr>
          <a:xfrm>
            <a:off x="5020920" y="456840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78" name=""/>
          <p:cNvSpPr/>
          <p:nvPr/>
        </p:nvSpPr>
        <p:spPr>
          <a:xfrm>
            <a:off x="3521160" y="4473720"/>
            <a:ext cx="10800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9" name=""/>
          <p:cNvSpPr/>
          <p:nvPr/>
        </p:nvSpPr>
        <p:spPr>
          <a:xfrm>
            <a:off x="4003560" y="4473720"/>
            <a:ext cx="10656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0" name=""/>
          <p:cNvCxnSpPr>
            <a:stCxn id="1778" idx="6"/>
            <a:endCxn id="1779" idx="2"/>
          </p:cNvCxnSpPr>
          <p:nvPr/>
        </p:nvCxnSpPr>
        <p:spPr>
          <a:xfrm>
            <a:off x="3629160" y="4520880"/>
            <a:ext cx="37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81" name=""/>
          <p:cNvCxnSpPr>
            <a:stCxn id="1778" idx="4"/>
          </p:cNvCxnSpPr>
          <p:nvPr/>
        </p:nvCxnSpPr>
        <p:spPr>
          <a:xfrm>
            <a:off x="3574800" y="456840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82" name=""/>
          <p:cNvCxnSpPr>
            <a:stCxn id="1779" idx="4"/>
          </p:cNvCxnSpPr>
          <p:nvPr/>
        </p:nvCxnSpPr>
        <p:spPr>
          <a:xfrm>
            <a:off x="4057200" y="456840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83" name=""/>
          <p:cNvCxnSpPr>
            <a:stCxn id="1779" idx="6"/>
            <a:endCxn id="1773" idx="2"/>
          </p:cNvCxnSpPr>
          <p:nvPr/>
        </p:nvCxnSpPr>
        <p:spPr>
          <a:xfrm>
            <a:off x="4110120" y="4520880"/>
            <a:ext cx="37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84" name=""/>
          <p:cNvCxnSpPr>
            <a:stCxn id="1763" idx="6"/>
            <a:endCxn id="1778" idx="2"/>
          </p:cNvCxnSpPr>
          <p:nvPr/>
        </p:nvCxnSpPr>
        <p:spPr>
          <a:xfrm>
            <a:off x="3146040" y="452088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85" name=""/>
          <p:cNvSpPr/>
          <p:nvPr/>
        </p:nvSpPr>
        <p:spPr>
          <a:xfrm>
            <a:off x="5502240" y="4473720"/>
            <a:ext cx="10656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6" name=""/>
          <p:cNvSpPr/>
          <p:nvPr/>
        </p:nvSpPr>
        <p:spPr>
          <a:xfrm>
            <a:off x="5983200" y="4473720"/>
            <a:ext cx="10800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7" name=""/>
          <p:cNvCxnSpPr>
            <a:stCxn id="1785" idx="6"/>
            <a:endCxn id="1786" idx="2"/>
          </p:cNvCxnSpPr>
          <p:nvPr/>
        </p:nvCxnSpPr>
        <p:spPr>
          <a:xfrm>
            <a:off x="5608800" y="4520880"/>
            <a:ext cx="37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88" name=""/>
          <p:cNvCxnSpPr>
            <a:stCxn id="1785" idx="4"/>
          </p:cNvCxnSpPr>
          <p:nvPr/>
        </p:nvCxnSpPr>
        <p:spPr>
          <a:xfrm>
            <a:off x="5555880" y="456840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89" name=""/>
          <p:cNvCxnSpPr>
            <a:stCxn id="1786" idx="4"/>
          </p:cNvCxnSpPr>
          <p:nvPr/>
        </p:nvCxnSpPr>
        <p:spPr>
          <a:xfrm>
            <a:off x="6036840" y="456840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90" name=""/>
          <p:cNvCxnSpPr>
            <a:stCxn id="1774" idx="6"/>
            <a:endCxn id="1785" idx="2"/>
          </p:cNvCxnSpPr>
          <p:nvPr/>
        </p:nvCxnSpPr>
        <p:spPr>
          <a:xfrm>
            <a:off x="5073120" y="4520880"/>
            <a:ext cx="429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91" name=""/>
          <p:cNvSpPr/>
          <p:nvPr/>
        </p:nvSpPr>
        <p:spPr>
          <a:xfrm>
            <a:off x="2557440" y="4043520"/>
            <a:ext cx="10656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2" name=""/>
          <p:cNvSpPr/>
          <p:nvPr/>
        </p:nvSpPr>
        <p:spPr>
          <a:xfrm>
            <a:off x="3040200" y="4043520"/>
            <a:ext cx="10620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3" name=""/>
          <p:cNvSpPr/>
          <p:nvPr/>
        </p:nvSpPr>
        <p:spPr>
          <a:xfrm>
            <a:off x="2557440" y="3614760"/>
            <a:ext cx="10656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4" name=""/>
          <p:cNvSpPr/>
          <p:nvPr/>
        </p:nvSpPr>
        <p:spPr>
          <a:xfrm>
            <a:off x="3040200" y="3614760"/>
            <a:ext cx="10620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95" name=""/>
          <p:cNvCxnSpPr>
            <a:stCxn id="1793" idx="6"/>
            <a:endCxn id="1794" idx="2"/>
          </p:cNvCxnSpPr>
          <p:nvPr/>
        </p:nvCxnSpPr>
        <p:spPr>
          <a:xfrm>
            <a:off x="2663640" y="3661920"/>
            <a:ext cx="376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96" name=""/>
          <p:cNvCxnSpPr>
            <a:stCxn id="1793" idx="4"/>
            <a:endCxn id="1791" idx="0"/>
          </p:cNvCxnSpPr>
          <p:nvPr/>
        </p:nvCxnSpPr>
        <p:spPr>
          <a:xfrm>
            <a:off x="2611080" y="3710160"/>
            <a:ext cx="10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97" name=""/>
          <p:cNvCxnSpPr>
            <a:stCxn id="1791" idx="6"/>
            <a:endCxn id="1792" idx="2"/>
          </p:cNvCxnSpPr>
          <p:nvPr/>
        </p:nvCxnSpPr>
        <p:spPr>
          <a:xfrm>
            <a:off x="2663640" y="4090680"/>
            <a:ext cx="376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98" name=""/>
          <p:cNvCxnSpPr>
            <a:stCxn id="1794" idx="4"/>
            <a:endCxn id="1792" idx="0"/>
          </p:cNvCxnSpPr>
          <p:nvPr/>
        </p:nvCxnSpPr>
        <p:spPr>
          <a:xfrm>
            <a:off x="3092040" y="3710160"/>
            <a:ext cx="10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99" name=""/>
          <p:cNvSpPr/>
          <p:nvPr/>
        </p:nvSpPr>
        <p:spPr>
          <a:xfrm>
            <a:off x="1593720" y="4043520"/>
            <a:ext cx="10656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0" name=""/>
          <p:cNvSpPr/>
          <p:nvPr/>
        </p:nvSpPr>
        <p:spPr>
          <a:xfrm>
            <a:off x="2076480" y="4043520"/>
            <a:ext cx="10620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1" name=""/>
          <p:cNvSpPr/>
          <p:nvPr/>
        </p:nvSpPr>
        <p:spPr>
          <a:xfrm>
            <a:off x="1593720" y="3614760"/>
            <a:ext cx="10656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2" name=""/>
          <p:cNvSpPr/>
          <p:nvPr/>
        </p:nvSpPr>
        <p:spPr>
          <a:xfrm>
            <a:off x="2076480" y="3614760"/>
            <a:ext cx="10620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3" name=""/>
          <p:cNvCxnSpPr>
            <a:stCxn id="1801" idx="6"/>
            <a:endCxn id="1802" idx="2"/>
          </p:cNvCxnSpPr>
          <p:nvPr/>
        </p:nvCxnSpPr>
        <p:spPr>
          <a:xfrm>
            <a:off x="1699920" y="3661920"/>
            <a:ext cx="376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04" name=""/>
          <p:cNvCxnSpPr>
            <a:stCxn id="1801" idx="4"/>
            <a:endCxn id="1799" idx="0"/>
          </p:cNvCxnSpPr>
          <p:nvPr/>
        </p:nvCxnSpPr>
        <p:spPr>
          <a:xfrm>
            <a:off x="1647360" y="3710160"/>
            <a:ext cx="10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05" name=""/>
          <p:cNvCxnSpPr>
            <a:stCxn id="1799" idx="6"/>
            <a:endCxn id="1800" idx="2"/>
          </p:cNvCxnSpPr>
          <p:nvPr/>
        </p:nvCxnSpPr>
        <p:spPr>
          <a:xfrm>
            <a:off x="1699920" y="4090680"/>
            <a:ext cx="376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06" name=""/>
          <p:cNvCxnSpPr>
            <a:stCxn id="1802" idx="4"/>
            <a:endCxn id="1800" idx="0"/>
          </p:cNvCxnSpPr>
          <p:nvPr/>
        </p:nvCxnSpPr>
        <p:spPr>
          <a:xfrm>
            <a:off x="2128320" y="3710160"/>
            <a:ext cx="10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07" name=""/>
          <p:cNvCxnSpPr>
            <a:stCxn id="1802" idx="6"/>
            <a:endCxn id="1793" idx="2"/>
          </p:cNvCxnSpPr>
          <p:nvPr/>
        </p:nvCxnSpPr>
        <p:spPr>
          <a:xfrm>
            <a:off x="2182320" y="366192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08" name=""/>
          <p:cNvCxnSpPr>
            <a:stCxn id="1800" idx="6"/>
            <a:endCxn id="1791" idx="2"/>
          </p:cNvCxnSpPr>
          <p:nvPr/>
        </p:nvCxnSpPr>
        <p:spPr>
          <a:xfrm>
            <a:off x="2182320" y="409068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09" name=""/>
          <p:cNvSpPr/>
          <p:nvPr/>
        </p:nvSpPr>
        <p:spPr>
          <a:xfrm>
            <a:off x="4484520" y="4043520"/>
            <a:ext cx="10800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0" name=""/>
          <p:cNvSpPr/>
          <p:nvPr/>
        </p:nvSpPr>
        <p:spPr>
          <a:xfrm>
            <a:off x="4967280" y="4043520"/>
            <a:ext cx="10620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1" name=""/>
          <p:cNvSpPr/>
          <p:nvPr/>
        </p:nvSpPr>
        <p:spPr>
          <a:xfrm>
            <a:off x="4484520" y="3614760"/>
            <a:ext cx="10800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2" name=""/>
          <p:cNvSpPr/>
          <p:nvPr/>
        </p:nvSpPr>
        <p:spPr>
          <a:xfrm>
            <a:off x="4967280" y="3614760"/>
            <a:ext cx="10620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13" name=""/>
          <p:cNvCxnSpPr>
            <a:stCxn id="1811" idx="6"/>
            <a:endCxn id="1812" idx="2"/>
          </p:cNvCxnSpPr>
          <p:nvPr/>
        </p:nvCxnSpPr>
        <p:spPr>
          <a:xfrm>
            <a:off x="4592160" y="366192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14" name=""/>
          <p:cNvCxnSpPr>
            <a:stCxn id="1811" idx="4"/>
            <a:endCxn id="1809" idx="0"/>
          </p:cNvCxnSpPr>
          <p:nvPr/>
        </p:nvCxnSpPr>
        <p:spPr>
          <a:xfrm>
            <a:off x="4538160" y="3710160"/>
            <a:ext cx="10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15" name=""/>
          <p:cNvCxnSpPr>
            <a:stCxn id="1809" idx="6"/>
            <a:endCxn id="1810" idx="2"/>
          </p:cNvCxnSpPr>
          <p:nvPr/>
        </p:nvCxnSpPr>
        <p:spPr>
          <a:xfrm>
            <a:off x="4592160" y="409068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16" name=""/>
          <p:cNvCxnSpPr>
            <a:stCxn id="1812" idx="4"/>
            <a:endCxn id="1810" idx="0"/>
          </p:cNvCxnSpPr>
          <p:nvPr/>
        </p:nvCxnSpPr>
        <p:spPr>
          <a:xfrm>
            <a:off x="5019480" y="3710160"/>
            <a:ext cx="10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17" name=""/>
          <p:cNvSpPr/>
          <p:nvPr/>
        </p:nvSpPr>
        <p:spPr>
          <a:xfrm>
            <a:off x="3521160" y="4043520"/>
            <a:ext cx="108000" cy="95040"/>
          </a:xfrm>
          <a:prstGeom prst="ellipse">
            <a:avLst/>
          </a:prstGeom>
          <a:solidFill>
            <a:srgbClr val="ff0000">
              <a:alpha val="99000"/>
            </a:srgbClr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8" name=""/>
          <p:cNvSpPr/>
          <p:nvPr/>
        </p:nvSpPr>
        <p:spPr>
          <a:xfrm>
            <a:off x="4003560" y="4043520"/>
            <a:ext cx="10656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9" name=""/>
          <p:cNvSpPr/>
          <p:nvPr/>
        </p:nvSpPr>
        <p:spPr>
          <a:xfrm>
            <a:off x="3521160" y="3614760"/>
            <a:ext cx="10800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0" name=""/>
          <p:cNvSpPr/>
          <p:nvPr/>
        </p:nvSpPr>
        <p:spPr>
          <a:xfrm>
            <a:off x="4003560" y="3614760"/>
            <a:ext cx="10656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21" name=""/>
          <p:cNvCxnSpPr>
            <a:stCxn id="1819" idx="6"/>
            <a:endCxn id="1820" idx="2"/>
          </p:cNvCxnSpPr>
          <p:nvPr/>
        </p:nvCxnSpPr>
        <p:spPr>
          <a:xfrm>
            <a:off x="3629160" y="3661920"/>
            <a:ext cx="37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22" name=""/>
          <p:cNvCxnSpPr>
            <a:stCxn id="1819" idx="4"/>
            <a:endCxn id="1817" idx="0"/>
          </p:cNvCxnSpPr>
          <p:nvPr/>
        </p:nvCxnSpPr>
        <p:spPr>
          <a:xfrm>
            <a:off x="3574800" y="3710160"/>
            <a:ext cx="10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23" name=""/>
          <p:cNvCxnSpPr>
            <a:stCxn id="1817" idx="6"/>
            <a:endCxn id="1818" idx="2"/>
          </p:cNvCxnSpPr>
          <p:nvPr/>
        </p:nvCxnSpPr>
        <p:spPr>
          <a:xfrm>
            <a:off x="3629160" y="4090680"/>
            <a:ext cx="37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24" name=""/>
          <p:cNvCxnSpPr>
            <a:stCxn id="1820" idx="4"/>
            <a:endCxn id="1818" idx="0"/>
          </p:cNvCxnSpPr>
          <p:nvPr/>
        </p:nvCxnSpPr>
        <p:spPr>
          <a:xfrm>
            <a:off x="4055760" y="3710160"/>
            <a:ext cx="10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25" name=""/>
          <p:cNvCxnSpPr>
            <a:stCxn id="1820" idx="6"/>
            <a:endCxn id="1811" idx="2"/>
          </p:cNvCxnSpPr>
          <p:nvPr/>
        </p:nvCxnSpPr>
        <p:spPr>
          <a:xfrm>
            <a:off x="4110120" y="3661920"/>
            <a:ext cx="37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26" name=""/>
          <p:cNvCxnSpPr>
            <a:stCxn id="1818" idx="6"/>
            <a:endCxn id="1809" idx="2"/>
          </p:cNvCxnSpPr>
          <p:nvPr/>
        </p:nvCxnSpPr>
        <p:spPr>
          <a:xfrm>
            <a:off x="4110120" y="4090680"/>
            <a:ext cx="37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27" name=""/>
          <p:cNvCxnSpPr>
            <a:stCxn id="1794" idx="6"/>
            <a:endCxn id="1819" idx="2"/>
          </p:cNvCxnSpPr>
          <p:nvPr/>
        </p:nvCxnSpPr>
        <p:spPr>
          <a:xfrm>
            <a:off x="3146040" y="366192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28" name=""/>
          <p:cNvCxnSpPr>
            <a:stCxn id="1792" idx="6"/>
            <a:endCxn id="1817" idx="2"/>
          </p:cNvCxnSpPr>
          <p:nvPr/>
        </p:nvCxnSpPr>
        <p:spPr>
          <a:xfrm>
            <a:off x="3146040" y="409068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29" name=""/>
          <p:cNvSpPr/>
          <p:nvPr/>
        </p:nvSpPr>
        <p:spPr>
          <a:xfrm>
            <a:off x="5502240" y="4043520"/>
            <a:ext cx="10656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0" name=""/>
          <p:cNvSpPr/>
          <p:nvPr/>
        </p:nvSpPr>
        <p:spPr>
          <a:xfrm>
            <a:off x="5983200" y="4043520"/>
            <a:ext cx="10800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1" name=""/>
          <p:cNvSpPr/>
          <p:nvPr/>
        </p:nvSpPr>
        <p:spPr>
          <a:xfrm>
            <a:off x="5502240" y="3614760"/>
            <a:ext cx="10656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2" name=""/>
          <p:cNvSpPr/>
          <p:nvPr/>
        </p:nvSpPr>
        <p:spPr>
          <a:xfrm>
            <a:off x="5983200" y="3614760"/>
            <a:ext cx="10800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33" name=""/>
          <p:cNvCxnSpPr>
            <a:stCxn id="1831" idx="6"/>
            <a:endCxn id="1832" idx="2"/>
          </p:cNvCxnSpPr>
          <p:nvPr/>
        </p:nvCxnSpPr>
        <p:spPr>
          <a:xfrm>
            <a:off x="5608800" y="3661920"/>
            <a:ext cx="37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34" name=""/>
          <p:cNvCxnSpPr>
            <a:stCxn id="1831" idx="4"/>
            <a:endCxn id="1829" idx="0"/>
          </p:cNvCxnSpPr>
          <p:nvPr/>
        </p:nvCxnSpPr>
        <p:spPr>
          <a:xfrm>
            <a:off x="5555880" y="3710160"/>
            <a:ext cx="10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35" name=""/>
          <p:cNvCxnSpPr>
            <a:stCxn id="1829" idx="6"/>
            <a:endCxn id="1830" idx="2"/>
          </p:cNvCxnSpPr>
          <p:nvPr/>
        </p:nvCxnSpPr>
        <p:spPr>
          <a:xfrm>
            <a:off x="5608800" y="4090680"/>
            <a:ext cx="37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36" name=""/>
          <p:cNvCxnSpPr>
            <a:stCxn id="1832" idx="4"/>
            <a:endCxn id="1830" idx="0"/>
          </p:cNvCxnSpPr>
          <p:nvPr/>
        </p:nvCxnSpPr>
        <p:spPr>
          <a:xfrm>
            <a:off x="6036840" y="3710160"/>
            <a:ext cx="10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37" name=""/>
          <p:cNvCxnSpPr>
            <a:stCxn id="1812" idx="6"/>
            <a:endCxn id="1831" idx="2"/>
          </p:cNvCxnSpPr>
          <p:nvPr/>
        </p:nvCxnSpPr>
        <p:spPr>
          <a:xfrm>
            <a:off x="5073120" y="3661920"/>
            <a:ext cx="429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38" name=""/>
          <p:cNvCxnSpPr>
            <a:stCxn id="1810" idx="6"/>
            <a:endCxn id="1829" idx="2"/>
          </p:cNvCxnSpPr>
          <p:nvPr/>
        </p:nvCxnSpPr>
        <p:spPr>
          <a:xfrm>
            <a:off x="5073120" y="4090680"/>
            <a:ext cx="429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39" name=""/>
          <p:cNvCxnSpPr>
            <a:stCxn id="1799" idx="4"/>
            <a:endCxn id="1767" idx="0"/>
          </p:cNvCxnSpPr>
          <p:nvPr/>
        </p:nvCxnSpPr>
        <p:spPr>
          <a:xfrm>
            <a:off x="1647360" y="413820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40" name=""/>
          <p:cNvCxnSpPr>
            <a:stCxn id="1800" idx="4"/>
            <a:endCxn id="1768" idx="0"/>
          </p:cNvCxnSpPr>
          <p:nvPr/>
        </p:nvCxnSpPr>
        <p:spPr>
          <a:xfrm>
            <a:off x="2128320" y="413820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41" name=""/>
          <p:cNvCxnSpPr>
            <a:stCxn id="1791" idx="4"/>
            <a:endCxn id="1762" idx="0"/>
          </p:cNvCxnSpPr>
          <p:nvPr/>
        </p:nvCxnSpPr>
        <p:spPr>
          <a:xfrm>
            <a:off x="2611080" y="413820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42" name=""/>
          <p:cNvCxnSpPr>
            <a:stCxn id="1792" idx="4"/>
            <a:endCxn id="1763" idx="0"/>
          </p:cNvCxnSpPr>
          <p:nvPr/>
        </p:nvCxnSpPr>
        <p:spPr>
          <a:xfrm>
            <a:off x="3092040" y="413820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43" name=""/>
          <p:cNvCxnSpPr>
            <a:stCxn id="1817" idx="4"/>
            <a:endCxn id="1778" idx="0"/>
          </p:cNvCxnSpPr>
          <p:nvPr/>
        </p:nvCxnSpPr>
        <p:spPr>
          <a:xfrm>
            <a:off x="3574800" y="413820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44" name=""/>
          <p:cNvCxnSpPr>
            <a:stCxn id="1818" idx="4"/>
            <a:endCxn id="1779" idx="0"/>
          </p:cNvCxnSpPr>
          <p:nvPr/>
        </p:nvCxnSpPr>
        <p:spPr>
          <a:xfrm>
            <a:off x="4055760" y="413820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45" name=""/>
          <p:cNvCxnSpPr>
            <a:stCxn id="1809" idx="4"/>
            <a:endCxn id="1773" idx="0"/>
          </p:cNvCxnSpPr>
          <p:nvPr/>
        </p:nvCxnSpPr>
        <p:spPr>
          <a:xfrm>
            <a:off x="4538160" y="413820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46" name=""/>
          <p:cNvCxnSpPr>
            <a:stCxn id="1810" idx="4"/>
            <a:endCxn id="1774" idx="0"/>
          </p:cNvCxnSpPr>
          <p:nvPr/>
        </p:nvCxnSpPr>
        <p:spPr>
          <a:xfrm>
            <a:off x="5019480" y="413820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47" name=""/>
          <p:cNvCxnSpPr>
            <a:stCxn id="1829" idx="4"/>
            <a:endCxn id="1785" idx="0"/>
          </p:cNvCxnSpPr>
          <p:nvPr/>
        </p:nvCxnSpPr>
        <p:spPr>
          <a:xfrm>
            <a:off x="5555880" y="413820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48" name=""/>
          <p:cNvCxnSpPr>
            <a:stCxn id="1830" idx="4"/>
            <a:endCxn id="1786" idx="0"/>
          </p:cNvCxnSpPr>
          <p:nvPr/>
        </p:nvCxnSpPr>
        <p:spPr>
          <a:xfrm>
            <a:off x="6036840" y="413820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49" name=""/>
          <p:cNvSpPr/>
          <p:nvPr/>
        </p:nvSpPr>
        <p:spPr>
          <a:xfrm>
            <a:off x="2557440" y="3184560"/>
            <a:ext cx="10656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0" name=""/>
          <p:cNvSpPr/>
          <p:nvPr/>
        </p:nvSpPr>
        <p:spPr>
          <a:xfrm>
            <a:off x="3040200" y="3184560"/>
            <a:ext cx="10620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1" name=""/>
          <p:cNvSpPr/>
          <p:nvPr/>
        </p:nvSpPr>
        <p:spPr>
          <a:xfrm>
            <a:off x="2557440" y="2754360"/>
            <a:ext cx="10656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2" name=""/>
          <p:cNvSpPr/>
          <p:nvPr/>
        </p:nvSpPr>
        <p:spPr>
          <a:xfrm>
            <a:off x="3040200" y="2754360"/>
            <a:ext cx="10620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3" name=""/>
          <p:cNvCxnSpPr>
            <a:stCxn id="1851" idx="6"/>
            <a:endCxn id="1852" idx="2"/>
          </p:cNvCxnSpPr>
          <p:nvPr/>
        </p:nvCxnSpPr>
        <p:spPr>
          <a:xfrm>
            <a:off x="2663640" y="2801520"/>
            <a:ext cx="376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54" name=""/>
          <p:cNvCxnSpPr>
            <a:stCxn id="1851" idx="4"/>
            <a:endCxn id="1849" idx="0"/>
          </p:cNvCxnSpPr>
          <p:nvPr/>
        </p:nvCxnSpPr>
        <p:spPr>
          <a:xfrm>
            <a:off x="2611080" y="284904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55" name=""/>
          <p:cNvCxnSpPr>
            <a:stCxn id="1849" idx="6"/>
            <a:endCxn id="1850" idx="2"/>
          </p:cNvCxnSpPr>
          <p:nvPr/>
        </p:nvCxnSpPr>
        <p:spPr>
          <a:xfrm>
            <a:off x="2663640" y="3231720"/>
            <a:ext cx="376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56" name=""/>
          <p:cNvCxnSpPr>
            <a:stCxn id="1852" idx="4"/>
            <a:endCxn id="1850" idx="0"/>
          </p:cNvCxnSpPr>
          <p:nvPr/>
        </p:nvCxnSpPr>
        <p:spPr>
          <a:xfrm>
            <a:off x="3092040" y="284904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57" name=""/>
          <p:cNvSpPr/>
          <p:nvPr/>
        </p:nvSpPr>
        <p:spPr>
          <a:xfrm>
            <a:off x="1593720" y="3184560"/>
            <a:ext cx="10656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8" name=""/>
          <p:cNvSpPr/>
          <p:nvPr/>
        </p:nvSpPr>
        <p:spPr>
          <a:xfrm>
            <a:off x="2076480" y="3184560"/>
            <a:ext cx="10620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9" name=""/>
          <p:cNvSpPr/>
          <p:nvPr/>
        </p:nvSpPr>
        <p:spPr>
          <a:xfrm>
            <a:off x="1593720" y="2754360"/>
            <a:ext cx="10656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0" name=""/>
          <p:cNvSpPr/>
          <p:nvPr/>
        </p:nvSpPr>
        <p:spPr>
          <a:xfrm>
            <a:off x="2076480" y="2754360"/>
            <a:ext cx="10620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61" name=""/>
          <p:cNvCxnSpPr>
            <a:stCxn id="1859" idx="6"/>
            <a:endCxn id="1860" idx="2"/>
          </p:cNvCxnSpPr>
          <p:nvPr/>
        </p:nvCxnSpPr>
        <p:spPr>
          <a:xfrm>
            <a:off x="1699920" y="2801520"/>
            <a:ext cx="376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62" name=""/>
          <p:cNvCxnSpPr>
            <a:stCxn id="1859" idx="4"/>
            <a:endCxn id="1857" idx="0"/>
          </p:cNvCxnSpPr>
          <p:nvPr/>
        </p:nvCxnSpPr>
        <p:spPr>
          <a:xfrm>
            <a:off x="1647360" y="284904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63" name=""/>
          <p:cNvCxnSpPr>
            <a:stCxn id="1857" idx="6"/>
            <a:endCxn id="1858" idx="2"/>
          </p:cNvCxnSpPr>
          <p:nvPr/>
        </p:nvCxnSpPr>
        <p:spPr>
          <a:xfrm>
            <a:off x="1699920" y="3231720"/>
            <a:ext cx="376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64" name=""/>
          <p:cNvCxnSpPr>
            <a:stCxn id="1860" idx="4"/>
            <a:endCxn id="1858" idx="0"/>
          </p:cNvCxnSpPr>
          <p:nvPr/>
        </p:nvCxnSpPr>
        <p:spPr>
          <a:xfrm>
            <a:off x="2128320" y="284904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65" name=""/>
          <p:cNvCxnSpPr>
            <a:stCxn id="1860" idx="6"/>
            <a:endCxn id="1851" idx="2"/>
          </p:cNvCxnSpPr>
          <p:nvPr/>
        </p:nvCxnSpPr>
        <p:spPr>
          <a:xfrm>
            <a:off x="2182320" y="280152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66" name=""/>
          <p:cNvCxnSpPr>
            <a:stCxn id="1858" idx="6"/>
            <a:endCxn id="1849" idx="2"/>
          </p:cNvCxnSpPr>
          <p:nvPr/>
        </p:nvCxnSpPr>
        <p:spPr>
          <a:xfrm>
            <a:off x="2182320" y="323172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67" name=""/>
          <p:cNvSpPr/>
          <p:nvPr/>
        </p:nvSpPr>
        <p:spPr>
          <a:xfrm>
            <a:off x="4484520" y="3184560"/>
            <a:ext cx="10800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8" name=""/>
          <p:cNvSpPr/>
          <p:nvPr/>
        </p:nvSpPr>
        <p:spPr>
          <a:xfrm>
            <a:off x="4967280" y="3184560"/>
            <a:ext cx="10620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9" name=""/>
          <p:cNvSpPr/>
          <p:nvPr/>
        </p:nvSpPr>
        <p:spPr>
          <a:xfrm>
            <a:off x="4484520" y="2754360"/>
            <a:ext cx="10800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0" name=""/>
          <p:cNvSpPr/>
          <p:nvPr/>
        </p:nvSpPr>
        <p:spPr>
          <a:xfrm>
            <a:off x="4967280" y="2754360"/>
            <a:ext cx="10620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71" name=""/>
          <p:cNvCxnSpPr>
            <a:stCxn id="1869" idx="6"/>
            <a:endCxn id="1870" idx="2"/>
          </p:cNvCxnSpPr>
          <p:nvPr/>
        </p:nvCxnSpPr>
        <p:spPr>
          <a:xfrm>
            <a:off x="4592160" y="280152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72" name=""/>
          <p:cNvCxnSpPr>
            <a:stCxn id="1869" idx="4"/>
            <a:endCxn id="1867" idx="0"/>
          </p:cNvCxnSpPr>
          <p:nvPr/>
        </p:nvCxnSpPr>
        <p:spPr>
          <a:xfrm>
            <a:off x="4538160" y="284904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73" name=""/>
          <p:cNvCxnSpPr>
            <a:stCxn id="1867" idx="6"/>
            <a:endCxn id="1868" idx="2"/>
          </p:cNvCxnSpPr>
          <p:nvPr/>
        </p:nvCxnSpPr>
        <p:spPr>
          <a:xfrm>
            <a:off x="4592160" y="323172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74" name=""/>
          <p:cNvCxnSpPr>
            <a:stCxn id="1870" idx="4"/>
            <a:endCxn id="1868" idx="0"/>
          </p:cNvCxnSpPr>
          <p:nvPr/>
        </p:nvCxnSpPr>
        <p:spPr>
          <a:xfrm>
            <a:off x="5019480" y="284904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75" name=""/>
          <p:cNvSpPr/>
          <p:nvPr/>
        </p:nvSpPr>
        <p:spPr>
          <a:xfrm>
            <a:off x="3521160" y="3184560"/>
            <a:ext cx="10800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6" name=""/>
          <p:cNvSpPr/>
          <p:nvPr/>
        </p:nvSpPr>
        <p:spPr>
          <a:xfrm>
            <a:off x="4003560" y="3184560"/>
            <a:ext cx="10656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7" name=""/>
          <p:cNvSpPr/>
          <p:nvPr/>
        </p:nvSpPr>
        <p:spPr>
          <a:xfrm>
            <a:off x="3521160" y="2754360"/>
            <a:ext cx="10800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8" name=""/>
          <p:cNvSpPr/>
          <p:nvPr/>
        </p:nvSpPr>
        <p:spPr>
          <a:xfrm>
            <a:off x="4003560" y="2754360"/>
            <a:ext cx="10656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79" name=""/>
          <p:cNvCxnSpPr>
            <a:stCxn id="1877" idx="6"/>
            <a:endCxn id="1878" idx="2"/>
          </p:cNvCxnSpPr>
          <p:nvPr/>
        </p:nvCxnSpPr>
        <p:spPr>
          <a:xfrm>
            <a:off x="3629160" y="2801520"/>
            <a:ext cx="37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80" name=""/>
          <p:cNvCxnSpPr>
            <a:stCxn id="1877" idx="4"/>
            <a:endCxn id="1875" idx="0"/>
          </p:cNvCxnSpPr>
          <p:nvPr/>
        </p:nvCxnSpPr>
        <p:spPr>
          <a:xfrm>
            <a:off x="3574800" y="284904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81" name=""/>
          <p:cNvCxnSpPr>
            <a:stCxn id="1875" idx="6"/>
            <a:endCxn id="1876" idx="2"/>
          </p:cNvCxnSpPr>
          <p:nvPr/>
        </p:nvCxnSpPr>
        <p:spPr>
          <a:xfrm>
            <a:off x="3629160" y="3231720"/>
            <a:ext cx="37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82" name=""/>
          <p:cNvCxnSpPr>
            <a:stCxn id="1878" idx="4"/>
            <a:endCxn id="1876" idx="0"/>
          </p:cNvCxnSpPr>
          <p:nvPr/>
        </p:nvCxnSpPr>
        <p:spPr>
          <a:xfrm>
            <a:off x="4055760" y="284904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83" name=""/>
          <p:cNvCxnSpPr>
            <a:stCxn id="1878" idx="6"/>
            <a:endCxn id="1869" idx="2"/>
          </p:cNvCxnSpPr>
          <p:nvPr/>
        </p:nvCxnSpPr>
        <p:spPr>
          <a:xfrm>
            <a:off x="4110120" y="2801520"/>
            <a:ext cx="37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84" name=""/>
          <p:cNvCxnSpPr>
            <a:stCxn id="1876" idx="6"/>
            <a:endCxn id="1867" idx="2"/>
          </p:cNvCxnSpPr>
          <p:nvPr/>
        </p:nvCxnSpPr>
        <p:spPr>
          <a:xfrm>
            <a:off x="4110120" y="3231720"/>
            <a:ext cx="37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85" name=""/>
          <p:cNvCxnSpPr>
            <a:stCxn id="1852" idx="6"/>
            <a:endCxn id="1877" idx="2"/>
          </p:cNvCxnSpPr>
          <p:nvPr/>
        </p:nvCxnSpPr>
        <p:spPr>
          <a:xfrm>
            <a:off x="3146040" y="280152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86" name=""/>
          <p:cNvCxnSpPr>
            <a:stCxn id="1850" idx="6"/>
            <a:endCxn id="1875" idx="2"/>
          </p:cNvCxnSpPr>
          <p:nvPr/>
        </p:nvCxnSpPr>
        <p:spPr>
          <a:xfrm>
            <a:off x="3146040" y="323172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87" name=""/>
          <p:cNvSpPr/>
          <p:nvPr/>
        </p:nvSpPr>
        <p:spPr>
          <a:xfrm>
            <a:off x="5502240" y="3184560"/>
            <a:ext cx="10656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8" name=""/>
          <p:cNvSpPr/>
          <p:nvPr/>
        </p:nvSpPr>
        <p:spPr>
          <a:xfrm>
            <a:off x="5983200" y="3184560"/>
            <a:ext cx="10800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9" name=""/>
          <p:cNvSpPr/>
          <p:nvPr/>
        </p:nvSpPr>
        <p:spPr>
          <a:xfrm>
            <a:off x="5502240" y="2754360"/>
            <a:ext cx="10656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0" name=""/>
          <p:cNvSpPr/>
          <p:nvPr/>
        </p:nvSpPr>
        <p:spPr>
          <a:xfrm>
            <a:off x="5983200" y="2754360"/>
            <a:ext cx="10800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1" name=""/>
          <p:cNvCxnSpPr>
            <a:stCxn id="1889" idx="6"/>
            <a:endCxn id="1890" idx="2"/>
          </p:cNvCxnSpPr>
          <p:nvPr/>
        </p:nvCxnSpPr>
        <p:spPr>
          <a:xfrm>
            <a:off x="5608800" y="2801520"/>
            <a:ext cx="37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92" name=""/>
          <p:cNvCxnSpPr>
            <a:stCxn id="1889" idx="4"/>
            <a:endCxn id="1887" idx="0"/>
          </p:cNvCxnSpPr>
          <p:nvPr/>
        </p:nvCxnSpPr>
        <p:spPr>
          <a:xfrm>
            <a:off x="5555880" y="284904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93" name=""/>
          <p:cNvCxnSpPr>
            <a:stCxn id="1887" idx="6"/>
            <a:endCxn id="1888" idx="2"/>
          </p:cNvCxnSpPr>
          <p:nvPr/>
        </p:nvCxnSpPr>
        <p:spPr>
          <a:xfrm>
            <a:off x="5608800" y="3231720"/>
            <a:ext cx="37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94" name=""/>
          <p:cNvCxnSpPr>
            <a:stCxn id="1890" idx="4"/>
            <a:endCxn id="1888" idx="0"/>
          </p:cNvCxnSpPr>
          <p:nvPr/>
        </p:nvCxnSpPr>
        <p:spPr>
          <a:xfrm>
            <a:off x="6036840" y="284904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95" name=""/>
          <p:cNvCxnSpPr>
            <a:stCxn id="1870" idx="6"/>
            <a:endCxn id="1889" idx="2"/>
          </p:cNvCxnSpPr>
          <p:nvPr/>
        </p:nvCxnSpPr>
        <p:spPr>
          <a:xfrm>
            <a:off x="5073120" y="2801520"/>
            <a:ext cx="429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96" name=""/>
          <p:cNvCxnSpPr>
            <a:stCxn id="1868" idx="6"/>
            <a:endCxn id="1887" idx="2"/>
          </p:cNvCxnSpPr>
          <p:nvPr/>
        </p:nvCxnSpPr>
        <p:spPr>
          <a:xfrm>
            <a:off x="5073120" y="3231720"/>
            <a:ext cx="429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97" name=""/>
          <p:cNvSpPr/>
          <p:nvPr/>
        </p:nvSpPr>
        <p:spPr>
          <a:xfrm>
            <a:off x="2557440" y="2325600"/>
            <a:ext cx="10656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8" name=""/>
          <p:cNvSpPr/>
          <p:nvPr/>
        </p:nvSpPr>
        <p:spPr>
          <a:xfrm>
            <a:off x="3040200" y="2325600"/>
            <a:ext cx="10620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9" name=""/>
          <p:cNvSpPr/>
          <p:nvPr/>
        </p:nvSpPr>
        <p:spPr>
          <a:xfrm>
            <a:off x="2557440" y="1895400"/>
            <a:ext cx="10656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0" name=""/>
          <p:cNvSpPr/>
          <p:nvPr/>
        </p:nvSpPr>
        <p:spPr>
          <a:xfrm>
            <a:off x="3040200" y="1895400"/>
            <a:ext cx="10620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01" name=""/>
          <p:cNvCxnSpPr>
            <a:stCxn id="1899" idx="6"/>
            <a:endCxn id="1900" idx="2"/>
          </p:cNvCxnSpPr>
          <p:nvPr/>
        </p:nvCxnSpPr>
        <p:spPr>
          <a:xfrm>
            <a:off x="2663640" y="1942920"/>
            <a:ext cx="376920" cy="1080"/>
          </a:xfrm>
          <a:prstGeom prst="straightConnector1">
            <a:avLst/>
          </a:prstGeom>
          <a:ln w="9360">
            <a:solidFill>
              <a:srgbClr val="0000cc"/>
            </a:solidFill>
            <a:miter/>
          </a:ln>
        </p:spPr>
      </p:cxnSp>
      <p:cxnSp>
        <p:nvCxnSpPr>
          <p:cNvPr id="1902" name=""/>
          <p:cNvCxnSpPr>
            <a:stCxn id="1899" idx="4"/>
            <a:endCxn id="1897" idx="0"/>
          </p:cNvCxnSpPr>
          <p:nvPr/>
        </p:nvCxnSpPr>
        <p:spPr>
          <a:xfrm>
            <a:off x="2611080" y="1990800"/>
            <a:ext cx="108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03" name=""/>
          <p:cNvCxnSpPr>
            <a:stCxn id="1897" idx="6"/>
            <a:endCxn id="1898" idx="2"/>
          </p:cNvCxnSpPr>
          <p:nvPr/>
        </p:nvCxnSpPr>
        <p:spPr>
          <a:xfrm>
            <a:off x="2663640" y="2373120"/>
            <a:ext cx="376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04" name=""/>
          <p:cNvCxnSpPr>
            <a:stCxn id="1900" idx="4"/>
            <a:endCxn id="1898" idx="0"/>
          </p:cNvCxnSpPr>
          <p:nvPr/>
        </p:nvCxnSpPr>
        <p:spPr>
          <a:xfrm>
            <a:off x="3092040" y="1990800"/>
            <a:ext cx="108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905" name=""/>
          <p:cNvSpPr/>
          <p:nvPr/>
        </p:nvSpPr>
        <p:spPr>
          <a:xfrm>
            <a:off x="1593720" y="2325600"/>
            <a:ext cx="10656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6" name=""/>
          <p:cNvSpPr/>
          <p:nvPr/>
        </p:nvSpPr>
        <p:spPr>
          <a:xfrm>
            <a:off x="2076480" y="2325600"/>
            <a:ext cx="10620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7" name=""/>
          <p:cNvSpPr/>
          <p:nvPr/>
        </p:nvSpPr>
        <p:spPr>
          <a:xfrm>
            <a:off x="1593720" y="1895400"/>
            <a:ext cx="10656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8" name=""/>
          <p:cNvSpPr/>
          <p:nvPr/>
        </p:nvSpPr>
        <p:spPr>
          <a:xfrm>
            <a:off x="2076480" y="1895400"/>
            <a:ext cx="10620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09" name=""/>
          <p:cNvCxnSpPr>
            <a:stCxn id="1907" idx="6"/>
            <a:endCxn id="1908" idx="2"/>
          </p:cNvCxnSpPr>
          <p:nvPr/>
        </p:nvCxnSpPr>
        <p:spPr>
          <a:xfrm>
            <a:off x="1699920" y="1942920"/>
            <a:ext cx="376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10" name=""/>
          <p:cNvCxnSpPr>
            <a:stCxn id="1907" idx="4"/>
            <a:endCxn id="1905" idx="0"/>
          </p:cNvCxnSpPr>
          <p:nvPr/>
        </p:nvCxnSpPr>
        <p:spPr>
          <a:xfrm>
            <a:off x="1647360" y="1990800"/>
            <a:ext cx="108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11" name=""/>
          <p:cNvCxnSpPr>
            <a:stCxn id="1905" idx="6"/>
            <a:endCxn id="1906" idx="2"/>
          </p:cNvCxnSpPr>
          <p:nvPr/>
        </p:nvCxnSpPr>
        <p:spPr>
          <a:xfrm>
            <a:off x="1699920" y="2373120"/>
            <a:ext cx="376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12" name=""/>
          <p:cNvCxnSpPr>
            <a:stCxn id="1908" idx="4"/>
            <a:endCxn id="1906" idx="0"/>
          </p:cNvCxnSpPr>
          <p:nvPr/>
        </p:nvCxnSpPr>
        <p:spPr>
          <a:xfrm>
            <a:off x="2128320" y="1990800"/>
            <a:ext cx="108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13" name=""/>
          <p:cNvCxnSpPr>
            <a:stCxn id="1908" idx="6"/>
            <a:endCxn id="1899" idx="2"/>
          </p:cNvCxnSpPr>
          <p:nvPr/>
        </p:nvCxnSpPr>
        <p:spPr>
          <a:xfrm>
            <a:off x="2182320" y="1942920"/>
            <a:ext cx="375480" cy="1080"/>
          </a:xfrm>
          <a:prstGeom prst="straightConnector1">
            <a:avLst/>
          </a:prstGeom>
          <a:ln w="9360">
            <a:solidFill>
              <a:srgbClr val="0000cc"/>
            </a:solidFill>
            <a:miter/>
          </a:ln>
        </p:spPr>
      </p:cxnSp>
      <p:cxnSp>
        <p:nvCxnSpPr>
          <p:cNvPr id="1914" name=""/>
          <p:cNvCxnSpPr>
            <a:stCxn id="1906" idx="6"/>
            <a:endCxn id="1897" idx="2"/>
          </p:cNvCxnSpPr>
          <p:nvPr/>
        </p:nvCxnSpPr>
        <p:spPr>
          <a:xfrm>
            <a:off x="2182320" y="237312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915" name=""/>
          <p:cNvSpPr/>
          <p:nvPr/>
        </p:nvSpPr>
        <p:spPr>
          <a:xfrm>
            <a:off x="4484520" y="2325600"/>
            <a:ext cx="10800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6" name=""/>
          <p:cNvSpPr/>
          <p:nvPr/>
        </p:nvSpPr>
        <p:spPr>
          <a:xfrm>
            <a:off x="4967280" y="2325600"/>
            <a:ext cx="10620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7" name=""/>
          <p:cNvSpPr/>
          <p:nvPr/>
        </p:nvSpPr>
        <p:spPr>
          <a:xfrm>
            <a:off x="4484520" y="1895400"/>
            <a:ext cx="10800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8" name=""/>
          <p:cNvSpPr/>
          <p:nvPr/>
        </p:nvSpPr>
        <p:spPr>
          <a:xfrm>
            <a:off x="4967280" y="1895400"/>
            <a:ext cx="10620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19" name=""/>
          <p:cNvCxnSpPr>
            <a:stCxn id="1917" idx="6"/>
            <a:endCxn id="1918" idx="2"/>
          </p:cNvCxnSpPr>
          <p:nvPr/>
        </p:nvCxnSpPr>
        <p:spPr>
          <a:xfrm>
            <a:off x="4592160" y="1942920"/>
            <a:ext cx="375480" cy="1080"/>
          </a:xfrm>
          <a:prstGeom prst="straightConnector1">
            <a:avLst/>
          </a:prstGeom>
          <a:ln w="9360">
            <a:solidFill>
              <a:srgbClr val="0000cc"/>
            </a:solidFill>
            <a:miter/>
          </a:ln>
        </p:spPr>
      </p:cxnSp>
      <p:cxnSp>
        <p:nvCxnSpPr>
          <p:cNvPr id="1920" name=""/>
          <p:cNvCxnSpPr>
            <a:stCxn id="1917" idx="4"/>
            <a:endCxn id="1915" idx="0"/>
          </p:cNvCxnSpPr>
          <p:nvPr/>
        </p:nvCxnSpPr>
        <p:spPr>
          <a:xfrm>
            <a:off x="4538160" y="1990800"/>
            <a:ext cx="108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21" name=""/>
          <p:cNvCxnSpPr>
            <a:stCxn id="1915" idx="6"/>
            <a:endCxn id="1916" idx="2"/>
          </p:cNvCxnSpPr>
          <p:nvPr/>
        </p:nvCxnSpPr>
        <p:spPr>
          <a:xfrm>
            <a:off x="4592160" y="237312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22" name=""/>
          <p:cNvCxnSpPr>
            <a:stCxn id="1918" idx="4"/>
            <a:endCxn id="1916" idx="0"/>
          </p:cNvCxnSpPr>
          <p:nvPr/>
        </p:nvCxnSpPr>
        <p:spPr>
          <a:xfrm>
            <a:off x="5019480" y="1990800"/>
            <a:ext cx="108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923" name=""/>
          <p:cNvSpPr/>
          <p:nvPr/>
        </p:nvSpPr>
        <p:spPr>
          <a:xfrm>
            <a:off x="3521160" y="2325600"/>
            <a:ext cx="10800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4" name=""/>
          <p:cNvSpPr/>
          <p:nvPr/>
        </p:nvSpPr>
        <p:spPr>
          <a:xfrm>
            <a:off x="4003560" y="2325600"/>
            <a:ext cx="10656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5" name=""/>
          <p:cNvSpPr/>
          <p:nvPr/>
        </p:nvSpPr>
        <p:spPr>
          <a:xfrm>
            <a:off x="3521160" y="1895400"/>
            <a:ext cx="10800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6" name=""/>
          <p:cNvSpPr/>
          <p:nvPr/>
        </p:nvSpPr>
        <p:spPr>
          <a:xfrm>
            <a:off x="4003560" y="1895400"/>
            <a:ext cx="10656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27" name=""/>
          <p:cNvCxnSpPr>
            <a:stCxn id="1925" idx="6"/>
            <a:endCxn id="1926" idx="2"/>
          </p:cNvCxnSpPr>
          <p:nvPr/>
        </p:nvCxnSpPr>
        <p:spPr>
          <a:xfrm>
            <a:off x="3629160" y="1942920"/>
            <a:ext cx="375120" cy="1080"/>
          </a:xfrm>
          <a:prstGeom prst="straightConnector1">
            <a:avLst/>
          </a:prstGeom>
          <a:ln w="9360">
            <a:solidFill>
              <a:srgbClr val="0000cc"/>
            </a:solidFill>
            <a:miter/>
          </a:ln>
        </p:spPr>
      </p:cxnSp>
      <p:cxnSp>
        <p:nvCxnSpPr>
          <p:cNvPr id="1928" name=""/>
          <p:cNvCxnSpPr>
            <a:stCxn id="1925" idx="4"/>
            <a:endCxn id="1923" idx="0"/>
          </p:cNvCxnSpPr>
          <p:nvPr/>
        </p:nvCxnSpPr>
        <p:spPr>
          <a:xfrm>
            <a:off x="3574800" y="1990800"/>
            <a:ext cx="108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29" name=""/>
          <p:cNvCxnSpPr>
            <a:stCxn id="1923" idx="6"/>
            <a:endCxn id="1924" idx="2"/>
          </p:cNvCxnSpPr>
          <p:nvPr/>
        </p:nvCxnSpPr>
        <p:spPr>
          <a:xfrm>
            <a:off x="3629160" y="2373120"/>
            <a:ext cx="37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30" name=""/>
          <p:cNvCxnSpPr>
            <a:stCxn id="1926" idx="4"/>
            <a:endCxn id="1924" idx="0"/>
          </p:cNvCxnSpPr>
          <p:nvPr/>
        </p:nvCxnSpPr>
        <p:spPr>
          <a:xfrm>
            <a:off x="4055760" y="1990800"/>
            <a:ext cx="108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31" name=""/>
          <p:cNvCxnSpPr>
            <a:stCxn id="1926" idx="6"/>
            <a:endCxn id="1917" idx="2"/>
          </p:cNvCxnSpPr>
          <p:nvPr/>
        </p:nvCxnSpPr>
        <p:spPr>
          <a:xfrm>
            <a:off x="4110120" y="1942920"/>
            <a:ext cx="375120" cy="1080"/>
          </a:xfrm>
          <a:prstGeom prst="straightConnector1">
            <a:avLst/>
          </a:prstGeom>
          <a:ln w="9360">
            <a:solidFill>
              <a:srgbClr val="0000cc"/>
            </a:solidFill>
            <a:miter/>
          </a:ln>
        </p:spPr>
      </p:cxnSp>
      <p:cxnSp>
        <p:nvCxnSpPr>
          <p:cNvPr id="1932" name=""/>
          <p:cNvCxnSpPr>
            <a:stCxn id="1924" idx="6"/>
            <a:endCxn id="1915" idx="2"/>
          </p:cNvCxnSpPr>
          <p:nvPr/>
        </p:nvCxnSpPr>
        <p:spPr>
          <a:xfrm>
            <a:off x="4110120" y="2373120"/>
            <a:ext cx="37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33" name=""/>
          <p:cNvCxnSpPr>
            <a:stCxn id="1900" idx="6"/>
            <a:endCxn id="1925" idx="2"/>
          </p:cNvCxnSpPr>
          <p:nvPr/>
        </p:nvCxnSpPr>
        <p:spPr>
          <a:xfrm>
            <a:off x="3146040" y="1942920"/>
            <a:ext cx="375480" cy="1080"/>
          </a:xfrm>
          <a:prstGeom prst="straightConnector1">
            <a:avLst/>
          </a:prstGeom>
          <a:ln w="9360">
            <a:solidFill>
              <a:srgbClr val="0000cc"/>
            </a:solidFill>
            <a:miter/>
          </a:ln>
        </p:spPr>
      </p:cxnSp>
      <p:cxnSp>
        <p:nvCxnSpPr>
          <p:cNvPr id="1934" name=""/>
          <p:cNvCxnSpPr>
            <a:stCxn id="1898" idx="6"/>
            <a:endCxn id="1923" idx="2"/>
          </p:cNvCxnSpPr>
          <p:nvPr/>
        </p:nvCxnSpPr>
        <p:spPr>
          <a:xfrm>
            <a:off x="3146040" y="237312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935" name=""/>
          <p:cNvSpPr/>
          <p:nvPr/>
        </p:nvSpPr>
        <p:spPr>
          <a:xfrm>
            <a:off x="5502240" y="2325600"/>
            <a:ext cx="10656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6" name=""/>
          <p:cNvSpPr/>
          <p:nvPr/>
        </p:nvSpPr>
        <p:spPr>
          <a:xfrm>
            <a:off x="5983200" y="2325600"/>
            <a:ext cx="10800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7" name=""/>
          <p:cNvSpPr/>
          <p:nvPr/>
        </p:nvSpPr>
        <p:spPr>
          <a:xfrm>
            <a:off x="5502240" y="1895400"/>
            <a:ext cx="10656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8" name=""/>
          <p:cNvSpPr/>
          <p:nvPr/>
        </p:nvSpPr>
        <p:spPr>
          <a:xfrm>
            <a:off x="5983200" y="1895400"/>
            <a:ext cx="10800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39" name=""/>
          <p:cNvCxnSpPr>
            <a:stCxn id="1937" idx="6"/>
            <a:endCxn id="1938" idx="2"/>
          </p:cNvCxnSpPr>
          <p:nvPr/>
        </p:nvCxnSpPr>
        <p:spPr>
          <a:xfrm>
            <a:off x="5608800" y="1942920"/>
            <a:ext cx="37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40" name=""/>
          <p:cNvCxnSpPr>
            <a:stCxn id="1937" idx="4"/>
            <a:endCxn id="1935" idx="0"/>
          </p:cNvCxnSpPr>
          <p:nvPr/>
        </p:nvCxnSpPr>
        <p:spPr>
          <a:xfrm>
            <a:off x="5555880" y="1990800"/>
            <a:ext cx="108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41" name=""/>
          <p:cNvCxnSpPr>
            <a:stCxn id="1935" idx="6"/>
            <a:endCxn id="1936" idx="2"/>
          </p:cNvCxnSpPr>
          <p:nvPr/>
        </p:nvCxnSpPr>
        <p:spPr>
          <a:xfrm>
            <a:off x="5608800" y="2373120"/>
            <a:ext cx="37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42" name=""/>
          <p:cNvCxnSpPr>
            <a:stCxn id="1938" idx="4"/>
            <a:endCxn id="1936" idx="0"/>
          </p:cNvCxnSpPr>
          <p:nvPr/>
        </p:nvCxnSpPr>
        <p:spPr>
          <a:xfrm>
            <a:off x="6036840" y="1990800"/>
            <a:ext cx="108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43" name=""/>
          <p:cNvCxnSpPr>
            <a:stCxn id="1918" idx="6"/>
            <a:endCxn id="1937" idx="2"/>
          </p:cNvCxnSpPr>
          <p:nvPr/>
        </p:nvCxnSpPr>
        <p:spPr>
          <a:xfrm>
            <a:off x="5073120" y="1942920"/>
            <a:ext cx="429480" cy="1080"/>
          </a:xfrm>
          <a:prstGeom prst="straightConnector1">
            <a:avLst/>
          </a:prstGeom>
          <a:ln w="9360">
            <a:solidFill>
              <a:srgbClr val="0000cc"/>
            </a:solidFill>
            <a:miter/>
          </a:ln>
        </p:spPr>
      </p:cxnSp>
      <p:cxnSp>
        <p:nvCxnSpPr>
          <p:cNvPr id="1944" name=""/>
          <p:cNvCxnSpPr>
            <a:stCxn id="1916" idx="6"/>
            <a:endCxn id="1935" idx="2"/>
          </p:cNvCxnSpPr>
          <p:nvPr/>
        </p:nvCxnSpPr>
        <p:spPr>
          <a:xfrm>
            <a:off x="5073120" y="2373120"/>
            <a:ext cx="429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45" name=""/>
          <p:cNvCxnSpPr>
            <a:stCxn id="1905" idx="4"/>
            <a:endCxn id="1859" idx="0"/>
          </p:cNvCxnSpPr>
          <p:nvPr/>
        </p:nvCxnSpPr>
        <p:spPr>
          <a:xfrm>
            <a:off x="1647360" y="2421000"/>
            <a:ext cx="10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46" name=""/>
          <p:cNvCxnSpPr>
            <a:stCxn id="1906" idx="4"/>
            <a:endCxn id="1860" idx="0"/>
          </p:cNvCxnSpPr>
          <p:nvPr/>
        </p:nvCxnSpPr>
        <p:spPr>
          <a:xfrm>
            <a:off x="2128320" y="2421000"/>
            <a:ext cx="10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47" name=""/>
          <p:cNvCxnSpPr>
            <a:stCxn id="1897" idx="4"/>
            <a:endCxn id="1851" idx="0"/>
          </p:cNvCxnSpPr>
          <p:nvPr/>
        </p:nvCxnSpPr>
        <p:spPr>
          <a:xfrm>
            <a:off x="2611080" y="2421000"/>
            <a:ext cx="10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48" name=""/>
          <p:cNvCxnSpPr>
            <a:stCxn id="1898" idx="4"/>
            <a:endCxn id="1852" idx="0"/>
          </p:cNvCxnSpPr>
          <p:nvPr/>
        </p:nvCxnSpPr>
        <p:spPr>
          <a:xfrm>
            <a:off x="3092040" y="2421000"/>
            <a:ext cx="10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49" name=""/>
          <p:cNvCxnSpPr>
            <a:stCxn id="1923" idx="4"/>
            <a:endCxn id="1877" idx="0"/>
          </p:cNvCxnSpPr>
          <p:nvPr/>
        </p:nvCxnSpPr>
        <p:spPr>
          <a:xfrm>
            <a:off x="3574800" y="2421000"/>
            <a:ext cx="10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50" name=""/>
          <p:cNvCxnSpPr>
            <a:stCxn id="1924" idx="4"/>
            <a:endCxn id="1878" idx="0"/>
          </p:cNvCxnSpPr>
          <p:nvPr/>
        </p:nvCxnSpPr>
        <p:spPr>
          <a:xfrm>
            <a:off x="4055760" y="2421000"/>
            <a:ext cx="10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51" name=""/>
          <p:cNvCxnSpPr>
            <a:stCxn id="1915" idx="4"/>
            <a:endCxn id="1869" idx="0"/>
          </p:cNvCxnSpPr>
          <p:nvPr/>
        </p:nvCxnSpPr>
        <p:spPr>
          <a:xfrm>
            <a:off x="4538160" y="2421000"/>
            <a:ext cx="10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52" name=""/>
          <p:cNvCxnSpPr>
            <a:stCxn id="1916" idx="4"/>
            <a:endCxn id="1870" idx="0"/>
          </p:cNvCxnSpPr>
          <p:nvPr/>
        </p:nvCxnSpPr>
        <p:spPr>
          <a:xfrm>
            <a:off x="5019480" y="2421000"/>
            <a:ext cx="10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53" name=""/>
          <p:cNvCxnSpPr>
            <a:stCxn id="1935" idx="4"/>
            <a:endCxn id="1889" idx="0"/>
          </p:cNvCxnSpPr>
          <p:nvPr/>
        </p:nvCxnSpPr>
        <p:spPr>
          <a:xfrm>
            <a:off x="5555880" y="2421000"/>
            <a:ext cx="10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54" name=""/>
          <p:cNvCxnSpPr>
            <a:stCxn id="1936" idx="4"/>
            <a:endCxn id="1890" idx="0"/>
          </p:cNvCxnSpPr>
          <p:nvPr/>
        </p:nvCxnSpPr>
        <p:spPr>
          <a:xfrm>
            <a:off x="6036840" y="2421000"/>
            <a:ext cx="10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55" name=""/>
          <p:cNvCxnSpPr>
            <a:stCxn id="1857" idx="4"/>
            <a:endCxn id="1801" idx="0"/>
          </p:cNvCxnSpPr>
          <p:nvPr/>
        </p:nvCxnSpPr>
        <p:spPr>
          <a:xfrm>
            <a:off x="1647360" y="327924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56" name=""/>
          <p:cNvCxnSpPr>
            <a:stCxn id="1858" idx="4"/>
            <a:endCxn id="1802" idx="0"/>
          </p:cNvCxnSpPr>
          <p:nvPr/>
        </p:nvCxnSpPr>
        <p:spPr>
          <a:xfrm>
            <a:off x="2128320" y="327924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57" name=""/>
          <p:cNvCxnSpPr>
            <a:stCxn id="1849" idx="4"/>
            <a:endCxn id="1793" idx="0"/>
          </p:cNvCxnSpPr>
          <p:nvPr/>
        </p:nvCxnSpPr>
        <p:spPr>
          <a:xfrm>
            <a:off x="2611080" y="327924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58" name=""/>
          <p:cNvCxnSpPr>
            <a:stCxn id="1850" idx="4"/>
            <a:endCxn id="1794" idx="0"/>
          </p:cNvCxnSpPr>
          <p:nvPr/>
        </p:nvCxnSpPr>
        <p:spPr>
          <a:xfrm>
            <a:off x="3092040" y="327924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59" name=""/>
          <p:cNvCxnSpPr>
            <a:stCxn id="1875" idx="4"/>
            <a:endCxn id="1819" idx="0"/>
          </p:cNvCxnSpPr>
          <p:nvPr/>
        </p:nvCxnSpPr>
        <p:spPr>
          <a:xfrm>
            <a:off x="3574800" y="327924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60" name=""/>
          <p:cNvCxnSpPr>
            <a:stCxn id="1876" idx="4"/>
            <a:endCxn id="1820" idx="0"/>
          </p:cNvCxnSpPr>
          <p:nvPr/>
        </p:nvCxnSpPr>
        <p:spPr>
          <a:xfrm>
            <a:off x="4055760" y="327924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61" name=""/>
          <p:cNvCxnSpPr>
            <a:stCxn id="1867" idx="4"/>
            <a:endCxn id="1811" idx="0"/>
          </p:cNvCxnSpPr>
          <p:nvPr/>
        </p:nvCxnSpPr>
        <p:spPr>
          <a:xfrm>
            <a:off x="4538160" y="327924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62" name=""/>
          <p:cNvCxnSpPr>
            <a:stCxn id="1868" idx="4"/>
            <a:endCxn id="1812" idx="0"/>
          </p:cNvCxnSpPr>
          <p:nvPr/>
        </p:nvCxnSpPr>
        <p:spPr>
          <a:xfrm>
            <a:off x="5019480" y="327924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63" name=""/>
          <p:cNvCxnSpPr>
            <a:stCxn id="1887" idx="4"/>
            <a:endCxn id="1831" idx="0"/>
          </p:cNvCxnSpPr>
          <p:nvPr/>
        </p:nvCxnSpPr>
        <p:spPr>
          <a:xfrm>
            <a:off x="5555880" y="327924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64" name=""/>
          <p:cNvCxnSpPr>
            <a:stCxn id="1888" idx="4"/>
            <a:endCxn id="1832" idx="0"/>
          </p:cNvCxnSpPr>
          <p:nvPr/>
        </p:nvCxnSpPr>
        <p:spPr>
          <a:xfrm>
            <a:off x="6036840" y="327924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965" name=""/>
          <p:cNvSpPr/>
          <p:nvPr/>
        </p:nvSpPr>
        <p:spPr>
          <a:xfrm>
            <a:off x="2560680" y="5762520"/>
            <a:ext cx="10800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6" name=""/>
          <p:cNvSpPr/>
          <p:nvPr/>
        </p:nvSpPr>
        <p:spPr>
          <a:xfrm>
            <a:off x="3043080" y="5762520"/>
            <a:ext cx="10656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67" name=""/>
          <p:cNvCxnSpPr>
            <a:stCxn id="1965" idx="6"/>
            <a:endCxn id="1966" idx="2"/>
          </p:cNvCxnSpPr>
          <p:nvPr/>
        </p:nvCxnSpPr>
        <p:spPr>
          <a:xfrm>
            <a:off x="2668680" y="5810040"/>
            <a:ext cx="37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968" name=""/>
          <p:cNvSpPr/>
          <p:nvPr/>
        </p:nvSpPr>
        <p:spPr>
          <a:xfrm>
            <a:off x="1596960" y="5762520"/>
            <a:ext cx="108000" cy="95400"/>
          </a:xfrm>
          <a:prstGeom prst="ellipse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9" name=""/>
          <p:cNvSpPr/>
          <p:nvPr/>
        </p:nvSpPr>
        <p:spPr>
          <a:xfrm>
            <a:off x="2079720" y="5762520"/>
            <a:ext cx="10620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70" name=""/>
          <p:cNvCxnSpPr>
            <a:stCxn id="1968" idx="6"/>
            <a:endCxn id="1969" idx="2"/>
          </p:cNvCxnSpPr>
          <p:nvPr/>
        </p:nvCxnSpPr>
        <p:spPr>
          <a:xfrm>
            <a:off x="1704600" y="581004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71" name=""/>
          <p:cNvCxnSpPr>
            <a:stCxn id="1969" idx="6"/>
            <a:endCxn id="1965" idx="2"/>
          </p:cNvCxnSpPr>
          <p:nvPr/>
        </p:nvCxnSpPr>
        <p:spPr>
          <a:xfrm>
            <a:off x="2185560" y="581004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972" name=""/>
          <p:cNvSpPr/>
          <p:nvPr/>
        </p:nvSpPr>
        <p:spPr>
          <a:xfrm>
            <a:off x="4487760" y="5762520"/>
            <a:ext cx="10800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"/>
          <p:cNvSpPr/>
          <p:nvPr/>
        </p:nvSpPr>
        <p:spPr>
          <a:xfrm>
            <a:off x="4970520" y="5762520"/>
            <a:ext cx="10620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74" name=""/>
          <p:cNvCxnSpPr>
            <a:stCxn id="1972" idx="6"/>
            <a:endCxn id="1973" idx="2"/>
          </p:cNvCxnSpPr>
          <p:nvPr/>
        </p:nvCxnSpPr>
        <p:spPr>
          <a:xfrm>
            <a:off x="4595400" y="581004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975" name=""/>
          <p:cNvSpPr/>
          <p:nvPr/>
        </p:nvSpPr>
        <p:spPr>
          <a:xfrm>
            <a:off x="3524400" y="5762520"/>
            <a:ext cx="10764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6" name=""/>
          <p:cNvSpPr/>
          <p:nvPr/>
        </p:nvSpPr>
        <p:spPr>
          <a:xfrm>
            <a:off x="4006800" y="5762520"/>
            <a:ext cx="10656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77" name=""/>
          <p:cNvCxnSpPr>
            <a:stCxn id="1975" idx="6"/>
            <a:endCxn id="1976" idx="2"/>
          </p:cNvCxnSpPr>
          <p:nvPr/>
        </p:nvCxnSpPr>
        <p:spPr>
          <a:xfrm>
            <a:off x="3631680" y="581004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78" name=""/>
          <p:cNvCxnSpPr>
            <a:stCxn id="1976" idx="6"/>
            <a:endCxn id="1972" idx="2"/>
          </p:cNvCxnSpPr>
          <p:nvPr/>
        </p:nvCxnSpPr>
        <p:spPr>
          <a:xfrm>
            <a:off x="4113360" y="5810040"/>
            <a:ext cx="37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79" name=""/>
          <p:cNvCxnSpPr>
            <a:stCxn id="1966" idx="6"/>
            <a:endCxn id="1975" idx="2"/>
          </p:cNvCxnSpPr>
          <p:nvPr/>
        </p:nvCxnSpPr>
        <p:spPr>
          <a:xfrm>
            <a:off x="3149280" y="581004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980" name=""/>
          <p:cNvSpPr/>
          <p:nvPr/>
        </p:nvSpPr>
        <p:spPr>
          <a:xfrm>
            <a:off x="5505480" y="5762520"/>
            <a:ext cx="10620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1" name=""/>
          <p:cNvSpPr/>
          <p:nvPr/>
        </p:nvSpPr>
        <p:spPr>
          <a:xfrm>
            <a:off x="5987880" y="5762520"/>
            <a:ext cx="10656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2" name=""/>
          <p:cNvCxnSpPr>
            <a:stCxn id="1980" idx="6"/>
            <a:endCxn id="1981" idx="2"/>
          </p:cNvCxnSpPr>
          <p:nvPr/>
        </p:nvCxnSpPr>
        <p:spPr>
          <a:xfrm>
            <a:off x="5611320" y="5810040"/>
            <a:ext cx="376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83" name=""/>
          <p:cNvCxnSpPr>
            <a:stCxn id="1973" idx="6"/>
            <a:endCxn id="1980" idx="2"/>
          </p:cNvCxnSpPr>
          <p:nvPr/>
        </p:nvCxnSpPr>
        <p:spPr>
          <a:xfrm>
            <a:off x="5076360" y="5810040"/>
            <a:ext cx="429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984" name=""/>
          <p:cNvSpPr/>
          <p:nvPr/>
        </p:nvSpPr>
        <p:spPr>
          <a:xfrm>
            <a:off x="2560680" y="5332320"/>
            <a:ext cx="10800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5" name=""/>
          <p:cNvSpPr/>
          <p:nvPr/>
        </p:nvSpPr>
        <p:spPr>
          <a:xfrm>
            <a:off x="3043080" y="5332320"/>
            <a:ext cx="10656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6" name=""/>
          <p:cNvSpPr/>
          <p:nvPr/>
        </p:nvSpPr>
        <p:spPr>
          <a:xfrm>
            <a:off x="2560680" y="4903920"/>
            <a:ext cx="10800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7" name=""/>
          <p:cNvSpPr/>
          <p:nvPr/>
        </p:nvSpPr>
        <p:spPr>
          <a:xfrm>
            <a:off x="3043080" y="4903920"/>
            <a:ext cx="10656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8" name=""/>
          <p:cNvCxnSpPr>
            <a:stCxn id="1986" idx="6"/>
            <a:endCxn id="1987" idx="2"/>
          </p:cNvCxnSpPr>
          <p:nvPr/>
        </p:nvCxnSpPr>
        <p:spPr>
          <a:xfrm>
            <a:off x="2668680" y="4951080"/>
            <a:ext cx="37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89" name=""/>
          <p:cNvCxnSpPr>
            <a:stCxn id="1986" idx="4"/>
            <a:endCxn id="1984" idx="0"/>
          </p:cNvCxnSpPr>
          <p:nvPr/>
        </p:nvCxnSpPr>
        <p:spPr>
          <a:xfrm>
            <a:off x="2614320" y="4998960"/>
            <a:ext cx="10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90" name=""/>
          <p:cNvCxnSpPr>
            <a:stCxn id="1984" idx="6"/>
            <a:endCxn id="1985" idx="2"/>
          </p:cNvCxnSpPr>
          <p:nvPr/>
        </p:nvCxnSpPr>
        <p:spPr>
          <a:xfrm>
            <a:off x="2668680" y="5379840"/>
            <a:ext cx="37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91" name=""/>
          <p:cNvCxnSpPr>
            <a:stCxn id="1987" idx="4"/>
            <a:endCxn id="1985" idx="0"/>
          </p:cNvCxnSpPr>
          <p:nvPr/>
        </p:nvCxnSpPr>
        <p:spPr>
          <a:xfrm>
            <a:off x="3095280" y="4998960"/>
            <a:ext cx="10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992" name=""/>
          <p:cNvSpPr/>
          <p:nvPr/>
        </p:nvSpPr>
        <p:spPr>
          <a:xfrm>
            <a:off x="1596960" y="5332320"/>
            <a:ext cx="10800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3" name=""/>
          <p:cNvSpPr/>
          <p:nvPr/>
        </p:nvSpPr>
        <p:spPr>
          <a:xfrm>
            <a:off x="2079720" y="5332320"/>
            <a:ext cx="10620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4" name=""/>
          <p:cNvSpPr/>
          <p:nvPr/>
        </p:nvSpPr>
        <p:spPr>
          <a:xfrm>
            <a:off x="1596960" y="4903920"/>
            <a:ext cx="10800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5" name=""/>
          <p:cNvSpPr/>
          <p:nvPr/>
        </p:nvSpPr>
        <p:spPr>
          <a:xfrm>
            <a:off x="2079720" y="4903920"/>
            <a:ext cx="10620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96" name=""/>
          <p:cNvCxnSpPr>
            <a:stCxn id="1994" idx="6"/>
            <a:endCxn id="1995" idx="2"/>
          </p:cNvCxnSpPr>
          <p:nvPr/>
        </p:nvCxnSpPr>
        <p:spPr>
          <a:xfrm>
            <a:off x="1704600" y="495108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97" name=""/>
          <p:cNvCxnSpPr>
            <a:stCxn id="1994" idx="4"/>
            <a:endCxn id="1992" idx="0"/>
          </p:cNvCxnSpPr>
          <p:nvPr/>
        </p:nvCxnSpPr>
        <p:spPr>
          <a:xfrm>
            <a:off x="1650600" y="4998960"/>
            <a:ext cx="10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98" name=""/>
          <p:cNvCxnSpPr>
            <a:stCxn id="1992" idx="6"/>
            <a:endCxn id="1993" idx="2"/>
          </p:cNvCxnSpPr>
          <p:nvPr/>
        </p:nvCxnSpPr>
        <p:spPr>
          <a:xfrm>
            <a:off x="1704600" y="537984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99" name=""/>
          <p:cNvCxnSpPr>
            <a:stCxn id="1995" idx="4"/>
            <a:endCxn id="1993" idx="0"/>
          </p:cNvCxnSpPr>
          <p:nvPr/>
        </p:nvCxnSpPr>
        <p:spPr>
          <a:xfrm>
            <a:off x="2131560" y="4998960"/>
            <a:ext cx="10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00" name=""/>
          <p:cNvCxnSpPr>
            <a:stCxn id="1995" idx="6"/>
            <a:endCxn id="1986" idx="2"/>
          </p:cNvCxnSpPr>
          <p:nvPr/>
        </p:nvCxnSpPr>
        <p:spPr>
          <a:xfrm>
            <a:off x="2185560" y="495108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01" name=""/>
          <p:cNvCxnSpPr>
            <a:stCxn id="1993" idx="6"/>
            <a:endCxn id="1984" idx="2"/>
          </p:cNvCxnSpPr>
          <p:nvPr/>
        </p:nvCxnSpPr>
        <p:spPr>
          <a:xfrm>
            <a:off x="2185560" y="537984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002" name=""/>
          <p:cNvSpPr/>
          <p:nvPr/>
        </p:nvSpPr>
        <p:spPr>
          <a:xfrm>
            <a:off x="4487760" y="5332320"/>
            <a:ext cx="10800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3" name=""/>
          <p:cNvSpPr/>
          <p:nvPr/>
        </p:nvSpPr>
        <p:spPr>
          <a:xfrm>
            <a:off x="4970520" y="5332320"/>
            <a:ext cx="10620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4" name=""/>
          <p:cNvSpPr/>
          <p:nvPr/>
        </p:nvSpPr>
        <p:spPr>
          <a:xfrm>
            <a:off x="4487760" y="4903920"/>
            <a:ext cx="10800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5" name=""/>
          <p:cNvSpPr/>
          <p:nvPr/>
        </p:nvSpPr>
        <p:spPr>
          <a:xfrm>
            <a:off x="4970520" y="4903920"/>
            <a:ext cx="10620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06" name=""/>
          <p:cNvCxnSpPr>
            <a:stCxn id="2004" idx="6"/>
            <a:endCxn id="2005" idx="2"/>
          </p:cNvCxnSpPr>
          <p:nvPr/>
        </p:nvCxnSpPr>
        <p:spPr>
          <a:xfrm>
            <a:off x="4595400" y="495108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07" name=""/>
          <p:cNvCxnSpPr>
            <a:stCxn id="2004" idx="4"/>
            <a:endCxn id="2002" idx="0"/>
          </p:cNvCxnSpPr>
          <p:nvPr/>
        </p:nvCxnSpPr>
        <p:spPr>
          <a:xfrm>
            <a:off x="4541400" y="4998960"/>
            <a:ext cx="10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08" name=""/>
          <p:cNvCxnSpPr>
            <a:stCxn id="2002" idx="6"/>
            <a:endCxn id="2003" idx="2"/>
          </p:cNvCxnSpPr>
          <p:nvPr/>
        </p:nvCxnSpPr>
        <p:spPr>
          <a:xfrm>
            <a:off x="4595400" y="537984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09" name=""/>
          <p:cNvCxnSpPr>
            <a:stCxn id="2005" idx="4"/>
            <a:endCxn id="2003" idx="0"/>
          </p:cNvCxnSpPr>
          <p:nvPr/>
        </p:nvCxnSpPr>
        <p:spPr>
          <a:xfrm>
            <a:off x="5024160" y="4998960"/>
            <a:ext cx="10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010" name=""/>
          <p:cNvSpPr/>
          <p:nvPr/>
        </p:nvSpPr>
        <p:spPr>
          <a:xfrm>
            <a:off x="3524400" y="5332320"/>
            <a:ext cx="10764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1" name=""/>
          <p:cNvSpPr/>
          <p:nvPr/>
        </p:nvSpPr>
        <p:spPr>
          <a:xfrm>
            <a:off x="4006800" y="5332320"/>
            <a:ext cx="10656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2" name=""/>
          <p:cNvSpPr/>
          <p:nvPr/>
        </p:nvSpPr>
        <p:spPr>
          <a:xfrm>
            <a:off x="3524400" y="4903920"/>
            <a:ext cx="10764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3" name=""/>
          <p:cNvSpPr/>
          <p:nvPr/>
        </p:nvSpPr>
        <p:spPr>
          <a:xfrm>
            <a:off x="4006800" y="4903920"/>
            <a:ext cx="10656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14" name=""/>
          <p:cNvCxnSpPr>
            <a:stCxn id="2012" idx="6"/>
            <a:endCxn id="2013" idx="2"/>
          </p:cNvCxnSpPr>
          <p:nvPr/>
        </p:nvCxnSpPr>
        <p:spPr>
          <a:xfrm>
            <a:off x="3631680" y="495108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15" name=""/>
          <p:cNvCxnSpPr>
            <a:stCxn id="2012" idx="4"/>
            <a:endCxn id="2010" idx="0"/>
          </p:cNvCxnSpPr>
          <p:nvPr/>
        </p:nvCxnSpPr>
        <p:spPr>
          <a:xfrm>
            <a:off x="3578040" y="4998960"/>
            <a:ext cx="10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16" name=""/>
          <p:cNvCxnSpPr>
            <a:stCxn id="2010" idx="6"/>
            <a:endCxn id="2011" idx="2"/>
          </p:cNvCxnSpPr>
          <p:nvPr/>
        </p:nvCxnSpPr>
        <p:spPr>
          <a:xfrm>
            <a:off x="3631680" y="537984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17" name=""/>
          <p:cNvCxnSpPr>
            <a:stCxn id="2013" idx="4"/>
            <a:endCxn id="2011" idx="0"/>
          </p:cNvCxnSpPr>
          <p:nvPr/>
        </p:nvCxnSpPr>
        <p:spPr>
          <a:xfrm>
            <a:off x="4059000" y="4998960"/>
            <a:ext cx="10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18" name=""/>
          <p:cNvCxnSpPr>
            <a:stCxn id="2013" idx="6"/>
            <a:endCxn id="2004" idx="2"/>
          </p:cNvCxnSpPr>
          <p:nvPr/>
        </p:nvCxnSpPr>
        <p:spPr>
          <a:xfrm>
            <a:off x="4113360" y="4951080"/>
            <a:ext cx="37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19" name=""/>
          <p:cNvCxnSpPr>
            <a:stCxn id="2011" idx="6"/>
            <a:endCxn id="2002" idx="2"/>
          </p:cNvCxnSpPr>
          <p:nvPr/>
        </p:nvCxnSpPr>
        <p:spPr>
          <a:xfrm>
            <a:off x="4113360" y="5379840"/>
            <a:ext cx="37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20" name=""/>
          <p:cNvCxnSpPr>
            <a:stCxn id="1987" idx="6"/>
            <a:endCxn id="2012" idx="2"/>
          </p:cNvCxnSpPr>
          <p:nvPr/>
        </p:nvCxnSpPr>
        <p:spPr>
          <a:xfrm>
            <a:off x="3149280" y="495108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21" name=""/>
          <p:cNvCxnSpPr>
            <a:stCxn id="1985" idx="6"/>
            <a:endCxn id="2010" idx="2"/>
          </p:cNvCxnSpPr>
          <p:nvPr/>
        </p:nvCxnSpPr>
        <p:spPr>
          <a:xfrm>
            <a:off x="3149280" y="537984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022" name=""/>
          <p:cNvSpPr/>
          <p:nvPr/>
        </p:nvSpPr>
        <p:spPr>
          <a:xfrm>
            <a:off x="5505480" y="5332320"/>
            <a:ext cx="10620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3" name=""/>
          <p:cNvSpPr/>
          <p:nvPr/>
        </p:nvSpPr>
        <p:spPr>
          <a:xfrm>
            <a:off x="5987880" y="5332320"/>
            <a:ext cx="10656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4" name=""/>
          <p:cNvSpPr/>
          <p:nvPr/>
        </p:nvSpPr>
        <p:spPr>
          <a:xfrm>
            <a:off x="5505480" y="4903920"/>
            <a:ext cx="10620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5" name=""/>
          <p:cNvSpPr/>
          <p:nvPr/>
        </p:nvSpPr>
        <p:spPr>
          <a:xfrm>
            <a:off x="5987880" y="4903920"/>
            <a:ext cx="10656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26" name=""/>
          <p:cNvCxnSpPr>
            <a:stCxn id="2024" idx="6"/>
            <a:endCxn id="2025" idx="2"/>
          </p:cNvCxnSpPr>
          <p:nvPr/>
        </p:nvCxnSpPr>
        <p:spPr>
          <a:xfrm>
            <a:off x="5611320" y="4951080"/>
            <a:ext cx="376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27" name=""/>
          <p:cNvCxnSpPr>
            <a:stCxn id="2024" idx="4"/>
            <a:endCxn id="2022" idx="0"/>
          </p:cNvCxnSpPr>
          <p:nvPr/>
        </p:nvCxnSpPr>
        <p:spPr>
          <a:xfrm>
            <a:off x="5559120" y="4998960"/>
            <a:ext cx="10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28" name=""/>
          <p:cNvCxnSpPr>
            <a:stCxn id="2022" idx="6"/>
            <a:endCxn id="2023" idx="2"/>
          </p:cNvCxnSpPr>
          <p:nvPr/>
        </p:nvCxnSpPr>
        <p:spPr>
          <a:xfrm>
            <a:off x="5611320" y="5379840"/>
            <a:ext cx="376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29" name=""/>
          <p:cNvCxnSpPr>
            <a:stCxn id="2025" idx="4"/>
            <a:endCxn id="2023" idx="0"/>
          </p:cNvCxnSpPr>
          <p:nvPr/>
        </p:nvCxnSpPr>
        <p:spPr>
          <a:xfrm>
            <a:off x="6040080" y="4998960"/>
            <a:ext cx="10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30" name=""/>
          <p:cNvCxnSpPr>
            <a:stCxn id="2005" idx="6"/>
            <a:endCxn id="2024" idx="2"/>
          </p:cNvCxnSpPr>
          <p:nvPr/>
        </p:nvCxnSpPr>
        <p:spPr>
          <a:xfrm>
            <a:off x="5076360" y="4951080"/>
            <a:ext cx="429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31" name=""/>
          <p:cNvCxnSpPr>
            <a:stCxn id="2003" idx="6"/>
            <a:endCxn id="2022" idx="2"/>
          </p:cNvCxnSpPr>
          <p:nvPr/>
        </p:nvCxnSpPr>
        <p:spPr>
          <a:xfrm>
            <a:off x="5076360" y="5379840"/>
            <a:ext cx="429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32" name=""/>
          <p:cNvCxnSpPr>
            <a:stCxn id="1992" idx="4"/>
            <a:endCxn id="1968" idx="0"/>
          </p:cNvCxnSpPr>
          <p:nvPr/>
        </p:nvCxnSpPr>
        <p:spPr>
          <a:xfrm>
            <a:off x="1650600" y="5427720"/>
            <a:ext cx="108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33" name=""/>
          <p:cNvCxnSpPr>
            <a:stCxn id="1993" idx="4"/>
            <a:endCxn id="1969" idx="0"/>
          </p:cNvCxnSpPr>
          <p:nvPr/>
        </p:nvCxnSpPr>
        <p:spPr>
          <a:xfrm>
            <a:off x="2131560" y="5427720"/>
            <a:ext cx="108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34" name=""/>
          <p:cNvCxnSpPr>
            <a:stCxn id="1984" idx="4"/>
            <a:endCxn id="1965" idx="0"/>
          </p:cNvCxnSpPr>
          <p:nvPr/>
        </p:nvCxnSpPr>
        <p:spPr>
          <a:xfrm>
            <a:off x="2614320" y="5427720"/>
            <a:ext cx="108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35" name=""/>
          <p:cNvCxnSpPr>
            <a:stCxn id="1985" idx="4"/>
            <a:endCxn id="1966" idx="0"/>
          </p:cNvCxnSpPr>
          <p:nvPr/>
        </p:nvCxnSpPr>
        <p:spPr>
          <a:xfrm>
            <a:off x="3095280" y="5427720"/>
            <a:ext cx="108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36" name=""/>
          <p:cNvCxnSpPr>
            <a:stCxn id="2010" idx="4"/>
            <a:endCxn id="1975" idx="0"/>
          </p:cNvCxnSpPr>
          <p:nvPr/>
        </p:nvCxnSpPr>
        <p:spPr>
          <a:xfrm>
            <a:off x="3578040" y="5427720"/>
            <a:ext cx="108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37" name=""/>
          <p:cNvCxnSpPr>
            <a:stCxn id="2011" idx="4"/>
            <a:endCxn id="1976" idx="0"/>
          </p:cNvCxnSpPr>
          <p:nvPr/>
        </p:nvCxnSpPr>
        <p:spPr>
          <a:xfrm>
            <a:off x="4059000" y="5427720"/>
            <a:ext cx="108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38" name=""/>
          <p:cNvCxnSpPr>
            <a:stCxn id="2002" idx="4"/>
            <a:endCxn id="1972" idx="0"/>
          </p:cNvCxnSpPr>
          <p:nvPr/>
        </p:nvCxnSpPr>
        <p:spPr>
          <a:xfrm>
            <a:off x="4541400" y="5427720"/>
            <a:ext cx="108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39" name=""/>
          <p:cNvCxnSpPr>
            <a:stCxn id="2003" idx="4"/>
            <a:endCxn id="1973" idx="0"/>
          </p:cNvCxnSpPr>
          <p:nvPr/>
        </p:nvCxnSpPr>
        <p:spPr>
          <a:xfrm>
            <a:off x="5024160" y="5427720"/>
            <a:ext cx="108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40" name=""/>
          <p:cNvCxnSpPr>
            <a:stCxn id="2022" idx="4"/>
            <a:endCxn id="1980" idx="0"/>
          </p:cNvCxnSpPr>
          <p:nvPr/>
        </p:nvCxnSpPr>
        <p:spPr>
          <a:xfrm>
            <a:off x="5559120" y="5427720"/>
            <a:ext cx="108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41" name=""/>
          <p:cNvCxnSpPr>
            <a:stCxn id="2023" idx="4"/>
            <a:endCxn id="1981" idx="0"/>
          </p:cNvCxnSpPr>
          <p:nvPr/>
        </p:nvCxnSpPr>
        <p:spPr>
          <a:xfrm>
            <a:off x="6040080" y="5427720"/>
            <a:ext cx="108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042" name=""/>
          <p:cNvSpPr/>
          <p:nvPr/>
        </p:nvSpPr>
        <p:spPr>
          <a:xfrm>
            <a:off x="2771640" y="5762520"/>
            <a:ext cx="160560" cy="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"/>
          <p:cNvSpPr/>
          <p:nvPr/>
        </p:nvSpPr>
        <p:spPr>
          <a:xfrm>
            <a:off x="3252960" y="5762520"/>
            <a:ext cx="161640" cy="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4" name=""/>
          <p:cNvSpPr/>
          <p:nvPr/>
        </p:nvSpPr>
        <p:spPr>
          <a:xfrm>
            <a:off x="3735360" y="5762520"/>
            <a:ext cx="160200" cy="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5" name=""/>
          <p:cNvSpPr/>
          <p:nvPr/>
        </p:nvSpPr>
        <p:spPr>
          <a:xfrm>
            <a:off x="4218120" y="5762520"/>
            <a:ext cx="160200" cy="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"/>
          <p:cNvSpPr/>
          <p:nvPr/>
        </p:nvSpPr>
        <p:spPr>
          <a:xfrm>
            <a:off x="4699080" y="5762520"/>
            <a:ext cx="160200" cy="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7" name=""/>
          <p:cNvSpPr/>
          <p:nvPr/>
        </p:nvSpPr>
        <p:spPr>
          <a:xfrm>
            <a:off x="5181480" y="5762520"/>
            <a:ext cx="160560" cy="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8" name=""/>
          <p:cNvSpPr/>
          <p:nvPr/>
        </p:nvSpPr>
        <p:spPr>
          <a:xfrm>
            <a:off x="5716440" y="5762520"/>
            <a:ext cx="160560" cy="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"/>
          <p:cNvSpPr/>
          <p:nvPr/>
        </p:nvSpPr>
        <p:spPr>
          <a:xfrm>
            <a:off x="2289240" y="5762520"/>
            <a:ext cx="162000" cy="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0" name=""/>
          <p:cNvSpPr/>
          <p:nvPr/>
        </p:nvSpPr>
        <p:spPr>
          <a:xfrm>
            <a:off x="1808280" y="5762520"/>
            <a:ext cx="160200" cy="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1" name=""/>
          <p:cNvSpPr/>
          <p:nvPr/>
        </p:nvSpPr>
        <p:spPr>
          <a:xfrm>
            <a:off x="2771640" y="4473720"/>
            <a:ext cx="160560" cy="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"/>
          <p:cNvSpPr/>
          <p:nvPr/>
        </p:nvSpPr>
        <p:spPr>
          <a:xfrm>
            <a:off x="3252960" y="4473720"/>
            <a:ext cx="161640" cy="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3" name=""/>
          <p:cNvSpPr/>
          <p:nvPr/>
        </p:nvSpPr>
        <p:spPr>
          <a:xfrm>
            <a:off x="3735360" y="4473720"/>
            <a:ext cx="160200" cy="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4" name=""/>
          <p:cNvSpPr/>
          <p:nvPr/>
        </p:nvSpPr>
        <p:spPr>
          <a:xfrm>
            <a:off x="4218120" y="4473720"/>
            <a:ext cx="160200" cy="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"/>
          <p:cNvSpPr/>
          <p:nvPr/>
        </p:nvSpPr>
        <p:spPr>
          <a:xfrm>
            <a:off x="4699080" y="4473720"/>
            <a:ext cx="160200" cy="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6" name=""/>
          <p:cNvSpPr/>
          <p:nvPr/>
        </p:nvSpPr>
        <p:spPr>
          <a:xfrm>
            <a:off x="5181480" y="4473720"/>
            <a:ext cx="160560" cy="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7" name=""/>
          <p:cNvSpPr/>
          <p:nvPr/>
        </p:nvSpPr>
        <p:spPr>
          <a:xfrm>
            <a:off x="5716440" y="4473720"/>
            <a:ext cx="160560" cy="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"/>
          <p:cNvSpPr/>
          <p:nvPr/>
        </p:nvSpPr>
        <p:spPr>
          <a:xfrm>
            <a:off x="2289240" y="4473720"/>
            <a:ext cx="162000" cy="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9" name=""/>
          <p:cNvSpPr/>
          <p:nvPr/>
        </p:nvSpPr>
        <p:spPr>
          <a:xfrm>
            <a:off x="1808280" y="4473720"/>
            <a:ext cx="160200" cy="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0" name=""/>
          <p:cNvSpPr/>
          <p:nvPr/>
        </p:nvSpPr>
        <p:spPr>
          <a:xfrm>
            <a:off x="2771640" y="3184560"/>
            <a:ext cx="160560" cy="0"/>
          </a:xfrm>
          <a:prstGeom prst="line">
            <a:avLst/>
          </a:prstGeom>
          <a:ln cap="rnd" w="9360">
            <a:solidFill>
              <a:srgbClr val="0000cc">
                <a:alpha val="34000"/>
              </a:srgbClr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"/>
          <p:cNvSpPr/>
          <p:nvPr/>
        </p:nvSpPr>
        <p:spPr>
          <a:xfrm>
            <a:off x="3252960" y="3184560"/>
            <a:ext cx="161640" cy="0"/>
          </a:xfrm>
          <a:prstGeom prst="line">
            <a:avLst/>
          </a:prstGeom>
          <a:ln cap="rnd" w="9360">
            <a:solidFill>
              <a:srgbClr val="0000cc">
                <a:alpha val="34000"/>
              </a:srgbClr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2" name=""/>
          <p:cNvSpPr/>
          <p:nvPr/>
        </p:nvSpPr>
        <p:spPr>
          <a:xfrm>
            <a:off x="3735360" y="3184560"/>
            <a:ext cx="160200" cy="0"/>
          </a:xfrm>
          <a:prstGeom prst="line">
            <a:avLst/>
          </a:prstGeom>
          <a:ln cap="rnd" w="9360">
            <a:solidFill>
              <a:srgbClr val="0000cc">
                <a:alpha val="34000"/>
              </a:srgbClr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3" name=""/>
          <p:cNvSpPr/>
          <p:nvPr/>
        </p:nvSpPr>
        <p:spPr>
          <a:xfrm>
            <a:off x="4218120" y="3184560"/>
            <a:ext cx="160200" cy="0"/>
          </a:xfrm>
          <a:prstGeom prst="line">
            <a:avLst/>
          </a:prstGeom>
          <a:ln cap="rnd" w="9360">
            <a:solidFill>
              <a:srgbClr val="0000cc">
                <a:alpha val="34000"/>
              </a:srgbClr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"/>
          <p:cNvSpPr/>
          <p:nvPr/>
        </p:nvSpPr>
        <p:spPr>
          <a:xfrm>
            <a:off x="4699080" y="3184560"/>
            <a:ext cx="160200" cy="0"/>
          </a:xfrm>
          <a:prstGeom prst="line">
            <a:avLst/>
          </a:prstGeom>
          <a:ln cap="rnd" w="9360">
            <a:solidFill>
              <a:srgbClr val="0000cc">
                <a:alpha val="34000"/>
              </a:srgbClr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5" name=""/>
          <p:cNvSpPr/>
          <p:nvPr/>
        </p:nvSpPr>
        <p:spPr>
          <a:xfrm>
            <a:off x="5181480" y="3184560"/>
            <a:ext cx="160560" cy="0"/>
          </a:xfrm>
          <a:prstGeom prst="line">
            <a:avLst/>
          </a:prstGeom>
          <a:ln cap="rnd" w="9360">
            <a:solidFill>
              <a:srgbClr val="0000cc">
                <a:alpha val="34000"/>
              </a:srgbClr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6" name=""/>
          <p:cNvSpPr/>
          <p:nvPr/>
        </p:nvSpPr>
        <p:spPr>
          <a:xfrm>
            <a:off x="5716440" y="3184560"/>
            <a:ext cx="160560" cy="0"/>
          </a:xfrm>
          <a:prstGeom prst="line">
            <a:avLst/>
          </a:prstGeom>
          <a:ln cap="rnd" w="9360">
            <a:solidFill>
              <a:srgbClr val="0000cc">
                <a:alpha val="34000"/>
              </a:srgbClr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"/>
          <p:cNvSpPr/>
          <p:nvPr/>
        </p:nvSpPr>
        <p:spPr>
          <a:xfrm>
            <a:off x="2289240" y="3184560"/>
            <a:ext cx="162000" cy="0"/>
          </a:xfrm>
          <a:prstGeom prst="line">
            <a:avLst/>
          </a:prstGeom>
          <a:ln cap="rnd" w="9360">
            <a:solidFill>
              <a:srgbClr val="0000cc">
                <a:alpha val="34000"/>
              </a:srgbClr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8" name=""/>
          <p:cNvSpPr/>
          <p:nvPr/>
        </p:nvSpPr>
        <p:spPr>
          <a:xfrm>
            <a:off x="1808280" y="3184560"/>
            <a:ext cx="160200" cy="0"/>
          </a:xfrm>
          <a:prstGeom prst="line">
            <a:avLst/>
          </a:prstGeom>
          <a:ln w="9360">
            <a:solidFill>
              <a:srgbClr val="0000cc">
                <a:alpha val="54000"/>
              </a:srgbClr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9" name=""/>
          <p:cNvSpPr/>
          <p:nvPr/>
        </p:nvSpPr>
        <p:spPr>
          <a:xfrm>
            <a:off x="2771640" y="1895400"/>
            <a:ext cx="160560" cy="0"/>
          </a:xfrm>
          <a:prstGeom prst="line">
            <a:avLst/>
          </a:prstGeom>
          <a:ln cap="rnd" w="9360">
            <a:solidFill>
              <a:srgbClr val="0000cc">
                <a:alpha val="34000"/>
              </a:srgbClr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"/>
          <p:cNvSpPr/>
          <p:nvPr/>
        </p:nvSpPr>
        <p:spPr>
          <a:xfrm>
            <a:off x="3252960" y="1895400"/>
            <a:ext cx="161640" cy="0"/>
          </a:xfrm>
          <a:prstGeom prst="line">
            <a:avLst/>
          </a:prstGeom>
          <a:ln cap="rnd" w="9360">
            <a:solidFill>
              <a:srgbClr val="0000cc">
                <a:alpha val="34000"/>
              </a:srgbClr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1" name=""/>
          <p:cNvSpPr/>
          <p:nvPr/>
        </p:nvSpPr>
        <p:spPr>
          <a:xfrm>
            <a:off x="3735360" y="1895400"/>
            <a:ext cx="160200" cy="0"/>
          </a:xfrm>
          <a:prstGeom prst="line">
            <a:avLst/>
          </a:prstGeom>
          <a:ln cap="rnd" w="9360">
            <a:solidFill>
              <a:srgbClr val="0000cc">
                <a:alpha val="34000"/>
              </a:srgbClr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2" name=""/>
          <p:cNvSpPr/>
          <p:nvPr/>
        </p:nvSpPr>
        <p:spPr>
          <a:xfrm>
            <a:off x="4218120" y="1895400"/>
            <a:ext cx="160200" cy="0"/>
          </a:xfrm>
          <a:prstGeom prst="line">
            <a:avLst/>
          </a:prstGeom>
          <a:ln cap="rnd" w="9360">
            <a:solidFill>
              <a:srgbClr val="0000cc">
                <a:alpha val="34000"/>
              </a:srgbClr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"/>
          <p:cNvSpPr/>
          <p:nvPr/>
        </p:nvSpPr>
        <p:spPr>
          <a:xfrm>
            <a:off x="4699080" y="1895400"/>
            <a:ext cx="160200" cy="0"/>
          </a:xfrm>
          <a:prstGeom prst="line">
            <a:avLst/>
          </a:prstGeom>
          <a:ln cap="rnd" w="9360">
            <a:solidFill>
              <a:srgbClr val="0000cc">
                <a:alpha val="34000"/>
              </a:srgbClr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4" name=""/>
          <p:cNvSpPr/>
          <p:nvPr/>
        </p:nvSpPr>
        <p:spPr>
          <a:xfrm>
            <a:off x="5181480" y="1895400"/>
            <a:ext cx="160560" cy="0"/>
          </a:xfrm>
          <a:prstGeom prst="line">
            <a:avLst/>
          </a:prstGeom>
          <a:ln cap="rnd" w="9360">
            <a:solidFill>
              <a:srgbClr val="0000cc">
                <a:alpha val="34000"/>
              </a:srgbClr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5" name=""/>
          <p:cNvSpPr/>
          <p:nvPr/>
        </p:nvSpPr>
        <p:spPr>
          <a:xfrm>
            <a:off x="5716440" y="1895400"/>
            <a:ext cx="160560" cy="0"/>
          </a:xfrm>
          <a:prstGeom prst="line">
            <a:avLst/>
          </a:prstGeom>
          <a:ln cap="rnd" w="9360">
            <a:solidFill>
              <a:srgbClr val="0000cc">
                <a:alpha val="34000"/>
              </a:srgbClr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"/>
          <p:cNvSpPr/>
          <p:nvPr/>
        </p:nvSpPr>
        <p:spPr>
          <a:xfrm>
            <a:off x="2289240" y="1895400"/>
            <a:ext cx="162000" cy="0"/>
          </a:xfrm>
          <a:prstGeom prst="line">
            <a:avLst/>
          </a:prstGeom>
          <a:ln cap="rnd" w="9360">
            <a:solidFill>
              <a:srgbClr val="0000cc">
                <a:alpha val="34000"/>
              </a:srgbClr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7" name=""/>
          <p:cNvSpPr/>
          <p:nvPr/>
        </p:nvSpPr>
        <p:spPr>
          <a:xfrm>
            <a:off x="1808280" y="1895400"/>
            <a:ext cx="160200" cy="0"/>
          </a:xfrm>
          <a:prstGeom prst="line">
            <a:avLst/>
          </a:prstGeom>
          <a:ln cap="rnd" w="9360">
            <a:solidFill>
              <a:srgbClr val="0000cc">
                <a:alpha val="34000"/>
              </a:srgbClr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8" name=""/>
          <p:cNvSpPr/>
          <p:nvPr/>
        </p:nvSpPr>
        <p:spPr>
          <a:xfrm flipV="1">
            <a:off x="1700280" y="4235040"/>
            <a:ext cx="0" cy="14292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"/>
          <p:cNvSpPr/>
          <p:nvPr/>
        </p:nvSpPr>
        <p:spPr>
          <a:xfrm flipV="1">
            <a:off x="1700280" y="3804840"/>
            <a:ext cx="0" cy="14292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0" name=""/>
          <p:cNvSpPr/>
          <p:nvPr/>
        </p:nvSpPr>
        <p:spPr>
          <a:xfrm flipV="1">
            <a:off x="1700280" y="3374640"/>
            <a:ext cx="0" cy="14292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1" name=""/>
          <p:cNvSpPr/>
          <p:nvPr/>
        </p:nvSpPr>
        <p:spPr>
          <a:xfrm flipV="1">
            <a:off x="1700280" y="2945880"/>
            <a:ext cx="0" cy="142920"/>
          </a:xfrm>
          <a:prstGeom prst="line">
            <a:avLst/>
          </a:prstGeom>
          <a:ln w="9360">
            <a:solidFill>
              <a:srgbClr val="0000cc">
                <a:alpha val="54000"/>
              </a:srgbClr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"/>
          <p:cNvSpPr/>
          <p:nvPr/>
        </p:nvSpPr>
        <p:spPr>
          <a:xfrm flipV="1">
            <a:off x="1700280" y="2515680"/>
            <a:ext cx="0" cy="142920"/>
          </a:xfrm>
          <a:prstGeom prst="line">
            <a:avLst/>
          </a:prstGeom>
          <a:ln w="9360">
            <a:solidFill>
              <a:srgbClr val="0000cc">
                <a:alpha val="54000"/>
              </a:srgbClr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3" name=""/>
          <p:cNvSpPr/>
          <p:nvPr/>
        </p:nvSpPr>
        <p:spPr>
          <a:xfrm flipV="1">
            <a:off x="1700280" y="2037960"/>
            <a:ext cx="0" cy="142920"/>
          </a:xfrm>
          <a:prstGeom prst="line">
            <a:avLst/>
          </a:prstGeom>
          <a:ln cap="rnd" w="9360">
            <a:solidFill>
              <a:srgbClr val="0000cc">
                <a:alpha val="34000"/>
              </a:srgbClr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4" name=""/>
          <p:cNvSpPr/>
          <p:nvPr/>
        </p:nvSpPr>
        <p:spPr>
          <a:xfrm flipV="1">
            <a:off x="1700280" y="5522760"/>
            <a:ext cx="0" cy="14472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"/>
          <p:cNvSpPr/>
          <p:nvPr/>
        </p:nvSpPr>
        <p:spPr>
          <a:xfrm flipV="1">
            <a:off x="1700280" y="5094000"/>
            <a:ext cx="0" cy="14292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6" name=""/>
          <p:cNvSpPr/>
          <p:nvPr/>
        </p:nvSpPr>
        <p:spPr>
          <a:xfrm flipV="1">
            <a:off x="1700280" y="4663800"/>
            <a:ext cx="0" cy="14292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7" name=""/>
          <p:cNvSpPr/>
          <p:nvPr/>
        </p:nvSpPr>
        <p:spPr>
          <a:xfrm>
            <a:off x="860040" y="5711760"/>
            <a:ext cx="87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  <a:ea typeface="Arial"/>
              </a:rPr>
              <a:t>Qu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8" name=""/>
          <p:cNvGrpSpPr/>
          <p:nvPr/>
        </p:nvGrpSpPr>
        <p:grpSpPr>
          <a:xfrm>
            <a:off x="4618080" y="2075040"/>
            <a:ext cx="0" cy="3628440"/>
            <a:chOff x="4618080" y="2075040"/>
            <a:chExt cx="0" cy="3628440"/>
          </a:xfrm>
        </p:grpSpPr>
        <p:sp>
          <p:nvSpPr>
            <p:cNvPr id="2089" name=""/>
            <p:cNvSpPr/>
            <p:nvPr/>
          </p:nvSpPr>
          <p:spPr>
            <a:xfrm flipV="1">
              <a:off x="4618080" y="4272120"/>
              <a:ext cx="0" cy="142560"/>
            </a:xfrm>
            <a:prstGeom prst="line">
              <a:avLst/>
            </a:prstGeom>
            <a:ln w="93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0" name=""/>
            <p:cNvSpPr/>
            <p:nvPr/>
          </p:nvSpPr>
          <p:spPr>
            <a:xfrm flipV="1">
              <a:off x="4618080" y="3841920"/>
              <a:ext cx="0" cy="142560"/>
            </a:xfrm>
            <a:prstGeom prst="line">
              <a:avLst/>
            </a:prstGeom>
            <a:ln w="93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1" name=""/>
            <p:cNvSpPr/>
            <p:nvPr/>
          </p:nvSpPr>
          <p:spPr>
            <a:xfrm flipV="1">
              <a:off x="4618080" y="3411720"/>
              <a:ext cx="0" cy="142560"/>
            </a:xfrm>
            <a:prstGeom prst="line">
              <a:avLst/>
            </a:prstGeom>
            <a:ln w="93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2" name=""/>
            <p:cNvSpPr/>
            <p:nvPr/>
          </p:nvSpPr>
          <p:spPr>
            <a:xfrm flipV="1">
              <a:off x="4618080" y="2982600"/>
              <a:ext cx="0" cy="142920"/>
            </a:xfrm>
            <a:prstGeom prst="line">
              <a:avLst/>
            </a:prstGeom>
            <a:ln w="93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3" name=""/>
            <p:cNvSpPr/>
            <p:nvPr/>
          </p:nvSpPr>
          <p:spPr>
            <a:xfrm flipV="1">
              <a:off x="4618080" y="2552400"/>
              <a:ext cx="0" cy="142920"/>
            </a:xfrm>
            <a:prstGeom prst="line">
              <a:avLst/>
            </a:prstGeom>
            <a:ln w="93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4" name=""/>
            <p:cNvSpPr/>
            <p:nvPr/>
          </p:nvSpPr>
          <p:spPr>
            <a:xfrm flipV="1">
              <a:off x="4618080" y="2075040"/>
              <a:ext cx="0" cy="142560"/>
            </a:xfrm>
            <a:prstGeom prst="line">
              <a:avLst/>
            </a:prstGeom>
            <a:ln w="93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5" name=""/>
            <p:cNvSpPr/>
            <p:nvPr/>
          </p:nvSpPr>
          <p:spPr>
            <a:xfrm flipV="1">
              <a:off x="4618080" y="5559120"/>
              <a:ext cx="0" cy="144360"/>
            </a:xfrm>
            <a:prstGeom prst="line">
              <a:avLst/>
            </a:prstGeom>
            <a:ln w="93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6" name=""/>
            <p:cNvSpPr/>
            <p:nvPr/>
          </p:nvSpPr>
          <p:spPr>
            <a:xfrm flipV="1">
              <a:off x="4618080" y="5130360"/>
              <a:ext cx="0" cy="142920"/>
            </a:xfrm>
            <a:prstGeom prst="line">
              <a:avLst/>
            </a:prstGeom>
            <a:ln w="93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7" name=""/>
            <p:cNvSpPr/>
            <p:nvPr/>
          </p:nvSpPr>
          <p:spPr>
            <a:xfrm flipV="1">
              <a:off x="4618080" y="4700160"/>
              <a:ext cx="0" cy="142920"/>
            </a:xfrm>
            <a:prstGeom prst="line">
              <a:avLst/>
            </a:prstGeom>
            <a:ln w="93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8" name=""/>
          <p:cNvSpPr/>
          <p:nvPr/>
        </p:nvSpPr>
        <p:spPr>
          <a:xfrm>
            <a:off x="1346040" y="2433600"/>
            <a:ext cx="812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9" name=""/>
          <p:cNvGrpSpPr/>
          <p:nvPr/>
        </p:nvGrpSpPr>
        <p:grpSpPr>
          <a:xfrm>
            <a:off x="3625920" y="2472840"/>
            <a:ext cx="0" cy="2769120"/>
            <a:chOff x="3625920" y="2472840"/>
            <a:chExt cx="0" cy="2769120"/>
          </a:xfrm>
        </p:grpSpPr>
        <p:sp>
          <p:nvSpPr>
            <p:cNvPr id="2100" name=""/>
            <p:cNvSpPr/>
            <p:nvPr/>
          </p:nvSpPr>
          <p:spPr>
            <a:xfrm>
              <a:off x="3625920" y="4670280"/>
              <a:ext cx="0" cy="1429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1" name=""/>
            <p:cNvSpPr/>
            <p:nvPr/>
          </p:nvSpPr>
          <p:spPr>
            <a:xfrm>
              <a:off x="3625920" y="4240080"/>
              <a:ext cx="0" cy="1429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2" name=""/>
            <p:cNvSpPr/>
            <p:nvPr/>
          </p:nvSpPr>
          <p:spPr>
            <a:xfrm flipV="1">
              <a:off x="3625920" y="3809520"/>
              <a:ext cx="0" cy="1429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3" name=""/>
            <p:cNvSpPr/>
            <p:nvPr/>
          </p:nvSpPr>
          <p:spPr>
            <a:xfrm flipV="1">
              <a:off x="3625920" y="3381120"/>
              <a:ext cx="0" cy="1429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4" name=""/>
            <p:cNvSpPr/>
            <p:nvPr/>
          </p:nvSpPr>
          <p:spPr>
            <a:xfrm flipV="1">
              <a:off x="3625920" y="2950920"/>
              <a:ext cx="0" cy="1429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5" name=""/>
            <p:cNvSpPr/>
            <p:nvPr/>
          </p:nvSpPr>
          <p:spPr>
            <a:xfrm flipV="1">
              <a:off x="3625920" y="2472840"/>
              <a:ext cx="0" cy="1429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6" name=""/>
            <p:cNvSpPr/>
            <p:nvPr/>
          </p:nvSpPr>
          <p:spPr>
            <a:xfrm>
              <a:off x="3625920" y="5099040"/>
              <a:ext cx="0" cy="1429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07" name=""/>
          <p:cNvSpPr/>
          <p:nvPr/>
        </p:nvSpPr>
        <p:spPr>
          <a:xfrm>
            <a:off x="3616920" y="3747960"/>
            <a:ext cx="83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Ev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08" name=""/>
          <p:cNvGrpSpPr/>
          <p:nvPr/>
        </p:nvGrpSpPr>
        <p:grpSpPr>
          <a:xfrm>
            <a:off x="1773000" y="3298680"/>
            <a:ext cx="4090680" cy="12600"/>
            <a:chOff x="1773000" y="3298680"/>
            <a:chExt cx="4090680" cy="12600"/>
          </a:xfrm>
        </p:grpSpPr>
        <p:grpSp>
          <p:nvGrpSpPr>
            <p:cNvPr id="2109" name=""/>
            <p:cNvGrpSpPr/>
            <p:nvPr/>
          </p:nvGrpSpPr>
          <p:grpSpPr>
            <a:xfrm>
              <a:off x="4743000" y="3309840"/>
              <a:ext cx="1120680" cy="1440"/>
              <a:chOff x="4743000" y="3309840"/>
              <a:chExt cx="1120680" cy="1440"/>
            </a:xfrm>
          </p:grpSpPr>
          <p:sp>
            <p:nvSpPr>
              <p:cNvPr id="2110" name=""/>
              <p:cNvSpPr/>
              <p:nvPr/>
            </p:nvSpPr>
            <p:spPr>
              <a:xfrm>
                <a:off x="4743000" y="3309840"/>
                <a:ext cx="161640" cy="0"/>
              </a:xfrm>
              <a:prstGeom prst="line">
                <a:avLst/>
              </a:prstGeom>
              <a:ln w="93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1" name=""/>
              <p:cNvSpPr/>
              <p:nvPr/>
            </p:nvSpPr>
            <p:spPr>
              <a:xfrm>
                <a:off x="5223960" y="3309840"/>
                <a:ext cx="160200" cy="0"/>
              </a:xfrm>
              <a:prstGeom prst="line">
                <a:avLst/>
              </a:prstGeom>
              <a:ln w="93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2" name=""/>
              <p:cNvSpPr/>
              <p:nvPr/>
            </p:nvSpPr>
            <p:spPr>
              <a:xfrm>
                <a:off x="5703480" y="3311280"/>
                <a:ext cx="160200" cy="0"/>
              </a:xfrm>
              <a:prstGeom prst="line">
                <a:avLst/>
              </a:prstGeom>
              <a:ln w="93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13" name=""/>
            <p:cNvGrpSpPr/>
            <p:nvPr/>
          </p:nvGrpSpPr>
          <p:grpSpPr>
            <a:xfrm>
              <a:off x="1773000" y="3298680"/>
              <a:ext cx="2563920" cy="0"/>
              <a:chOff x="1773000" y="3298680"/>
              <a:chExt cx="2563920" cy="0"/>
            </a:xfrm>
          </p:grpSpPr>
          <p:sp>
            <p:nvSpPr>
              <p:cNvPr id="2114" name=""/>
              <p:cNvSpPr/>
              <p:nvPr/>
            </p:nvSpPr>
            <p:spPr>
              <a:xfrm flipH="1">
                <a:off x="2734920" y="3298680"/>
                <a:ext cx="159480" cy="0"/>
              </a:xfrm>
              <a:prstGeom prst="line">
                <a:avLst/>
              </a:prstGeom>
              <a:ln w="93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5" name=""/>
              <p:cNvSpPr/>
              <p:nvPr/>
            </p:nvSpPr>
            <p:spPr>
              <a:xfrm flipH="1">
                <a:off x="2253960" y="3298680"/>
                <a:ext cx="159480" cy="0"/>
              </a:xfrm>
              <a:prstGeom prst="line">
                <a:avLst/>
              </a:prstGeom>
              <a:ln w="93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6" name=""/>
              <p:cNvSpPr/>
              <p:nvPr/>
            </p:nvSpPr>
            <p:spPr>
              <a:xfrm flipH="1">
                <a:off x="1773000" y="3298680"/>
                <a:ext cx="159480" cy="0"/>
              </a:xfrm>
              <a:prstGeom prst="line">
                <a:avLst/>
              </a:prstGeom>
              <a:ln w="93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7" name=""/>
              <p:cNvSpPr/>
              <p:nvPr/>
            </p:nvSpPr>
            <p:spPr>
              <a:xfrm flipH="1">
                <a:off x="4175640" y="3298680"/>
                <a:ext cx="161280" cy="0"/>
              </a:xfrm>
              <a:prstGeom prst="line">
                <a:avLst/>
              </a:prstGeom>
              <a:ln w="93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8" name=""/>
              <p:cNvSpPr/>
              <p:nvPr/>
            </p:nvSpPr>
            <p:spPr>
              <a:xfrm flipH="1">
                <a:off x="3695760" y="3298680"/>
                <a:ext cx="159480" cy="0"/>
              </a:xfrm>
              <a:prstGeom prst="line">
                <a:avLst/>
              </a:prstGeom>
              <a:ln w="93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9" name=""/>
              <p:cNvSpPr/>
              <p:nvPr/>
            </p:nvSpPr>
            <p:spPr>
              <a:xfrm flipH="1">
                <a:off x="3214440" y="3298680"/>
                <a:ext cx="159480" cy="0"/>
              </a:xfrm>
              <a:prstGeom prst="line">
                <a:avLst/>
              </a:prstGeom>
              <a:ln w="93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120" name=""/>
          <p:cNvGrpSpPr/>
          <p:nvPr/>
        </p:nvGrpSpPr>
        <p:grpSpPr>
          <a:xfrm>
            <a:off x="1766520" y="2009880"/>
            <a:ext cx="4090680" cy="12600"/>
            <a:chOff x="1766520" y="2009880"/>
            <a:chExt cx="4090680" cy="12600"/>
          </a:xfrm>
        </p:grpSpPr>
        <p:grpSp>
          <p:nvGrpSpPr>
            <p:cNvPr id="2121" name=""/>
            <p:cNvGrpSpPr/>
            <p:nvPr/>
          </p:nvGrpSpPr>
          <p:grpSpPr>
            <a:xfrm>
              <a:off x="4736520" y="2021040"/>
              <a:ext cx="1120680" cy="1440"/>
              <a:chOff x="4736520" y="2021040"/>
              <a:chExt cx="1120680" cy="1440"/>
            </a:xfrm>
          </p:grpSpPr>
          <p:sp>
            <p:nvSpPr>
              <p:cNvPr id="2122" name=""/>
              <p:cNvSpPr/>
              <p:nvPr/>
            </p:nvSpPr>
            <p:spPr>
              <a:xfrm>
                <a:off x="4736520" y="2021040"/>
                <a:ext cx="161640" cy="0"/>
              </a:xfrm>
              <a:prstGeom prst="line">
                <a:avLst/>
              </a:prstGeom>
              <a:ln w="93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3" name=""/>
              <p:cNvSpPr/>
              <p:nvPr/>
            </p:nvSpPr>
            <p:spPr>
              <a:xfrm>
                <a:off x="5217480" y="2021040"/>
                <a:ext cx="160200" cy="0"/>
              </a:xfrm>
              <a:prstGeom prst="line">
                <a:avLst/>
              </a:prstGeom>
              <a:ln w="93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4" name=""/>
              <p:cNvSpPr/>
              <p:nvPr/>
            </p:nvSpPr>
            <p:spPr>
              <a:xfrm>
                <a:off x="5697000" y="2022480"/>
                <a:ext cx="160200" cy="0"/>
              </a:xfrm>
              <a:prstGeom prst="line">
                <a:avLst/>
              </a:prstGeom>
              <a:ln w="93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25" name=""/>
            <p:cNvGrpSpPr/>
            <p:nvPr/>
          </p:nvGrpSpPr>
          <p:grpSpPr>
            <a:xfrm>
              <a:off x="1766520" y="2009880"/>
              <a:ext cx="2563920" cy="0"/>
              <a:chOff x="1766520" y="2009880"/>
              <a:chExt cx="2563920" cy="0"/>
            </a:xfrm>
          </p:grpSpPr>
          <p:sp>
            <p:nvSpPr>
              <p:cNvPr id="2126" name=""/>
              <p:cNvSpPr/>
              <p:nvPr/>
            </p:nvSpPr>
            <p:spPr>
              <a:xfrm flipH="1">
                <a:off x="2728440" y="2009880"/>
                <a:ext cx="159480" cy="0"/>
              </a:xfrm>
              <a:prstGeom prst="line">
                <a:avLst/>
              </a:prstGeom>
              <a:ln w="93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7" name=""/>
              <p:cNvSpPr/>
              <p:nvPr/>
            </p:nvSpPr>
            <p:spPr>
              <a:xfrm flipH="1">
                <a:off x="2247480" y="2009880"/>
                <a:ext cx="159480" cy="0"/>
              </a:xfrm>
              <a:prstGeom prst="line">
                <a:avLst/>
              </a:prstGeom>
              <a:ln w="93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8" name=""/>
              <p:cNvSpPr/>
              <p:nvPr/>
            </p:nvSpPr>
            <p:spPr>
              <a:xfrm flipH="1">
                <a:off x="1766520" y="2009880"/>
                <a:ext cx="159480" cy="0"/>
              </a:xfrm>
              <a:prstGeom prst="line">
                <a:avLst/>
              </a:prstGeom>
              <a:ln w="93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9" name=""/>
              <p:cNvSpPr/>
              <p:nvPr/>
            </p:nvSpPr>
            <p:spPr>
              <a:xfrm flipH="1">
                <a:off x="4169160" y="2009880"/>
                <a:ext cx="161280" cy="0"/>
              </a:xfrm>
              <a:prstGeom prst="line">
                <a:avLst/>
              </a:prstGeom>
              <a:ln w="93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0" name=""/>
              <p:cNvSpPr/>
              <p:nvPr/>
            </p:nvSpPr>
            <p:spPr>
              <a:xfrm flipH="1">
                <a:off x="3689280" y="2009880"/>
                <a:ext cx="159480" cy="0"/>
              </a:xfrm>
              <a:prstGeom prst="line">
                <a:avLst/>
              </a:prstGeom>
              <a:ln w="93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1" name=""/>
              <p:cNvSpPr/>
              <p:nvPr/>
            </p:nvSpPr>
            <p:spPr>
              <a:xfrm flipH="1">
                <a:off x="3207960" y="2009880"/>
                <a:ext cx="159480" cy="0"/>
              </a:xfrm>
              <a:prstGeom prst="line">
                <a:avLst/>
              </a:prstGeom>
              <a:ln w="93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32" name=""/>
          <p:cNvSpPr/>
          <p:nvPr/>
        </p:nvSpPr>
        <p:spPr>
          <a:xfrm>
            <a:off x="6550200" y="2506680"/>
            <a:ext cx="219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iversify quer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patially using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reen arro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M Sensy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CD07F-21C2-40BE-BB68-64FF9AB14600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4/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Random Network </a:t>
            </a: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geographical flo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eedles and combs have certain width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5" name=""/>
          <p:cNvGrpSpPr/>
          <p:nvPr/>
        </p:nvGrpSpPr>
        <p:grpSpPr>
          <a:xfrm>
            <a:off x="2109960" y="2705040"/>
            <a:ext cx="4926960" cy="3672000"/>
            <a:chOff x="2109960" y="2705040"/>
            <a:chExt cx="4926960" cy="3672000"/>
          </a:xfrm>
        </p:grpSpPr>
        <p:sp>
          <p:nvSpPr>
            <p:cNvPr id="2136" name=""/>
            <p:cNvSpPr/>
            <p:nvPr/>
          </p:nvSpPr>
          <p:spPr>
            <a:xfrm>
              <a:off x="2297520" y="3587760"/>
              <a:ext cx="9360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7" name=""/>
            <p:cNvSpPr/>
            <p:nvPr/>
          </p:nvSpPr>
          <p:spPr>
            <a:xfrm>
              <a:off x="4503240" y="3866760"/>
              <a:ext cx="9360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8" name=""/>
            <p:cNvSpPr/>
            <p:nvPr/>
          </p:nvSpPr>
          <p:spPr>
            <a:xfrm>
              <a:off x="2766600" y="4006440"/>
              <a:ext cx="9396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9" name=""/>
            <p:cNvSpPr/>
            <p:nvPr/>
          </p:nvSpPr>
          <p:spPr>
            <a:xfrm>
              <a:off x="4362480" y="4796640"/>
              <a:ext cx="9360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0" name=""/>
            <p:cNvSpPr/>
            <p:nvPr/>
          </p:nvSpPr>
          <p:spPr>
            <a:xfrm>
              <a:off x="2203560" y="4099320"/>
              <a:ext cx="9396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1" name=""/>
            <p:cNvSpPr/>
            <p:nvPr/>
          </p:nvSpPr>
          <p:spPr>
            <a:xfrm>
              <a:off x="4925520" y="4285080"/>
              <a:ext cx="9360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2" name=""/>
            <p:cNvSpPr/>
            <p:nvPr/>
          </p:nvSpPr>
          <p:spPr>
            <a:xfrm>
              <a:off x="6427080" y="5214960"/>
              <a:ext cx="9396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3" name=""/>
            <p:cNvSpPr/>
            <p:nvPr/>
          </p:nvSpPr>
          <p:spPr>
            <a:xfrm>
              <a:off x="5582520" y="4889520"/>
              <a:ext cx="9396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4" name=""/>
            <p:cNvSpPr/>
            <p:nvPr/>
          </p:nvSpPr>
          <p:spPr>
            <a:xfrm>
              <a:off x="3330000" y="5075640"/>
              <a:ext cx="9396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5" name=""/>
            <p:cNvSpPr/>
            <p:nvPr/>
          </p:nvSpPr>
          <p:spPr>
            <a:xfrm>
              <a:off x="4878360" y="5122080"/>
              <a:ext cx="9396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6" name=""/>
            <p:cNvSpPr/>
            <p:nvPr/>
          </p:nvSpPr>
          <p:spPr>
            <a:xfrm>
              <a:off x="3658320" y="5261400"/>
              <a:ext cx="93600" cy="9288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7" name=""/>
            <p:cNvSpPr/>
            <p:nvPr/>
          </p:nvSpPr>
          <p:spPr>
            <a:xfrm>
              <a:off x="5582520" y="5307840"/>
              <a:ext cx="9396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8" name=""/>
            <p:cNvSpPr/>
            <p:nvPr/>
          </p:nvSpPr>
          <p:spPr>
            <a:xfrm>
              <a:off x="4127760" y="5447520"/>
              <a:ext cx="9360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9" name=""/>
            <p:cNvSpPr/>
            <p:nvPr/>
          </p:nvSpPr>
          <p:spPr>
            <a:xfrm>
              <a:off x="4550040" y="5261400"/>
              <a:ext cx="9360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0" name=""/>
            <p:cNvSpPr/>
            <p:nvPr/>
          </p:nvSpPr>
          <p:spPr>
            <a:xfrm>
              <a:off x="3893040" y="4610520"/>
              <a:ext cx="93960" cy="9288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1" name=""/>
            <p:cNvSpPr/>
            <p:nvPr/>
          </p:nvSpPr>
          <p:spPr>
            <a:xfrm>
              <a:off x="2438280" y="4889520"/>
              <a:ext cx="9360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2" name=""/>
            <p:cNvSpPr/>
            <p:nvPr/>
          </p:nvSpPr>
          <p:spPr>
            <a:xfrm>
              <a:off x="3001320" y="4703400"/>
              <a:ext cx="9360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3" name=""/>
            <p:cNvSpPr/>
            <p:nvPr/>
          </p:nvSpPr>
          <p:spPr>
            <a:xfrm>
              <a:off x="2907360" y="5447520"/>
              <a:ext cx="9396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4" name=""/>
            <p:cNvSpPr/>
            <p:nvPr/>
          </p:nvSpPr>
          <p:spPr>
            <a:xfrm>
              <a:off x="3799080" y="3587760"/>
              <a:ext cx="9360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5" name=""/>
            <p:cNvSpPr/>
            <p:nvPr/>
          </p:nvSpPr>
          <p:spPr>
            <a:xfrm>
              <a:off x="5159880" y="4052880"/>
              <a:ext cx="9396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6" name=""/>
            <p:cNvSpPr/>
            <p:nvPr/>
          </p:nvSpPr>
          <p:spPr>
            <a:xfrm>
              <a:off x="6098760" y="4517640"/>
              <a:ext cx="9360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7" name=""/>
            <p:cNvSpPr/>
            <p:nvPr/>
          </p:nvSpPr>
          <p:spPr>
            <a:xfrm>
              <a:off x="6051600" y="4192200"/>
              <a:ext cx="9360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8" name=""/>
            <p:cNvSpPr/>
            <p:nvPr/>
          </p:nvSpPr>
          <p:spPr>
            <a:xfrm>
              <a:off x="3517560" y="3960000"/>
              <a:ext cx="9360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9" name=""/>
            <p:cNvSpPr/>
            <p:nvPr/>
          </p:nvSpPr>
          <p:spPr>
            <a:xfrm>
              <a:off x="5770080" y="3587760"/>
              <a:ext cx="93600" cy="9288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0" name=""/>
            <p:cNvSpPr/>
            <p:nvPr/>
          </p:nvSpPr>
          <p:spPr>
            <a:xfrm>
              <a:off x="5019120" y="3216240"/>
              <a:ext cx="9396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1" name=""/>
            <p:cNvSpPr/>
            <p:nvPr/>
          </p:nvSpPr>
          <p:spPr>
            <a:xfrm>
              <a:off x="3939840" y="4006440"/>
              <a:ext cx="9360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2" name=""/>
            <p:cNvSpPr/>
            <p:nvPr/>
          </p:nvSpPr>
          <p:spPr>
            <a:xfrm>
              <a:off x="4878360" y="3634560"/>
              <a:ext cx="9396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3" name=""/>
            <p:cNvSpPr/>
            <p:nvPr/>
          </p:nvSpPr>
          <p:spPr>
            <a:xfrm>
              <a:off x="5723280" y="4145760"/>
              <a:ext cx="93960" cy="9288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4" name=""/>
            <p:cNvSpPr/>
            <p:nvPr/>
          </p:nvSpPr>
          <p:spPr>
            <a:xfrm>
              <a:off x="6333480" y="3820320"/>
              <a:ext cx="9360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5" name=""/>
            <p:cNvSpPr/>
            <p:nvPr/>
          </p:nvSpPr>
          <p:spPr>
            <a:xfrm>
              <a:off x="2203560" y="4703400"/>
              <a:ext cx="9396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6" name=""/>
            <p:cNvSpPr/>
            <p:nvPr/>
          </p:nvSpPr>
          <p:spPr>
            <a:xfrm>
              <a:off x="2250720" y="5354640"/>
              <a:ext cx="9360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7" name=""/>
            <p:cNvSpPr/>
            <p:nvPr/>
          </p:nvSpPr>
          <p:spPr>
            <a:xfrm>
              <a:off x="3330000" y="5354640"/>
              <a:ext cx="9396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8" name=""/>
            <p:cNvSpPr/>
            <p:nvPr/>
          </p:nvSpPr>
          <p:spPr>
            <a:xfrm>
              <a:off x="4127760" y="4703400"/>
              <a:ext cx="9360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9" name=""/>
            <p:cNvSpPr/>
            <p:nvPr/>
          </p:nvSpPr>
          <p:spPr>
            <a:xfrm>
              <a:off x="6145560" y="5679720"/>
              <a:ext cx="9396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0" name=""/>
            <p:cNvSpPr/>
            <p:nvPr/>
          </p:nvSpPr>
          <p:spPr>
            <a:xfrm>
              <a:off x="2673000" y="3634560"/>
              <a:ext cx="9360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1" name=""/>
            <p:cNvSpPr/>
            <p:nvPr/>
          </p:nvSpPr>
          <p:spPr>
            <a:xfrm>
              <a:off x="3799080" y="3216240"/>
              <a:ext cx="9360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2" name=""/>
            <p:cNvSpPr/>
            <p:nvPr/>
          </p:nvSpPr>
          <p:spPr>
            <a:xfrm>
              <a:off x="3095280" y="4052880"/>
              <a:ext cx="9360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3" name=""/>
            <p:cNvSpPr/>
            <p:nvPr/>
          </p:nvSpPr>
          <p:spPr>
            <a:xfrm>
              <a:off x="4644000" y="4843080"/>
              <a:ext cx="9360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4" name=""/>
            <p:cNvSpPr/>
            <p:nvPr/>
          </p:nvSpPr>
          <p:spPr>
            <a:xfrm>
              <a:off x="5066280" y="4703400"/>
              <a:ext cx="9360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5" name=""/>
            <p:cNvSpPr/>
            <p:nvPr/>
          </p:nvSpPr>
          <p:spPr>
            <a:xfrm>
              <a:off x="2391480" y="4378320"/>
              <a:ext cx="9360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6" name=""/>
            <p:cNvSpPr/>
            <p:nvPr/>
          </p:nvSpPr>
          <p:spPr>
            <a:xfrm>
              <a:off x="4690800" y="4517640"/>
              <a:ext cx="9360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7" name=""/>
            <p:cNvSpPr/>
            <p:nvPr/>
          </p:nvSpPr>
          <p:spPr>
            <a:xfrm>
              <a:off x="6849360" y="5075640"/>
              <a:ext cx="9396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8" name=""/>
            <p:cNvSpPr/>
            <p:nvPr/>
          </p:nvSpPr>
          <p:spPr>
            <a:xfrm>
              <a:off x="5910840" y="4982400"/>
              <a:ext cx="93600" cy="9288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9" name=""/>
            <p:cNvSpPr/>
            <p:nvPr/>
          </p:nvSpPr>
          <p:spPr>
            <a:xfrm>
              <a:off x="3987000" y="4935960"/>
              <a:ext cx="93600" cy="9288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0" name=""/>
            <p:cNvSpPr/>
            <p:nvPr/>
          </p:nvSpPr>
          <p:spPr>
            <a:xfrm>
              <a:off x="5301000" y="5168520"/>
              <a:ext cx="9396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1" name=""/>
            <p:cNvSpPr/>
            <p:nvPr/>
          </p:nvSpPr>
          <p:spPr>
            <a:xfrm>
              <a:off x="4174560" y="5726160"/>
              <a:ext cx="9396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2" name=""/>
            <p:cNvSpPr/>
            <p:nvPr/>
          </p:nvSpPr>
          <p:spPr>
            <a:xfrm>
              <a:off x="5770080" y="5633280"/>
              <a:ext cx="9360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3" name=""/>
            <p:cNvSpPr/>
            <p:nvPr/>
          </p:nvSpPr>
          <p:spPr>
            <a:xfrm>
              <a:off x="4831560" y="5726160"/>
              <a:ext cx="9360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4" name=""/>
            <p:cNvSpPr/>
            <p:nvPr/>
          </p:nvSpPr>
          <p:spPr>
            <a:xfrm>
              <a:off x="6615000" y="4610520"/>
              <a:ext cx="9360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5" name=""/>
            <p:cNvSpPr/>
            <p:nvPr/>
          </p:nvSpPr>
          <p:spPr>
            <a:xfrm>
              <a:off x="4268520" y="4239000"/>
              <a:ext cx="9360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6" name=""/>
            <p:cNvSpPr/>
            <p:nvPr/>
          </p:nvSpPr>
          <p:spPr>
            <a:xfrm>
              <a:off x="2673000" y="5075640"/>
              <a:ext cx="9360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7" name=""/>
            <p:cNvSpPr/>
            <p:nvPr/>
          </p:nvSpPr>
          <p:spPr>
            <a:xfrm>
              <a:off x="3330000" y="4657320"/>
              <a:ext cx="9396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8" name=""/>
            <p:cNvSpPr/>
            <p:nvPr/>
          </p:nvSpPr>
          <p:spPr>
            <a:xfrm>
              <a:off x="3517560" y="5679720"/>
              <a:ext cx="93600" cy="9288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9" name=""/>
            <p:cNvSpPr/>
            <p:nvPr/>
          </p:nvSpPr>
          <p:spPr>
            <a:xfrm>
              <a:off x="4362480" y="3448440"/>
              <a:ext cx="9360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0" name=""/>
            <p:cNvSpPr/>
            <p:nvPr/>
          </p:nvSpPr>
          <p:spPr>
            <a:xfrm>
              <a:off x="5394960" y="4564080"/>
              <a:ext cx="9360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1" name=""/>
            <p:cNvSpPr/>
            <p:nvPr/>
          </p:nvSpPr>
          <p:spPr>
            <a:xfrm>
              <a:off x="6427080" y="4982400"/>
              <a:ext cx="9396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2" name=""/>
            <p:cNvSpPr/>
            <p:nvPr/>
          </p:nvSpPr>
          <p:spPr>
            <a:xfrm>
              <a:off x="6661800" y="4239000"/>
              <a:ext cx="9360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3" name=""/>
            <p:cNvSpPr/>
            <p:nvPr/>
          </p:nvSpPr>
          <p:spPr>
            <a:xfrm>
              <a:off x="3517560" y="4331880"/>
              <a:ext cx="93600" cy="9288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4" name=""/>
            <p:cNvSpPr/>
            <p:nvPr/>
          </p:nvSpPr>
          <p:spPr>
            <a:xfrm>
              <a:off x="5770080" y="3820320"/>
              <a:ext cx="93600" cy="9288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5" name=""/>
            <p:cNvSpPr/>
            <p:nvPr/>
          </p:nvSpPr>
          <p:spPr>
            <a:xfrm>
              <a:off x="5207040" y="3634560"/>
              <a:ext cx="9360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6" name=""/>
            <p:cNvSpPr/>
            <p:nvPr/>
          </p:nvSpPr>
          <p:spPr>
            <a:xfrm>
              <a:off x="5441760" y="4378320"/>
              <a:ext cx="9396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7" name=""/>
            <p:cNvSpPr/>
            <p:nvPr/>
          </p:nvSpPr>
          <p:spPr>
            <a:xfrm>
              <a:off x="6427080" y="4703400"/>
              <a:ext cx="9396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8" name=""/>
            <p:cNvSpPr/>
            <p:nvPr/>
          </p:nvSpPr>
          <p:spPr>
            <a:xfrm>
              <a:off x="6567840" y="3960000"/>
              <a:ext cx="9396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9" name=""/>
            <p:cNvSpPr/>
            <p:nvPr/>
          </p:nvSpPr>
          <p:spPr>
            <a:xfrm>
              <a:off x="2673000" y="4796640"/>
              <a:ext cx="9360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0" name=""/>
            <p:cNvSpPr/>
            <p:nvPr/>
          </p:nvSpPr>
          <p:spPr>
            <a:xfrm>
              <a:off x="2579040" y="5633280"/>
              <a:ext cx="9360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1" name=""/>
            <p:cNvSpPr/>
            <p:nvPr/>
          </p:nvSpPr>
          <p:spPr>
            <a:xfrm>
              <a:off x="6615000" y="5493960"/>
              <a:ext cx="9360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2" name=""/>
            <p:cNvSpPr/>
            <p:nvPr/>
          </p:nvSpPr>
          <p:spPr>
            <a:xfrm>
              <a:off x="6615000" y="3727440"/>
              <a:ext cx="9360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3" name=""/>
            <p:cNvSpPr/>
            <p:nvPr/>
          </p:nvSpPr>
          <p:spPr>
            <a:xfrm>
              <a:off x="6380280" y="3634560"/>
              <a:ext cx="9360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4" name=""/>
            <p:cNvSpPr/>
            <p:nvPr/>
          </p:nvSpPr>
          <p:spPr>
            <a:xfrm>
              <a:off x="5676480" y="4517640"/>
              <a:ext cx="93600" cy="9288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5" name=""/>
            <p:cNvSpPr/>
            <p:nvPr/>
          </p:nvSpPr>
          <p:spPr>
            <a:xfrm>
              <a:off x="6051600" y="3587760"/>
              <a:ext cx="9360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6" name=""/>
            <p:cNvSpPr/>
            <p:nvPr/>
          </p:nvSpPr>
          <p:spPr>
            <a:xfrm>
              <a:off x="6286320" y="3494880"/>
              <a:ext cx="9396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7" name=""/>
            <p:cNvSpPr/>
            <p:nvPr/>
          </p:nvSpPr>
          <p:spPr>
            <a:xfrm>
              <a:off x="2766600" y="3727440"/>
              <a:ext cx="9396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8" name=""/>
            <p:cNvSpPr/>
            <p:nvPr/>
          </p:nvSpPr>
          <p:spPr>
            <a:xfrm>
              <a:off x="3095280" y="3634560"/>
              <a:ext cx="9360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9" name=""/>
            <p:cNvSpPr/>
            <p:nvPr/>
          </p:nvSpPr>
          <p:spPr>
            <a:xfrm>
              <a:off x="2766600" y="4424760"/>
              <a:ext cx="9396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0" name=""/>
            <p:cNvSpPr/>
            <p:nvPr/>
          </p:nvSpPr>
          <p:spPr>
            <a:xfrm>
              <a:off x="6286320" y="2797920"/>
              <a:ext cx="9396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1" name=""/>
            <p:cNvSpPr/>
            <p:nvPr/>
          </p:nvSpPr>
          <p:spPr>
            <a:xfrm>
              <a:off x="3611520" y="2844360"/>
              <a:ext cx="9396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2" name=""/>
            <p:cNvSpPr/>
            <p:nvPr/>
          </p:nvSpPr>
          <p:spPr>
            <a:xfrm>
              <a:off x="5441760" y="2890800"/>
              <a:ext cx="9396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3" name=""/>
            <p:cNvSpPr/>
            <p:nvPr/>
          </p:nvSpPr>
          <p:spPr>
            <a:xfrm>
              <a:off x="4362480" y="2890800"/>
              <a:ext cx="9360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4" name=""/>
            <p:cNvSpPr/>
            <p:nvPr/>
          </p:nvSpPr>
          <p:spPr>
            <a:xfrm>
              <a:off x="2766600" y="3030120"/>
              <a:ext cx="9396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5" name=""/>
            <p:cNvSpPr/>
            <p:nvPr/>
          </p:nvSpPr>
          <p:spPr>
            <a:xfrm>
              <a:off x="2109960" y="2937240"/>
              <a:ext cx="9360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6" name=""/>
            <p:cNvSpPr/>
            <p:nvPr/>
          </p:nvSpPr>
          <p:spPr>
            <a:xfrm>
              <a:off x="3095280" y="2890800"/>
              <a:ext cx="9360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7" name=""/>
            <p:cNvSpPr/>
            <p:nvPr/>
          </p:nvSpPr>
          <p:spPr>
            <a:xfrm>
              <a:off x="5958000" y="3030120"/>
              <a:ext cx="9360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8" name=""/>
            <p:cNvSpPr/>
            <p:nvPr/>
          </p:nvSpPr>
          <p:spPr>
            <a:xfrm>
              <a:off x="4080600" y="2937240"/>
              <a:ext cx="9360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9" name=""/>
            <p:cNvSpPr/>
            <p:nvPr/>
          </p:nvSpPr>
          <p:spPr>
            <a:xfrm>
              <a:off x="5629320" y="3216240"/>
              <a:ext cx="9360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0" name=""/>
            <p:cNvSpPr/>
            <p:nvPr/>
          </p:nvSpPr>
          <p:spPr>
            <a:xfrm>
              <a:off x="4456080" y="2983680"/>
              <a:ext cx="9396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1" name=""/>
            <p:cNvSpPr/>
            <p:nvPr/>
          </p:nvSpPr>
          <p:spPr>
            <a:xfrm>
              <a:off x="3095280" y="3309120"/>
              <a:ext cx="9360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2" name=""/>
            <p:cNvSpPr/>
            <p:nvPr/>
          </p:nvSpPr>
          <p:spPr>
            <a:xfrm>
              <a:off x="2438280" y="3216240"/>
              <a:ext cx="9360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3" name=""/>
            <p:cNvSpPr/>
            <p:nvPr/>
          </p:nvSpPr>
          <p:spPr>
            <a:xfrm>
              <a:off x="6474240" y="3076560"/>
              <a:ext cx="9360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24" name="" descr=""/>
            <p:cNvPicPr/>
            <p:nvPr/>
          </p:nvPicPr>
          <p:blipFill>
            <a:blip r:embed="rId1"/>
            <a:stretch/>
          </p:blipFill>
          <p:spPr>
            <a:xfrm>
              <a:off x="2532240" y="3123360"/>
              <a:ext cx="509040" cy="55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25" name="" descr=""/>
            <p:cNvPicPr/>
            <p:nvPr/>
          </p:nvPicPr>
          <p:blipFill>
            <a:blip r:embed="rId2"/>
            <a:stretch/>
          </p:blipFill>
          <p:spPr>
            <a:xfrm rot="21063600">
              <a:off x="3141720" y="5074920"/>
              <a:ext cx="563040" cy="546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26" name="" descr=""/>
            <p:cNvPicPr/>
            <p:nvPr/>
          </p:nvPicPr>
          <p:blipFill>
            <a:blip r:embed="rId3"/>
            <a:stretch/>
          </p:blipFill>
          <p:spPr>
            <a:xfrm rot="21063600">
              <a:off x="5675760" y="4005720"/>
              <a:ext cx="563040" cy="54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7" name=""/>
            <p:cNvSpPr/>
            <p:nvPr/>
          </p:nvSpPr>
          <p:spPr>
            <a:xfrm>
              <a:off x="2719800" y="3681000"/>
              <a:ext cx="46440" cy="9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8" name=""/>
            <p:cNvSpPr/>
            <p:nvPr/>
          </p:nvSpPr>
          <p:spPr>
            <a:xfrm>
              <a:off x="2813760" y="3820320"/>
              <a:ext cx="0" cy="18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9" name=""/>
            <p:cNvSpPr/>
            <p:nvPr/>
          </p:nvSpPr>
          <p:spPr>
            <a:xfrm>
              <a:off x="2813760" y="4145760"/>
              <a:ext cx="0" cy="278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0" name=""/>
            <p:cNvSpPr/>
            <p:nvPr/>
          </p:nvSpPr>
          <p:spPr>
            <a:xfrm flipV="1">
              <a:off x="2954520" y="3355200"/>
              <a:ext cx="140760" cy="13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1" name=""/>
            <p:cNvSpPr/>
            <p:nvPr/>
          </p:nvSpPr>
          <p:spPr>
            <a:xfrm flipV="1">
              <a:off x="3095280" y="2983320"/>
              <a:ext cx="46800" cy="232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2" name=""/>
            <p:cNvSpPr/>
            <p:nvPr/>
          </p:nvSpPr>
          <p:spPr>
            <a:xfrm flipV="1">
              <a:off x="3188880" y="3634200"/>
              <a:ext cx="563040" cy="4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3" name=""/>
            <p:cNvSpPr/>
            <p:nvPr/>
          </p:nvSpPr>
          <p:spPr>
            <a:xfrm flipV="1">
              <a:off x="3939840" y="3494520"/>
              <a:ext cx="422280" cy="13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4" name=""/>
            <p:cNvSpPr/>
            <p:nvPr/>
          </p:nvSpPr>
          <p:spPr>
            <a:xfrm>
              <a:off x="4503240" y="3541680"/>
              <a:ext cx="375120" cy="13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5" name=""/>
            <p:cNvSpPr/>
            <p:nvPr/>
          </p:nvSpPr>
          <p:spPr>
            <a:xfrm>
              <a:off x="5019120" y="3681000"/>
              <a:ext cx="140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6" name=""/>
            <p:cNvSpPr/>
            <p:nvPr/>
          </p:nvSpPr>
          <p:spPr>
            <a:xfrm flipV="1">
              <a:off x="5441760" y="3634200"/>
              <a:ext cx="281520" cy="4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7" name=""/>
            <p:cNvSpPr/>
            <p:nvPr/>
          </p:nvSpPr>
          <p:spPr>
            <a:xfrm>
              <a:off x="5910840" y="3634560"/>
              <a:ext cx="93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8" name=""/>
            <p:cNvSpPr/>
            <p:nvPr/>
          </p:nvSpPr>
          <p:spPr>
            <a:xfrm flipV="1">
              <a:off x="6145560" y="3587400"/>
              <a:ext cx="187560" cy="4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9" name=""/>
            <p:cNvSpPr/>
            <p:nvPr/>
          </p:nvSpPr>
          <p:spPr>
            <a:xfrm flipH="1">
              <a:off x="2766600" y="4517640"/>
              <a:ext cx="46800" cy="278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0" name=""/>
            <p:cNvSpPr/>
            <p:nvPr/>
          </p:nvSpPr>
          <p:spPr>
            <a:xfrm>
              <a:off x="2719800" y="4935960"/>
              <a:ext cx="0" cy="13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1" name=""/>
            <p:cNvSpPr/>
            <p:nvPr/>
          </p:nvSpPr>
          <p:spPr>
            <a:xfrm flipH="1">
              <a:off x="2673000" y="5307840"/>
              <a:ext cx="46800" cy="32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2" name=""/>
            <p:cNvSpPr/>
            <p:nvPr/>
          </p:nvSpPr>
          <p:spPr>
            <a:xfrm flipV="1">
              <a:off x="2813760" y="4796640"/>
              <a:ext cx="140760" cy="46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3" name=""/>
            <p:cNvSpPr/>
            <p:nvPr/>
          </p:nvSpPr>
          <p:spPr>
            <a:xfrm>
              <a:off x="3142440" y="4750200"/>
              <a:ext cx="140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4" name=""/>
            <p:cNvSpPr/>
            <p:nvPr/>
          </p:nvSpPr>
          <p:spPr>
            <a:xfrm flipV="1">
              <a:off x="3517560" y="4657320"/>
              <a:ext cx="375120" cy="46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5" name=""/>
            <p:cNvSpPr/>
            <p:nvPr/>
          </p:nvSpPr>
          <p:spPr>
            <a:xfrm>
              <a:off x="3987000" y="4703400"/>
              <a:ext cx="140760" cy="4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6" name=""/>
            <p:cNvSpPr/>
            <p:nvPr/>
          </p:nvSpPr>
          <p:spPr>
            <a:xfrm>
              <a:off x="4221720" y="4796640"/>
              <a:ext cx="140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7" name=""/>
            <p:cNvSpPr/>
            <p:nvPr/>
          </p:nvSpPr>
          <p:spPr>
            <a:xfrm>
              <a:off x="4503240" y="4843080"/>
              <a:ext cx="140760" cy="4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8" name=""/>
            <p:cNvSpPr/>
            <p:nvPr/>
          </p:nvSpPr>
          <p:spPr>
            <a:xfrm flipV="1">
              <a:off x="4737600" y="4796640"/>
              <a:ext cx="281520" cy="46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9" name=""/>
            <p:cNvSpPr/>
            <p:nvPr/>
          </p:nvSpPr>
          <p:spPr>
            <a:xfrm>
              <a:off x="5207040" y="4796640"/>
              <a:ext cx="328320" cy="13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0" name=""/>
            <p:cNvSpPr/>
            <p:nvPr/>
          </p:nvSpPr>
          <p:spPr>
            <a:xfrm>
              <a:off x="5629320" y="4935960"/>
              <a:ext cx="281520" cy="46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1" name=""/>
            <p:cNvSpPr/>
            <p:nvPr/>
          </p:nvSpPr>
          <p:spPr>
            <a:xfrm>
              <a:off x="6098760" y="5028840"/>
              <a:ext cx="328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2" name=""/>
            <p:cNvSpPr/>
            <p:nvPr/>
          </p:nvSpPr>
          <p:spPr>
            <a:xfrm flipH="1">
              <a:off x="3564720" y="4610520"/>
              <a:ext cx="28152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3" name=""/>
            <p:cNvSpPr/>
            <p:nvPr/>
          </p:nvSpPr>
          <p:spPr>
            <a:xfrm flipH="1">
              <a:off x="5394960" y="3541680"/>
              <a:ext cx="281520" cy="460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4" name=""/>
            <p:cNvSpPr/>
            <p:nvPr/>
          </p:nvSpPr>
          <p:spPr>
            <a:xfrm flipH="1" flipV="1">
              <a:off x="5628960" y="4842720"/>
              <a:ext cx="234360" cy="464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5" name=""/>
            <p:cNvSpPr/>
            <p:nvPr/>
          </p:nvSpPr>
          <p:spPr>
            <a:xfrm flipV="1">
              <a:off x="3752280" y="5028840"/>
              <a:ext cx="234720" cy="1857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6" name=""/>
            <p:cNvSpPr/>
            <p:nvPr/>
          </p:nvSpPr>
          <p:spPr>
            <a:xfrm flipH="1" flipV="1">
              <a:off x="3939840" y="4749840"/>
              <a:ext cx="46800" cy="1393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7" name=""/>
            <p:cNvSpPr/>
            <p:nvPr/>
          </p:nvSpPr>
          <p:spPr>
            <a:xfrm flipH="1" flipV="1">
              <a:off x="3657960" y="4424400"/>
              <a:ext cx="187560" cy="1393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8" name=""/>
            <p:cNvSpPr/>
            <p:nvPr/>
          </p:nvSpPr>
          <p:spPr>
            <a:xfrm flipH="1">
              <a:off x="3611160" y="5400720"/>
              <a:ext cx="93960" cy="232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9" name=""/>
            <p:cNvSpPr/>
            <p:nvPr/>
          </p:nvSpPr>
          <p:spPr>
            <a:xfrm>
              <a:off x="5770080" y="4610520"/>
              <a:ext cx="93600" cy="2322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0" name=""/>
            <p:cNvSpPr/>
            <p:nvPr/>
          </p:nvSpPr>
          <p:spPr>
            <a:xfrm flipH="1">
              <a:off x="5723280" y="4285080"/>
              <a:ext cx="46800" cy="1857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1" name=""/>
            <p:cNvSpPr/>
            <p:nvPr/>
          </p:nvSpPr>
          <p:spPr>
            <a:xfrm flipV="1">
              <a:off x="5770080" y="3913200"/>
              <a:ext cx="46800" cy="1393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2" name=""/>
            <p:cNvSpPr/>
            <p:nvPr/>
          </p:nvSpPr>
          <p:spPr>
            <a:xfrm flipV="1">
              <a:off x="5817240" y="3681000"/>
              <a:ext cx="0" cy="928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3" name=""/>
            <p:cNvSpPr/>
            <p:nvPr/>
          </p:nvSpPr>
          <p:spPr>
            <a:xfrm>
              <a:off x="3470760" y="4239000"/>
              <a:ext cx="609840" cy="1533960"/>
            </a:xfrm>
            <a:prstGeom prst="rect">
              <a:avLst/>
            </a:prstGeom>
            <a:solidFill>
              <a:srgbClr val="ccffff">
                <a:alpha val="22000"/>
              </a:srgbClr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4" name=""/>
            <p:cNvSpPr/>
            <p:nvPr/>
          </p:nvSpPr>
          <p:spPr>
            <a:xfrm>
              <a:off x="5488560" y="3541680"/>
              <a:ext cx="609840" cy="1533960"/>
            </a:xfrm>
            <a:prstGeom prst="rect">
              <a:avLst/>
            </a:prstGeom>
            <a:solidFill>
              <a:srgbClr val="ccffff">
                <a:alpha val="22000"/>
              </a:srgbClr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5" name=""/>
            <p:cNvSpPr/>
            <p:nvPr/>
          </p:nvSpPr>
          <p:spPr>
            <a:xfrm>
              <a:off x="2485080" y="4564080"/>
              <a:ext cx="4551840" cy="418320"/>
            </a:xfrm>
            <a:prstGeom prst="rect">
              <a:avLst/>
            </a:prstGeom>
            <a:solidFill>
              <a:srgbClr val="ff0000">
                <a:alpha val="26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6" name=""/>
            <p:cNvSpPr/>
            <p:nvPr/>
          </p:nvSpPr>
          <p:spPr>
            <a:xfrm>
              <a:off x="2485080" y="3402000"/>
              <a:ext cx="4551840" cy="418320"/>
            </a:xfrm>
            <a:prstGeom prst="rect">
              <a:avLst/>
            </a:prstGeom>
            <a:solidFill>
              <a:srgbClr val="ff0000">
                <a:alpha val="26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7" name=""/>
            <p:cNvSpPr/>
            <p:nvPr/>
          </p:nvSpPr>
          <p:spPr>
            <a:xfrm>
              <a:off x="2673000" y="2705040"/>
              <a:ext cx="563040" cy="3672000"/>
            </a:xfrm>
            <a:prstGeom prst="rect">
              <a:avLst/>
            </a:prstGeom>
            <a:solidFill>
              <a:srgbClr val="ff0000">
                <a:alpha val="26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M Sensy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2C50C-3832-4FB2-8647-F3D86AFE5621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4/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Objective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Simple, reliable, and efficient</a:t>
            </a:r>
            <a:r>
              <a:rPr b="0" lang="en-US" sz="2800" spc="-1" strike="noStrike">
                <a:solidFill>
                  <a:srgbClr val="891411"/>
                </a:solidFill>
                <a:latin typeface="Arial"/>
              </a:rPr>
              <a:t> on-demand information discovery mech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M Sensy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FEC42-D073-44EC-943B-69C7E7B7A4FD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4/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Simulation Using Prowler 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mission mode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eption model: Threshold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C layer: Simulates Berkeley Motes’ CS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Default radio mode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=0.45, 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=0.02, p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error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=0.05,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=0.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0" name="" descr=""/>
          <p:cNvPicPr/>
          <p:nvPr/>
        </p:nvPicPr>
        <p:blipFill>
          <a:blip r:embed="rId1"/>
          <a:stretch/>
        </p:blipFill>
        <p:spPr>
          <a:xfrm>
            <a:off x="2050920" y="2195640"/>
            <a:ext cx="5265720" cy="885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M Sensy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B57D5-EB12-4A59-9A7B-957B841558D2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4/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Two Experiments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a0c6ba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the optimal spacing of the comb &amp; needle length given 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a0c6ba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the robustness of the protocol in a really sparse network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3" name="" descr=""/>
          <p:cNvPicPr/>
          <p:nvPr/>
        </p:nvPicPr>
        <p:blipFill>
          <a:blip r:embed="rId1"/>
          <a:stretch/>
        </p:blipFill>
        <p:spPr>
          <a:xfrm>
            <a:off x="3938760" y="2560680"/>
            <a:ext cx="1779480" cy="1341360"/>
          </a:xfrm>
          <a:prstGeom prst="rect">
            <a:avLst/>
          </a:prstGeom>
          <a:ln w="0">
            <a:noFill/>
          </a:ln>
        </p:spPr>
      </p:pic>
      <p:pic>
        <p:nvPicPr>
          <p:cNvPr id="2274" name="" descr=""/>
          <p:cNvPicPr/>
          <p:nvPr/>
        </p:nvPicPr>
        <p:blipFill>
          <a:blip r:embed="rId2"/>
          <a:stretch/>
        </p:blipFill>
        <p:spPr>
          <a:xfrm>
            <a:off x="4216320" y="4705200"/>
            <a:ext cx="1893960" cy="1452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M Sensy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7AB87-6B4B-4A8F-BA26-C83883619997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4/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Experiment 1 Results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76" name="" descr=""/>
          <p:cNvPicPr/>
          <p:nvPr/>
        </p:nvPicPr>
        <p:blipFill>
          <a:blip r:embed="rId1"/>
          <a:stretch/>
        </p:blipFill>
        <p:spPr>
          <a:xfrm>
            <a:off x="630360" y="1657440"/>
            <a:ext cx="3882960" cy="3403440"/>
          </a:xfrm>
          <a:prstGeom prst="rect">
            <a:avLst/>
          </a:prstGeom>
          <a:ln w="0">
            <a:noFill/>
          </a:ln>
        </p:spPr>
      </p:pic>
      <p:pic>
        <p:nvPicPr>
          <p:cNvPr id="2277" name="" descr=""/>
          <p:cNvPicPr/>
          <p:nvPr/>
        </p:nvPicPr>
        <p:blipFill>
          <a:blip r:embed="rId2"/>
          <a:stretch/>
        </p:blipFill>
        <p:spPr>
          <a:xfrm>
            <a:off x="4730760" y="1738440"/>
            <a:ext cx="4033800" cy="3317760"/>
          </a:xfrm>
          <a:prstGeom prst="rect">
            <a:avLst/>
          </a:prstGeom>
          <a:ln w="0">
            <a:noFill/>
          </a:ln>
        </p:spPr>
      </p:pic>
      <p:sp>
        <p:nvSpPr>
          <p:cNvPr id="2278" name=""/>
          <p:cNvSpPr/>
          <p:nvPr/>
        </p:nvSpPr>
        <p:spPr>
          <a:xfrm>
            <a:off x="1554480" y="5303880"/>
            <a:ext cx="179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=1, s=3 optim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9" name=""/>
          <p:cNvSpPr/>
          <p:nvPr/>
        </p:nvSpPr>
        <p:spPr>
          <a:xfrm>
            <a:off x="6086520" y="5316480"/>
            <a:ext cx="179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=1, s=3 optim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0" name="" descr=""/>
          <p:cNvPicPr/>
          <p:nvPr/>
        </p:nvPicPr>
        <p:blipFill>
          <a:blip r:embed="rId3"/>
          <a:stretch/>
        </p:blipFill>
        <p:spPr>
          <a:xfrm>
            <a:off x="3471840" y="5767560"/>
            <a:ext cx="3813120" cy="853920"/>
          </a:xfrm>
          <a:prstGeom prst="rect">
            <a:avLst/>
          </a:prstGeom>
          <a:ln w="0">
            <a:noFill/>
          </a:ln>
        </p:spPr>
      </p:pic>
      <p:sp>
        <p:nvSpPr>
          <p:cNvPr id="2281" name=""/>
          <p:cNvSpPr/>
          <p:nvPr/>
        </p:nvSpPr>
        <p:spPr>
          <a:xfrm>
            <a:off x="2584440" y="6037200"/>
            <a:ext cx="11048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ptimal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~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M Sensy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34526-02AC-4EB7-B27B-8B7BA1AC1C0D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4/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Experiment 2 Results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83" name="" descr=""/>
          <p:cNvPicPr/>
          <p:nvPr/>
        </p:nvPicPr>
        <p:blipFill>
          <a:blip r:embed="rId1"/>
          <a:stretch/>
        </p:blipFill>
        <p:spPr>
          <a:xfrm>
            <a:off x="619200" y="1809720"/>
            <a:ext cx="4032000" cy="3305160"/>
          </a:xfrm>
          <a:prstGeom prst="rect">
            <a:avLst/>
          </a:prstGeom>
          <a:ln w="0">
            <a:noFill/>
          </a:ln>
        </p:spPr>
      </p:pic>
      <p:pic>
        <p:nvPicPr>
          <p:cNvPr id="2284" name="" descr=""/>
          <p:cNvPicPr/>
          <p:nvPr/>
        </p:nvPicPr>
        <p:blipFill>
          <a:blip r:embed="rId2"/>
          <a:stretch/>
        </p:blipFill>
        <p:spPr>
          <a:xfrm>
            <a:off x="4724280" y="1852560"/>
            <a:ext cx="4262400" cy="3457800"/>
          </a:xfrm>
          <a:prstGeom prst="rect">
            <a:avLst/>
          </a:prstGeom>
          <a:ln w="0">
            <a:noFill/>
          </a:ln>
        </p:spPr>
      </p:pic>
      <p:sp>
        <p:nvSpPr>
          <p:cNvPr id="2285" name=""/>
          <p:cNvSpPr/>
          <p:nvPr/>
        </p:nvSpPr>
        <p:spPr>
          <a:xfrm>
            <a:off x="1698480" y="5513400"/>
            <a:ext cx="572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ider the CGF wid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More Reliable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More Ener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M Sensy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EFAAE-2ABA-4843-86A3-164B064D5DE2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4/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Adaptive Scheme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b granularity depends on the query and event frequen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des estimate the query and event frequencies to gues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ortant to match needle length and inter-spike spac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asymmetric needle l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b ro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oad balanc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roadcast information of current inter-spike spac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8" name="" descr=""/>
          <p:cNvPicPr/>
          <p:nvPr/>
        </p:nvPicPr>
        <p:blipFill>
          <a:blip r:embed="rId1"/>
          <a:stretch/>
        </p:blipFill>
        <p:spPr>
          <a:xfrm>
            <a:off x="3092400" y="1995480"/>
            <a:ext cx="1606680" cy="557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M Sensy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E633D-7EAF-44F0-8520-36DD1D26C7E6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4/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Simulation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x20 regular gr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 cost: hop cou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node fail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aptive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M Sensy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2BB8F-046D-4117-ABB2-2722C9412B7E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4/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Event &amp; Query Frequencies 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92" name="" descr=""/>
          <p:cNvPicPr/>
          <p:nvPr/>
        </p:nvPicPr>
        <p:blipFill>
          <a:blip r:embed="rId1"/>
          <a:stretch/>
        </p:blipFill>
        <p:spPr>
          <a:xfrm>
            <a:off x="2144880" y="1600200"/>
            <a:ext cx="5311440" cy="453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M Sensy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B725D-57B4-4F5C-BD7E-EFDA31C227FC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4/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Tracking the Ideal Inter-Spike Spacing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94" name="" descr=""/>
          <p:cNvPicPr/>
          <p:nvPr/>
        </p:nvPicPr>
        <p:blipFill>
          <a:blip r:embed="rId1"/>
          <a:stretch/>
        </p:blipFill>
        <p:spPr>
          <a:xfrm>
            <a:off x="2220840" y="1600200"/>
            <a:ext cx="5159520" cy="453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M Sensy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DF5E4-7CF1-4E87-B3CC-7C72C7EA6F90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4/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Simulation Results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in depends on the query and event frequen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n if needle length &lt; inter-spike spacing, there is a chance of succ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deoff between success ratio and c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99.33% success ratio and 99.64% power consumption compared to the ideal c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7" name="" descr=""/>
          <p:cNvPicPr/>
          <p:nvPr/>
        </p:nvPicPr>
        <p:blipFill>
          <a:blip r:embed="rId1"/>
          <a:stretch/>
        </p:blipFill>
        <p:spPr>
          <a:xfrm>
            <a:off x="228600" y="1752480"/>
            <a:ext cx="8915400" cy="860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M Sensy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7C8E3-B3B3-4CDA-901E-1FB2399C14D3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4/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apt to system chan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be applied in hierarchical struc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0" name=""/>
          <p:cNvGrpSpPr/>
          <p:nvPr/>
        </p:nvGrpSpPr>
        <p:grpSpPr>
          <a:xfrm>
            <a:off x="685800" y="2209680"/>
            <a:ext cx="8001000" cy="1282680"/>
            <a:chOff x="685800" y="2209680"/>
            <a:chExt cx="8001000" cy="1282680"/>
          </a:xfrm>
        </p:grpSpPr>
        <p:sp>
          <p:nvSpPr>
            <p:cNvPr id="2301" name=""/>
            <p:cNvSpPr/>
            <p:nvPr/>
          </p:nvSpPr>
          <p:spPr>
            <a:xfrm>
              <a:off x="1066680" y="2971800"/>
              <a:ext cx="6934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2" name=""/>
            <p:cNvSpPr/>
            <p:nvPr/>
          </p:nvSpPr>
          <p:spPr>
            <a:xfrm>
              <a:off x="685800" y="3124080"/>
              <a:ext cx="114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u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3" name=""/>
            <p:cNvSpPr/>
            <p:nvPr/>
          </p:nvSpPr>
          <p:spPr>
            <a:xfrm>
              <a:off x="7543800" y="3124080"/>
              <a:ext cx="114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us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4" name=""/>
            <p:cNvSpPr/>
            <p:nvPr/>
          </p:nvSpPr>
          <p:spPr>
            <a:xfrm>
              <a:off x="1904760" y="220968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Global pull +Local pus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5" name=""/>
            <p:cNvSpPr/>
            <p:nvPr/>
          </p:nvSpPr>
          <p:spPr>
            <a:xfrm>
              <a:off x="5562360" y="2209680"/>
              <a:ext cx="2057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Global push +Local pu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6" name=""/>
            <p:cNvSpPr/>
            <p:nvPr/>
          </p:nvSpPr>
          <p:spPr>
            <a:xfrm>
              <a:off x="3733560" y="3124080"/>
              <a:ext cx="221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ush &amp; Pu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7" name=""/>
            <p:cNvSpPr/>
            <p:nvPr/>
          </p:nvSpPr>
          <p:spPr>
            <a:xfrm>
              <a:off x="1066680" y="281916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8" name=""/>
            <p:cNvSpPr/>
            <p:nvPr/>
          </p:nvSpPr>
          <p:spPr>
            <a:xfrm>
              <a:off x="8001000" y="281916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9" name=""/>
          <p:cNvGrpSpPr/>
          <p:nvPr/>
        </p:nvGrpSpPr>
        <p:grpSpPr>
          <a:xfrm>
            <a:off x="1828800" y="4038480"/>
            <a:ext cx="5103720" cy="551520"/>
            <a:chOff x="1828800" y="4038480"/>
            <a:chExt cx="5103720" cy="551520"/>
          </a:xfrm>
        </p:grpSpPr>
        <p:sp>
          <p:nvSpPr>
            <p:cNvPr id="2310" name=""/>
            <p:cNvSpPr/>
            <p:nvPr/>
          </p:nvSpPr>
          <p:spPr>
            <a:xfrm>
              <a:off x="1828800" y="4038480"/>
              <a:ext cx="5103720" cy="0"/>
            </a:xfrm>
            <a:prstGeom prst="line">
              <a:avLst/>
            </a:prstGeom>
            <a:ln w="25560">
              <a:solidFill>
                <a:srgbClr val="0000cc"/>
              </a:solidFill>
              <a:prstDash val="dash"/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1" name=""/>
            <p:cNvSpPr/>
            <p:nvPr/>
          </p:nvSpPr>
          <p:spPr>
            <a:xfrm>
              <a:off x="2203200" y="4191120"/>
              <a:ext cx="4163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cc"/>
                  </a:solidFill>
                  <a:latin typeface="Arial"/>
                  <a:ea typeface="Arial"/>
                </a:rPr>
                <a:t>Relative query frequency increas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M Sensy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DC191-54F1-4B6C-9325-213B44348823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4/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" name=""/>
          <p:cNvGrpSpPr/>
          <p:nvPr/>
        </p:nvGrpSpPr>
        <p:grpSpPr>
          <a:xfrm>
            <a:off x="1371600" y="2286000"/>
            <a:ext cx="6629400" cy="3657240"/>
            <a:chOff x="1371600" y="2286000"/>
            <a:chExt cx="6629400" cy="3657240"/>
          </a:xfrm>
        </p:grpSpPr>
        <p:sp>
          <p:nvSpPr>
            <p:cNvPr id="110" name=""/>
            <p:cNvSpPr/>
            <p:nvPr/>
          </p:nvSpPr>
          <p:spPr>
            <a:xfrm>
              <a:off x="1629000" y="3242520"/>
              <a:ext cx="128520" cy="112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654080" y="3580200"/>
              <a:ext cx="128520" cy="112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272320" y="3748680"/>
              <a:ext cx="128880" cy="112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460760" y="4705560"/>
              <a:ext cx="128520" cy="1123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500120" y="3861720"/>
              <a:ext cx="128880" cy="1123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233320" y="4086360"/>
              <a:ext cx="128520" cy="112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292520" y="5212080"/>
              <a:ext cx="128880" cy="1123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069960" y="4874400"/>
              <a:ext cx="128520" cy="1123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044880" y="5043240"/>
              <a:ext cx="128880" cy="1123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168880" y="5099400"/>
              <a:ext cx="128880" cy="112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624120" y="5268240"/>
              <a:ext cx="128880" cy="112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134040" y="5324760"/>
              <a:ext cx="128880" cy="1123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139280" y="5493240"/>
              <a:ext cx="128520" cy="1123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718520" y="5268240"/>
              <a:ext cx="128520" cy="112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817080" y="4480560"/>
              <a:ext cx="128880" cy="1123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821960" y="4818240"/>
              <a:ext cx="128520" cy="1123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594520" y="4592880"/>
              <a:ext cx="128520" cy="112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465640" y="5493240"/>
              <a:ext cx="128880" cy="1123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688560" y="3242520"/>
              <a:ext cx="128520" cy="112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554800" y="3805200"/>
              <a:ext cx="128880" cy="1123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842520" y="4367880"/>
              <a:ext cx="128520" cy="1123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777720" y="3974040"/>
              <a:ext cx="128520" cy="1123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302280" y="3692880"/>
              <a:ext cx="128520" cy="1123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262920" y="3411360"/>
              <a:ext cx="128520" cy="112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361840" y="2792160"/>
              <a:ext cx="128880" cy="1123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881520" y="3748680"/>
              <a:ext cx="128520" cy="112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168880" y="3298680"/>
              <a:ext cx="128880" cy="1123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327360" y="3917520"/>
              <a:ext cx="128880" cy="112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164000" y="3524040"/>
              <a:ext cx="128520" cy="1123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500120" y="4592880"/>
              <a:ext cx="128880" cy="112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564560" y="5380920"/>
              <a:ext cx="128520" cy="1123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044880" y="5380920"/>
              <a:ext cx="128880" cy="1123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139280" y="4592880"/>
              <a:ext cx="128520" cy="112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906600" y="5774760"/>
              <a:ext cx="128880" cy="112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143800" y="3298680"/>
              <a:ext cx="128520" cy="1123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688560" y="2792160"/>
              <a:ext cx="128520" cy="1123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723040" y="3805200"/>
              <a:ext cx="128520" cy="1123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847040" y="4761720"/>
              <a:ext cx="128520" cy="112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426280" y="4592880"/>
              <a:ext cx="128520" cy="112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757520" y="4199040"/>
              <a:ext cx="128520" cy="1123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911480" y="4367880"/>
              <a:ext cx="128520" cy="1123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872120" y="5043240"/>
              <a:ext cx="128880" cy="1123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584760" y="4930560"/>
              <a:ext cx="128520" cy="112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945960" y="4874400"/>
              <a:ext cx="128520" cy="1123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748120" y="5155920"/>
              <a:ext cx="128880" cy="1123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203360" y="5830920"/>
              <a:ext cx="128880" cy="1123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391800" y="5718600"/>
              <a:ext cx="128520" cy="1123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104440" y="5830920"/>
              <a:ext cx="128520" cy="1123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550280" y="4480560"/>
              <a:ext cx="128520" cy="1123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332240" y="4030560"/>
              <a:ext cx="128520" cy="1123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143800" y="5043240"/>
              <a:ext cx="128520" cy="1123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044880" y="4536720"/>
              <a:ext cx="128880" cy="1123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916000" y="5830920"/>
              <a:ext cx="128520" cy="1123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60760" y="3073680"/>
              <a:ext cx="128520" cy="112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877000" y="4424040"/>
              <a:ext cx="128520" cy="112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292520" y="4930560"/>
              <a:ext cx="128880" cy="112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614720" y="4030560"/>
              <a:ext cx="128520" cy="1123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302280" y="4142880"/>
              <a:ext cx="128520" cy="1123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391800" y="3524040"/>
              <a:ext cx="128520" cy="1123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619240" y="3298680"/>
              <a:ext cx="128520" cy="1123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941080" y="4199040"/>
              <a:ext cx="128880" cy="1123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292520" y="4592880"/>
              <a:ext cx="128880" cy="112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485840" y="3692880"/>
              <a:ext cx="128880" cy="1123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3800" y="4705560"/>
              <a:ext cx="128520" cy="1123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15280" y="5718600"/>
              <a:ext cx="128520" cy="1123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550280" y="5549760"/>
              <a:ext cx="128520" cy="1123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550280" y="3411360"/>
              <a:ext cx="128520" cy="112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7228440" y="3298680"/>
              <a:ext cx="128520" cy="1123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262920" y="4367880"/>
              <a:ext cx="128520" cy="1123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713280" y="3298680"/>
              <a:ext cx="128880" cy="1123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099560" y="3129840"/>
              <a:ext cx="128880" cy="1123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272320" y="3411360"/>
              <a:ext cx="128880" cy="112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723040" y="3298680"/>
              <a:ext cx="128520" cy="1123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72320" y="4255200"/>
              <a:ext cx="128880" cy="112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099560" y="2286000"/>
              <a:ext cx="128880" cy="1123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430800" y="2342160"/>
              <a:ext cx="128880" cy="1123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941080" y="2398320"/>
              <a:ext cx="128880" cy="112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460760" y="2398320"/>
              <a:ext cx="128520" cy="112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2272320" y="2567160"/>
              <a:ext cx="128880" cy="112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371600" y="2454480"/>
              <a:ext cx="128520" cy="1123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851560" y="2454480"/>
              <a:ext cx="128880" cy="1123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649200" y="2567160"/>
              <a:ext cx="128520" cy="112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074480" y="2454480"/>
              <a:ext cx="128520" cy="1123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198480" y="2792160"/>
              <a:ext cx="128520" cy="1123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589280" y="2511000"/>
              <a:ext cx="128880" cy="1123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723040" y="2904840"/>
              <a:ext cx="128520" cy="112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821960" y="2792160"/>
              <a:ext cx="128520" cy="1123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357320" y="2623320"/>
              <a:ext cx="128520" cy="1123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8" name="" descr=""/>
            <p:cNvPicPr/>
            <p:nvPr/>
          </p:nvPicPr>
          <p:blipFill>
            <a:blip r:embed="rId1"/>
            <a:stretch/>
          </p:blipFill>
          <p:spPr>
            <a:xfrm>
              <a:off x="1950840" y="2736000"/>
              <a:ext cx="698400" cy="675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9" name="" descr=""/>
            <p:cNvPicPr/>
            <p:nvPr/>
          </p:nvPicPr>
          <p:blipFill>
            <a:blip r:embed="rId2"/>
            <a:stretch/>
          </p:blipFill>
          <p:spPr>
            <a:xfrm rot="21064200">
              <a:off x="2787120" y="5042520"/>
              <a:ext cx="772200" cy="66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0" name="" descr=""/>
            <p:cNvPicPr/>
            <p:nvPr/>
          </p:nvPicPr>
          <p:blipFill>
            <a:blip r:embed="rId3"/>
            <a:stretch/>
          </p:blipFill>
          <p:spPr>
            <a:xfrm rot="21064200">
              <a:off x="6198120" y="3804480"/>
              <a:ext cx="772200" cy="662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1" name=""/>
          <p:cNvSpPr/>
          <p:nvPr/>
        </p:nvSpPr>
        <p:spPr>
          <a:xfrm>
            <a:off x="60948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  <a:ea typeface="Arial"/>
              </a:rPr>
              <a:t>Where are the tanks?</a:t>
            </a:r>
            <a:r>
              <a:rPr b="0" lang="en-US" sz="4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M Sensy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3F7E0-6241-47DF-BE72-95EE851A5C3A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4/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rther study on random net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ing a “comb-needle-like” structure without location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with data aggregation and compre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rehensive models for communication co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4" name=""/>
          <p:cNvSpPr txBox="1"/>
          <p:nvPr/>
        </p:nvSpPr>
        <p:spPr>
          <a:xfrm>
            <a:off x="3127320" y="4740120"/>
            <a:ext cx="2933640" cy="133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hank you!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M Sensy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4DC4F-2920-4B59-889B-9AB2016BFF62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4/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2" name=""/>
          <p:cNvGrpSpPr/>
          <p:nvPr/>
        </p:nvGrpSpPr>
        <p:grpSpPr>
          <a:xfrm>
            <a:off x="1523880" y="2286000"/>
            <a:ext cx="6629400" cy="3580920"/>
            <a:chOff x="1523880" y="2286000"/>
            <a:chExt cx="6629400" cy="3580920"/>
          </a:xfrm>
        </p:grpSpPr>
        <p:sp>
          <p:nvSpPr>
            <p:cNvPr id="203" name=""/>
            <p:cNvSpPr/>
            <p:nvPr/>
          </p:nvSpPr>
          <p:spPr>
            <a:xfrm>
              <a:off x="1781280" y="3222360"/>
              <a:ext cx="128520" cy="110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806360" y="3553200"/>
              <a:ext cx="128520" cy="110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424600" y="3718440"/>
              <a:ext cx="128880" cy="110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613040" y="4655160"/>
              <a:ext cx="128520" cy="1098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652400" y="3828600"/>
              <a:ext cx="128880" cy="1098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385600" y="4048920"/>
              <a:ext cx="128520" cy="110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444800" y="5151240"/>
              <a:ext cx="128880" cy="1098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222240" y="4820400"/>
              <a:ext cx="128520" cy="1098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197160" y="4985640"/>
              <a:ext cx="128880" cy="10980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321160" y="5040720"/>
              <a:ext cx="128880" cy="110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776400" y="5205960"/>
              <a:ext cx="128880" cy="110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286320" y="5261040"/>
              <a:ext cx="128880" cy="1098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291560" y="5426640"/>
              <a:ext cx="128520" cy="1098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870800" y="5205960"/>
              <a:ext cx="128520" cy="110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969360" y="4434840"/>
              <a:ext cx="128880" cy="1098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974240" y="4765320"/>
              <a:ext cx="128520" cy="1098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746800" y="4544640"/>
              <a:ext cx="128520" cy="110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617920" y="5426640"/>
              <a:ext cx="128880" cy="1098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840840" y="3222360"/>
              <a:ext cx="128520" cy="110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707080" y="3773520"/>
              <a:ext cx="128880" cy="1098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994800" y="4324680"/>
              <a:ext cx="128520" cy="1098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930000" y="3938760"/>
              <a:ext cx="128520" cy="1098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454560" y="3663360"/>
              <a:ext cx="128520" cy="1098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286320" y="3387600"/>
              <a:ext cx="128880" cy="110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514120" y="2781720"/>
              <a:ext cx="128880" cy="1098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033800" y="3718440"/>
              <a:ext cx="128520" cy="110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321160" y="3277440"/>
              <a:ext cx="128880" cy="1098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479640" y="3883680"/>
              <a:ext cx="128880" cy="1101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316280" y="3498120"/>
              <a:ext cx="128520" cy="1098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652400" y="4544640"/>
              <a:ext cx="128880" cy="110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716840" y="5316480"/>
              <a:ext cx="128520" cy="1098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197160" y="5316480"/>
              <a:ext cx="128880" cy="1098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291560" y="4544640"/>
              <a:ext cx="128520" cy="110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058880" y="5702040"/>
              <a:ext cx="128880" cy="110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103120" y="3222360"/>
              <a:ext cx="128520" cy="110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840840" y="2781720"/>
              <a:ext cx="128520" cy="1098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875320" y="3773520"/>
              <a:ext cx="128520" cy="1098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999320" y="4710240"/>
              <a:ext cx="128520" cy="110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578560" y="4544640"/>
              <a:ext cx="128520" cy="110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909800" y="4159440"/>
              <a:ext cx="128520" cy="1098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063760" y="4324680"/>
              <a:ext cx="128520" cy="1098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8024400" y="4985640"/>
              <a:ext cx="128880" cy="1098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737040" y="4875480"/>
              <a:ext cx="128520" cy="110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098240" y="4820400"/>
              <a:ext cx="128520" cy="1098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900400" y="5095800"/>
              <a:ext cx="128880" cy="1098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355640" y="5757120"/>
              <a:ext cx="128880" cy="1098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544080" y="5646960"/>
              <a:ext cx="128520" cy="1098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256720" y="5757120"/>
              <a:ext cx="128520" cy="1098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702560" y="4434840"/>
              <a:ext cx="128520" cy="1098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484520" y="3993840"/>
              <a:ext cx="128520" cy="1098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296080" y="4985640"/>
              <a:ext cx="128520" cy="1098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197160" y="4489920"/>
              <a:ext cx="128880" cy="1098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068280" y="5757120"/>
              <a:ext cx="128520" cy="1098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613040" y="3057120"/>
              <a:ext cx="128520" cy="110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964840" y="4434840"/>
              <a:ext cx="128520" cy="1098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7316280" y="4875480"/>
              <a:ext cx="128520" cy="110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767000" y="3993840"/>
              <a:ext cx="128520" cy="1098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54560" y="4104000"/>
              <a:ext cx="128520" cy="1098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544080" y="3498120"/>
              <a:ext cx="128520" cy="1098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771520" y="3277440"/>
              <a:ext cx="128520" cy="1098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093360" y="4159440"/>
              <a:ext cx="128880" cy="1098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444800" y="4544640"/>
              <a:ext cx="128880" cy="110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638120" y="3663360"/>
              <a:ext cx="128880" cy="1098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296080" y="4655160"/>
              <a:ext cx="128520" cy="1098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167560" y="5646960"/>
              <a:ext cx="128520" cy="1098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7702560" y="5481720"/>
              <a:ext cx="128520" cy="1098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7702560" y="3387600"/>
              <a:ext cx="128520" cy="110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7380720" y="3277440"/>
              <a:ext cx="128520" cy="1098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415200" y="4324680"/>
              <a:ext cx="128520" cy="1098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865560" y="3277440"/>
              <a:ext cx="128880" cy="1098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7251840" y="3112200"/>
              <a:ext cx="128880" cy="1098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424600" y="3387600"/>
              <a:ext cx="128880" cy="110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875320" y="3277440"/>
              <a:ext cx="128520" cy="1098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424600" y="4214160"/>
              <a:ext cx="128880" cy="110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251840" y="2286000"/>
              <a:ext cx="128880" cy="1098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583080" y="2341080"/>
              <a:ext cx="128880" cy="1098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093360" y="2395800"/>
              <a:ext cx="128880" cy="110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613040" y="2395800"/>
              <a:ext cx="128520" cy="110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424600" y="2561400"/>
              <a:ext cx="128880" cy="110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523880" y="2451240"/>
              <a:ext cx="128520" cy="1098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003840" y="2451240"/>
              <a:ext cx="128880" cy="1098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801480" y="2561400"/>
              <a:ext cx="128520" cy="110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226760" y="2451240"/>
              <a:ext cx="128520" cy="1098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350760" y="2781720"/>
              <a:ext cx="128520" cy="1098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741560" y="2506320"/>
              <a:ext cx="128880" cy="1098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875320" y="2891880"/>
              <a:ext cx="128520" cy="110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974240" y="2781720"/>
              <a:ext cx="128520" cy="1098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7509600" y="2616480"/>
              <a:ext cx="128520" cy="1098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91" name="" descr=""/>
            <p:cNvPicPr/>
            <p:nvPr/>
          </p:nvPicPr>
          <p:blipFill>
            <a:blip r:embed="rId1"/>
            <a:stretch/>
          </p:blipFill>
          <p:spPr>
            <a:xfrm>
              <a:off x="2939760" y="2891880"/>
              <a:ext cx="698400" cy="660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2" name="" descr=""/>
            <p:cNvPicPr/>
            <p:nvPr/>
          </p:nvPicPr>
          <p:blipFill>
            <a:blip r:embed="rId2"/>
            <a:stretch/>
          </p:blipFill>
          <p:spPr>
            <a:xfrm rot="21064200">
              <a:off x="2681280" y="4930200"/>
              <a:ext cx="772200" cy="648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3" name="" descr=""/>
            <p:cNvPicPr/>
            <p:nvPr/>
          </p:nvPicPr>
          <p:blipFill>
            <a:blip r:embed="rId3"/>
            <a:stretch/>
          </p:blipFill>
          <p:spPr>
            <a:xfrm rot="21064200">
              <a:off x="6414120" y="3663000"/>
              <a:ext cx="772200" cy="64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4" name=""/>
            <p:cNvSpPr/>
            <p:nvPr/>
          </p:nvSpPr>
          <p:spPr>
            <a:xfrm flipH="1">
              <a:off x="3003840" y="3498120"/>
              <a:ext cx="128880" cy="219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454560" y="3553200"/>
              <a:ext cx="64440" cy="110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 flipH="1">
              <a:off x="2617560" y="3883680"/>
              <a:ext cx="257400" cy="27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19000" y="3828600"/>
              <a:ext cx="0" cy="219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3711960" y="3718440"/>
              <a:ext cx="257040" cy="5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4098240" y="3167280"/>
              <a:ext cx="385920" cy="109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226760" y="3828600"/>
              <a:ext cx="257400" cy="16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 flipV="1">
              <a:off x="4613040" y="3718080"/>
              <a:ext cx="257400" cy="27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677480" y="3222360"/>
              <a:ext cx="128520" cy="220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3583080" y="3277080"/>
              <a:ext cx="192960" cy="5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 flipV="1">
              <a:off x="3905280" y="2946600"/>
              <a:ext cx="64080" cy="27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 flipV="1">
              <a:off x="3711600" y="2505960"/>
              <a:ext cx="128520" cy="219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939760" y="2616480"/>
              <a:ext cx="64080" cy="220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 flipH="1">
              <a:off x="2553480" y="3332880"/>
              <a:ext cx="257040" cy="5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 flipV="1">
              <a:off x="2939760" y="3056760"/>
              <a:ext cx="0" cy="16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 flipH="1">
              <a:off x="3390120" y="4269240"/>
              <a:ext cx="128880" cy="220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711960" y="4269240"/>
              <a:ext cx="257040" cy="16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098240" y="4489920"/>
              <a:ext cx="192960" cy="5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553480" y="4379400"/>
              <a:ext cx="192960" cy="220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 flipH="1">
              <a:off x="2360160" y="4379400"/>
              <a:ext cx="128520" cy="27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3326040" y="4655160"/>
              <a:ext cx="0" cy="27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 flipH="1">
              <a:off x="2939760" y="4544640"/>
              <a:ext cx="192960" cy="5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4677480" y="4159440"/>
              <a:ext cx="321480" cy="16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5192280" y="4159080"/>
              <a:ext cx="257400" cy="16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5578560" y="3883320"/>
              <a:ext cx="192960" cy="16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 flipV="1">
              <a:off x="4999320" y="3387240"/>
              <a:ext cx="321480" cy="16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450040" y="3332880"/>
              <a:ext cx="257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964840" y="3332880"/>
              <a:ext cx="321480" cy="5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6479640" y="3498120"/>
              <a:ext cx="64440" cy="5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835960" y="3938760"/>
              <a:ext cx="257040" cy="220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6222240" y="3993480"/>
              <a:ext cx="257040" cy="16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222240" y="4269240"/>
              <a:ext cx="192960" cy="109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093360" y="4269240"/>
              <a:ext cx="0" cy="109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256720" y="4434840"/>
              <a:ext cx="321480" cy="109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835960" y="4544640"/>
              <a:ext cx="192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 flipV="1">
              <a:off x="3969360" y="2561400"/>
              <a:ext cx="257400" cy="220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6093360" y="4600080"/>
              <a:ext cx="128880" cy="220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350760" y="4875480"/>
              <a:ext cx="321480" cy="5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930000" y="4930560"/>
              <a:ext cx="385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7444800" y="5040720"/>
              <a:ext cx="64440" cy="110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7380720" y="4710240"/>
              <a:ext cx="128520" cy="110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6093000" y="4985640"/>
              <a:ext cx="64440" cy="109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7574040" y="5316480"/>
              <a:ext cx="128520" cy="16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 flipH="1">
              <a:off x="2617560" y="2506320"/>
              <a:ext cx="257400" cy="5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 flipH="1">
              <a:off x="2167200" y="2671560"/>
              <a:ext cx="128520" cy="5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 flipH="1" flipV="1">
              <a:off x="2231640" y="3332880"/>
              <a:ext cx="128880" cy="5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390120" y="5095800"/>
              <a:ext cx="257400" cy="16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3905280" y="5316480"/>
              <a:ext cx="257040" cy="16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420080" y="5591880"/>
              <a:ext cx="0" cy="16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 flipH="1">
              <a:off x="4226400" y="4655160"/>
              <a:ext cx="64440" cy="16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4" name=""/>
          <p:cNvSpPr/>
          <p:nvPr/>
        </p:nvSpPr>
        <p:spPr>
          <a:xfrm>
            <a:off x="68580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  <a:ea typeface="Arial"/>
              </a:rPr>
              <a:t>Pull-based Strategy</a:t>
            </a:r>
            <a:r>
              <a:rPr b="0" lang="en-US" sz="4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4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M Sensy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CAF47-5597-4A1F-B3D7-E0992A3D5EA4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4/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5" name=""/>
          <p:cNvGrpSpPr/>
          <p:nvPr/>
        </p:nvGrpSpPr>
        <p:grpSpPr>
          <a:xfrm>
            <a:off x="1143000" y="1981080"/>
            <a:ext cx="6705360" cy="3962160"/>
            <a:chOff x="1143000" y="1981080"/>
            <a:chExt cx="6705360" cy="3962160"/>
          </a:xfrm>
        </p:grpSpPr>
        <p:sp>
          <p:nvSpPr>
            <p:cNvPr id="346" name=""/>
            <p:cNvSpPr/>
            <p:nvPr/>
          </p:nvSpPr>
          <p:spPr>
            <a:xfrm>
              <a:off x="1403280" y="3017160"/>
              <a:ext cx="129960" cy="12204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463280" y="3382920"/>
              <a:ext cx="129960" cy="12204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054160" y="3565800"/>
              <a:ext cx="130320" cy="12204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4267800" y="4602600"/>
              <a:ext cx="129960" cy="121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272960" y="3687840"/>
              <a:ext cx="130320" cy="121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5049000" y="3931560"/>
              <a:ext cx="129960" cy="12204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32320" y="5151240"/>
              <a:ext cx="130320" cy="121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5895360" y="4785480"/>
              <a:ext cx="129960" cy="121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2835360" y="4968360"/>
              <a:ext cx="130320" cy="12168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4983840" y="5029200"/>
              <a:ext cx="130320" cy="12204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421440" y="5212080"/>
              <a:ext cx="130320" cy="12204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960520" y="5272920"/>
              <a:ext cx="130320" cy="121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942360" y="5455800"/>
              <a:ext cx="129960" cy="121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4528440" y="5212080"/>
              <a:ext cx="129960" cy="12204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616560" y="4358520"/>
              <a:ext cx="130320" cy="121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598760" y="4724280"/>
              <a:ext cx="129960" cy="121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2379960" y="4480200"/>
              <a:ext cx="129960" cy="12204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249640" y="5455800"/>
              <a:ext cx="130320" cy="121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486600" y="3017160"/>
              <a:ext cx="129960" cy="12204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74440" y="3627000"/>
              <a:ext cx="130320" cy="121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6676560" y="4236840"/>
              <a:ext cx="129960" cy="121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6611400" y="3809880"/>
              <a:ext cx="129960" cy="121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096000" y="3504960"/>
              <a:ext cx="129960" cy="121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5960520" y="3200040"/>
              <a:ext cx="130320" cy="12204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179320" y="2529720"/>
              <a:ext cx="130320" cy="121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81720" y="3565800"/>
              <a:ext cx="129960" cy="12204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983840" y="3078360"/>
              <a:ext cx="130320" cy="121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6155640" y="3748680"/>
              <a:ext cx="130320" cy="12204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7002000" y="3322080"/>
              <a:ext cx="129960" cy="121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1272960" y="4480200"/>
              <a:ext cx="130320" cy="12204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338120" y="5334120"/>
              <a:ext cx="129960" cy="121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835360" y="5334120"/>
              <a:ext cx="130320" cy="121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942360" y="4480200"/>
              <a:ext cx="129960" cy="12204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741720" y="5760720"/>
              <a:ext cx="130320" cy="12204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728720" y="3017160"/>
              <a:ext cx="129960" cy="12204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486600" y="2529720"/>
              <a:ext cx="129960" cy="121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2509920" y="3627000"/>
              <a:ext cx="129960" cy="121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658400" y="4663080"/>
              <a:ext cx="129960" cy="12204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244480" y="4480200"/>
              <a:ext cx="129960" cy="12204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1533600" y="4053960"/>
              <a:ext cx="129960" cy="121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723560" y="4236840"/>
              <a:ext cx="129960" cy="121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7718040" y="4968360"/>
              <a:ext cx="130320" cy="121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416280" y="4845960"/>
              <a:ext cx="129960" cy="12204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747240" y="4785480"/>
              <a:ext cx="129960" cy="121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569920" y="5090040"/>
              <a:ext cx="130320" cy="121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007160" y="5821560"/>
              <a:ext cx="130320" cy="121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220800" y="5699880"/>
              <a:ext cx="129960" cy="121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919040" y="5821560"/>
              <a:ext cx="129960" cy="121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7392600" y="4358520"/>
              <a:ext cx="129960" cy="121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4137840" y="3870720"/>
              <a:ext cx="129960" cy="121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24200" y="4968360"/>
              <a:ext cx="129960" cy="121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2835360" y="4419720"/>
              <a:ext cx="130320" cy="121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2705400" y="5821560"/>
              <a:ext cx="129960" cy="121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4267800" y="2834280"/>
              <a:ext cx="129960" cy="12204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635080" y="4358520"/>
              <a:ext cx="129960" cy="121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002000" y="4845960"/>
              <a:ext cx="129960" cy="12204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458120" y="3870720"/>
              <a:ext cx="129960" cy="121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3096000" y="3992760"/>
              <a:ext cx="129960" cy="121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6220800" y="3322080"/>
              <a:ext cx="129960" cy="121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439600" y="3078360"/>
              <a:ext cx="129960" cy="121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765040" y="4053960"/>
              <a:ext cx="130320" cy="121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132320" y="4480200"/>
              <a:ext cx="130320" cy="12204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7327440" y="3504960"/>
              <a:ext cx="130320" cy="121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1924200" y="4602600"/>
              <a:ext cx="129960" cy="121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93880" y="5699880"/>
              <a:ext cx="129960" cy="121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7392600" y="5517000"/>
              <a:ext cx="129960" cy="121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7392600" y="3200040"/>
              <a:ext cx="129960" cy="12204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7067520" y="3078360"/>
              <a:ext cx="129960" cy="121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090840" y="4236840"/>
              <a:ext cx="129960" cy="121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546240" y="3078360"/>
              <a:ext cx="130320" cy="121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6936840" y="2895480"/>
              <a:ext cx="130320" cy="121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2054160" y="3200040"/>
              <a:ext cx="130320" cy="12204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509920" y="3078360"/>
              <a:ext cx="129960" cy="121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054160" y="4114440"/>
              <a:ext cx="130320" cy="12204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6936840" y="1981080"/>
              <a:ext cx="130320" cy="121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225960" y="2041920"/>
              <a:ext cx="130320" cy="121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5765040" y="2102760"/>
              <a:ext cx="130320" cy="12204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4267800" y="2102760"/>
              <a:ext cx="129960" cy="12204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2054160" y="2285640"/>
              <a:ext cx="130320" cy="12204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1143000" y="2163960"/>
              <a:ext cx="129960" cy="121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2640240" y="2163960"/>
              <a:ext cx="130320" cy="121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6481440" y="2285640"/>
              <a:ext cx="129960" cy="12204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3877200" y="2163960"/>
              <a:ext cx="129960" cy="121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6025680" y="2529720"/>
              <a:ext cx="129960" cy="121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397760" y="2224800"/>
              <a:ext cx="130320" cy="121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2509920" y="2651400"/>
              <a:ext cx="129960" cy="12204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1598760" y="2529720"/>
              <a:ext cx="129960" cy="121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197480" y="2346840"/>
              <a:ext cx="129960" cy="121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34" name="" descr=""/>
            <p:cNvPicPr/>
            <p:nvPr/>
          </p:nvPicPr>
          <p:blipFill>
            <a:blip r:embed="rId1"/>
            <a:stretch/>
          </p:blipFill>
          <p:spPr>
            <a:xfrm>
              <a:off x="2575080" y="2651400"/>
              <a:ext cx="706320" cy="73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5" name="" descr=""/>
            <p:cNvPicPr/>
            <p:nvPr/>
          </p:nvPicPr>
          <p:blipFill>
            <a:blip r:embed="rId2"/>
            <a:stretch/>
          </p:blipFill>
          <p:spPr>
            <a:xfrm rot="21064200">
              <a:off x="2314080" y="4906800"/>
              <a:ext cx="781200" cy="717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6" name="" descr=""/>
            <p:cNvPicPr/>
            <p:nvPr/>
          </p:nvPicPr>
          <p:blipFill>
            <a:blip r:embed="rId3"/>
            <a:stretch/>
          </p:blipFill>
          <p:spPr>
            <a:xfrm rot="21064200">
              <a:off x="6090120" y="3504600"/>
              <a:ext cx="781200" cy="71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7" name=""/>
            <p:cNvSpPr/>
            <p:nvPr/>
          </p:nvSpPr>
          <p:spPr>
            <a:xfrm flipH="1">
              <a:off x="2640240" y="3322080"/>
              <a:ext cx="130320" cy="24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3096000" y="3382920"/>
              <a:ext cx="65160" cy="12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 flipH="1">
              <a:off x="2249280" y="3748680"/>
              <a:ext cx="2602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3161160" y="3687840"/>
              <a:ext cx="0" cy="24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3356280" y="3565800"/>
              <a:ext cx="259920" cy="60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 flipV="1">
              <a:off x="3747240" y="2956320"/>
              <a:ext cx="390600" cy="12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877200" y="3687840"/>
              <a:ext cx="260280" cy="18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 flipV="1">
              <a:off x="4267800" y="3565440"/>
              <a:ext cx="2602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332960" y="3017160"/>
              <a:ext cx="129960" cy="24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 flipV="1">
              <a:off x="3225960" y="3078000"/>
              <a:ext cx="195120" cy="60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 flipV="1">
              <a:off x="3551760" y="2712600"/>
              <a:ext cx="648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 flipH="1" flipV="1">
              <a:off x="3355920" y="2224800"/>
              <a:ext cx="129960" cy="24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 flipV="1">
              <a:off x="2575080" y="2346480"/>
              <a:ext cx="64800" cy="24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 flipH="1">
              <a:off x="2184480" y="3139200"/>
              <a:ext cx="259920" cy="60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 flipV="1">
              <a:off x="2575080" y="2834280"/>
              <a:ext cx="0" cy="18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2965320" y="4175640"/>
              <a:ext cx="129960" cy="24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356280" y="4175640"/>
              <a:ext cx="259920" cy="18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747240" y="4419720"/>
              <a:ext cx="195120" cy="60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2184480" y="4297320"/>
              <a:ext cx="195120" cy="24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 flipH="1">
              <a:off x="1989000" y="4297320"/>
              <a:ext cx="1299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2965680" y="460260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 flipH="1">
              <a:off x="2575080" y="4480200"/>
              <a:ext cx="195120" cy="60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4332960" y="4053960"/>
              <a:ext cx="325080" cy="18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 flipV="1">
              <a:off x="4853880" y="4053960"/>
              <a:ext cx="260280" cy="18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 flipV="1">
              <a:off x="5244480" y="3748680"/>
              <a:ext cx="195120" cy="18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 flipV="1">
              <a:off x="4658400" y="3200040"/>
              <a:ext cx="325080" cy="18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114160" y="3139200"/>
              <a:ext cx="25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5635080" y="3139200"/>
              <a:ext cx="325080" cy="60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155640" y="3322080"/>
              <a:ext cx="65160" cy="60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5504760" y="3809880"/>
              <a:ext cx="259920" cy="24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5895360" y="3870720"/>
              <a:ext cx="259920" cy="18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895360" y="4175640"/>
              <a:ext cx="195120" cy="12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765040" y="4175640"/>
              <a:ext cx="0" cy="12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4919040" y="4358520"/>
              <a:ext cx="325080" cy="12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5504760" y="4480200"/>
              <a:ext cx="195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 flipV="1">
              <a:off x="3616560" y="2285280"/>
              <a:ext cx="260280" cy="24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5765040" y="4541400"/>
              <a:ext cx="130320" cy="24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6025680" y="4845960"/>
              <a:ext cx="325080" cy="60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6611400" y="49071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7132320" y="5029200"/>
              <a:ext cx="65160" cy="12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 flipV="1">
              <a:off x="7067520" y="4662720"/>
              <a:ext cx="129960" cy="12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 flipH="1">
              <a:off x="5764680" y="4968360"/>
              <a:ext cx="65160" cy="12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7262640" y="5334120"/>
              <a:ext cx="129960" cy="18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 flipH="1">
              <a:off x="2249280" y="2224800"/>
              <a:ext cx="260280" cy="60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 flipH="1">
              <a:off x="1793520" y="2407680"/>
              <a:ext cx="129960" cy="60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 flipH="1" flipV="1">
              <a:off x="1858680" y="3139200"/>
              <a:ext cx="130320" cy="60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3030840" y="5090040"/>
              <a:ext cx="260280" cy="18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3551760" y="5334120"/>
              <a:ext cx="259920" cy="18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4072320" y="5638680"/>
              <a:ext cx="0" cy="18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3876840" y="4602600"/>
              <a:ext cx="65160" cy="18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 flipV="1">
              <a:off x="3096000" y="4541400"/>
              <a:ext cx="0" cy="3045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 flipV="1">
              <a:off x="3096000" y="4175280"/>
              <a:ext cx="129960" cy="2437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 flipV="1">
              <a:off x="3291120" y="3627000"/>
              <a:ext cx="0" cy="3045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 flipH="1" flipV="1">
              <a:off x="3225600" y="3322080"/>
              <a:ext cx="65160" cy="1828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 flipH="1">
              <a:off x="5829840" y="3809880"/>
              <a:ext cx="260280" cy="1828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 flipH="1" flipV="1">
              <a:off x="5569920" y="3748680"/>
              <a:ext cx="195120" cy="1828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 flipH="1">
              <a:off x="5179320" y="3748680"/>
              <a:ext cx="130320" cy="1220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 flipH="1">
              <a:off x="4788000" y="3992760"/>
              <a:ext cx="260280" cy="1828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 flipH="1" flipV="1">
              <a:off x="4332600" y="3931560"/>
              <a:ext cx="325080" cy="1828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 flipH="1" flipV="1">
              <a:off x="3942360" y="3627000"/>
              <a:ext cx="195120" cy="1216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 flipH="1" flipV="1">
              <a:off x="3356280" y="3443760"/>
              <a:ext cx="259920" cy="608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8" name=""/>
          <p:cNvSpPr/>
          <p:nvPr/>
        </p:nvSpPr>
        <p:spPr>
          <a:xfrm>
            <a:off x="68580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  <a:ea typeface="Arial"/>
              </a:rPr>
              <a:t>Pull-based Cont’d</a:t>
            </a:r>
            <a:r>
              <a:rPr b="0" lang="en-US" sz="4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4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M Sensy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CD823-7671-46B5-AA59-8872EE630F07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4/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9" name=""/>
          <p:cNvGrpSpPr/>
          <p:nvPr/>
        </p:nvGrpSpPr>
        <p:grpSpPr>
          <a:xfrm>
            <a:off x="1219320" y="1981080"/>
            <a:ext cx="6553080" cy="3885840"/>
            <a:chOff x="1219320" y="1981080"/>
            <a:chExt cx="6553080" cy="3885840"/>
          </a:xfrm>
        </p:grpSpPr>
        <p:sp>
          <p:nvSpPr>
            <p:cNvPr id="500" name=""/>
            <p:cNvSpPr/>
            <p:nvPr/>
          </p:nvSpPr>
          <p:spPr>
            <a:xfrm>
              <a:off x="1473840" y="2997360"/>
              <a:ext cx="127080" cy="1195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4464000" y="3355920"/>
              <a:ext cx="127080" cy="1195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2109600" y="3535200"/>
              <a:ext cx="127440" cy="1195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4272840" y="4551840"/>
              <a:ext cx="127080" cy="119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1346400" y="3655080"/>
              <a:ext cx="127440" cy="119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5036400" y="3894120"/>
              <a:ext cx="127080" cy="1195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7072200" y="5090040"/>
              <a:ext cx="127440" cy="119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5863680" y="4731480"/>
              <a:ext cx="127080" cy="119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2873160" y="4910760"/>
              <a:ext cx="127440" cy="1191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4972680" y="4970160"/>
              <a:ext cx="127440" cy="1195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3445920" y="5149800"/>
              <a:ext cx="127440" cy="1195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5927040" y="5209560"/>
              <a:ext cx="127440" cy="119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3954960" y="5388840"/>
              <a:ext cx="127080" cy="119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4527720" y="5149800"/>
              <a:ext cx="127080" cy="1195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3573360" y="4312800"/>
              <a:ext cx="127080" cy="119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1664640" y="4671360"/>
              <a:ext cx="127080" cy="119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428200" y="4432320"/>
              <a:ext cx="127080" cy="1195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2300760" y="5388840"/>
              <a:ext cx="127440" cy="119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3509640" y="2997360"/>
              <a:ext cx="127080" cy="1195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5354280" y="3595320"/>
              <a:ext cx="127440" cy="119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6627240" y="4193280"/>
              <a:ext cx="127080" cy="119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6563520" y="3774600"/>
              <a:ext cx="127080" cy="119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3127680" y="3475800"/>
              <a:ext cx="127080" cy="119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6054480" y="3116880"/>
              <a:ext cx="127080" cy="119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5163480" y="2518920"/>
              <a:ext cx="127440" cy="119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3700440" y="3535200"/>
              <a:ext cx="127080" cy="1195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4972680" y="3057120"/>
              <a:ext cx="127440" cy="119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117840" y="3714840"/>
              <a:ext cx="127440" cy="1195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945120" y="3296520"/>
              <a:ext cx="127080" cy="119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1346400" y="4432320"/>
              <a:ext cx="127440" cy="1195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410120" y="5269320"/>
              <a:ext cx="127080" cy="119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873160" y="5269320"/>
              <a:ext cx="127440" cy="119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954960" y="4432320"/>
              <a:ext cx="127080" cy="1195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6690600" y="5687640"/>
              <a:ext cx="127440" cy="1195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982520" y="3057120"/>
              <a:ext cx="127080" cy="119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09640" y="2518920"/>
              <a:ext cx="127080" cy="119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2555280" y="3595320"/>
              <a:ext cx="127080" cy="119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654800" y="4611600"/>
              <a:ext cx="127080" cy="1195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5227200" y="4432320"/>
              <a:ext cx="127080" cy="1195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1600920" y="4014000"/>
              <a:ext cx="127080" cy="119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4718520" y="4193280"/>
              <a:ext cx="127080" cy="119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7644960" y="4910760"/>
              <a:ext cx="127440" cy="119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372360" y="4790880"/>
              <a:ext cx="127080" cy="1195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764160" y="4731480"/>
              <a:ext cx="127080" cy="119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5545440" y="5030280"/>
              <a:ext cx="127440" cy="119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4018320" y="5747760"/>
              <a:ext cx="127440" cy="119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6181560" y="5628240"/>
              <a:ext cx="127080" cy="119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4909320" y="5747760"/>
              <a:ext cx="127080" cy="119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7326720" y="4312800"/>
              <a:ext cx="127080" cy="119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145760" y="3834360"/>
              <a:ext cx="127080" cy="119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1982520" y="4910760"/>
              <a:ext cx="127080" cy="119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873160" y="4372560"/>
              <a:ext cx="127440" cy="119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2746080" y="5747760"/>
              <a:ext cx="127080" cy="119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4272840" y="2817720"/>
              <a:ext cx="127080" cy="1195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5672880" y="4252680"/>
              <a:ext cx="127080" cy="1195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72200" y="4790880"/>
              <a:ext cx="127440" cy="1195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7390440" y="3834360"/>
              <a:ext cx="127080" cy="119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3127680" y="3953880"/>
              <a:ext cx="127080" cy="119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6181560" y="3296520"/>
              <a:ext cx="127080" cy="119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418000" y="3057120"/>
              <a:ext cx="127080" cy="119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736240" y="4014000"/>
              <a:ext cx="127440" cy="119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7072200" y="4432320"/>
              <a:ext cx="127440" cy="1195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7263000" y="3475800"/>
              <a:ext cx="127440" cy="119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982520" y="4551840"/>
              <a:ext cx="127080" cy="119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1855440" y="5628240"/>
              <a:ext cx="127080" cy="119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326720" y="5448960"/>
              <a:ext cx="127080" cy="119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326720" y="3176640"/>
              <a:ext cx="127080" cy="1195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008840" y="3057120"/>
              <a:ext cx="127080" cy="119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6054480" y="4193280"/>
              <a:ext cx="127080" cy="1191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6499800" y="3057120"/>
              <a:ext cx="127440" cy="119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6881400" y="2877840"/>
              <a:ext cx="127440" cy="119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2109600" y="3176640"/>
              <a:ext cx="127440" cy="1195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2555280" y="3057120"/>
              <a:ext cx="127080" cy="119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2109600" y="4073400"/>
              <a:ext cx="127440" cy="1195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6881400" y="1981080"/>
              <a:ext cx="127440" cy="119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3254760" y="2040840"/>
              <a:ext cx="127440" cy="119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736240" y="2100240"/>
              <a:ext cx="127440" cy="1195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4272840" y="2100240"/>
              <a:ext cx="127080" cy="1195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109600" y="2279880"/>
              <a:ext cx="127440" cy="1195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1219320" y="2160360"/>
              <a:ext cx="127080" cy="119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2682360" y="2160360"/>
              <a:ext cx="127440" cy="119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6436080" y="2279880"/>
              <a:ext cx="127080" cy="1195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3891240" y="2160360"/>
              <a:ext cx="127080" cy="119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990760" y="2518920"/>
              <a:ext cx="127080" cy="119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4400280" y="2220120"/>
              <a:ext cx="127440" cy="119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2555280" y="2638440"/>
              <a:ext cx="127080" cy="1195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664640" y="2518920"/>
              <a:ext cx="127080" cy="119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7135920" y="2339640"/>
              <a:ext cx="127080" cy="119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88" name="" descr=""/>
            <p:cNvPicPr/>
            <p:nvPr/>
          </p:nvPicPr>
          <p:blipFill>
            <a:blip r:embed="rId1"/>
            <a:stretch/>
          </p:blipFill>
          <p:spPr>
            <a:xfrm>
              <a:off x="2619000" y="2638440"/>
              <a:ext cx="690120" cy="71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9" name="" descr=""/>
            <p:cNvPicPr/>
            <p:nvPr/>
          </p:nvPicPr>
          <p:blipFill>
            <a:blip r:embed="rId2"/>
            <a:stretch/>
          </p:blipFill>
          <p:spPr>
            <a:xfrm rot="21064200">
              <a:off x="2364120" y="4910400"/>
              <a:ext cx="763200" cy="70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0" name="" descr=""/>
            <p:cNvPicPr/>
            <p:nvPr/>
          </p:nvPicPr>
          <p:blipFill>
            <a:blip r:embed="rId3"/>
            <a:stretch/>
          </p:blipFill>
          <p:spPr>
            <a:xfrm rot="21064200">
              <a:off x="6117480" y="3654720"/>
              <a:ext cx="763200" cy="70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1" name=""/>
            <p:cNvSpPr/>
            <p:nvPr/>
          </p:nvSpPr>
          <p:spPr>
            <a:xfrm flipV="1">
              <a:off x="2936880" y="4611600"/>
              <a:ext cx="0" cy="23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 flipH="1">
              <a:off x="2619000" y="4432320"/>
              <a:ext cx="190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 flipV="1">
              <a:off x="3000600" y="4133520"/>
              <a:ext cx="127080" cy="17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 flipH="1">
              <a:off x="2109240" y="4492080"/>
              <a:ext cx="254520" cy="119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 flipH="1" flipV="1">
              <a:off x="2236680" y="4252680"/>
              <a:ext cx="127080" cy="17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 flipV="1">
              <a:off x="3063960" y="4312440"/>
              <a:ext cx="509040" cy="119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3063960" y="5030280"/>
              <a:ext cx="318240" cy="17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3636720" y="5269320"/>
              <a:ext cx="254520" cy="119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2046240" y="4671360"/>
              <a:ext cx="0" cy="23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 flipV="1">
              <a:off x="3191400" y="3654720"/>
              <a:ext cx="0" cy="23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 flipH="1" flipV="1">
              <a:off x="3063600" y="3236400"/>
              <a:ext cx="63720" cy="17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3318480" y="3595320"/>
              <a:ext cx="31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 flipH="1" flipV="1">
              <a:off x="2745720" y="3714840"/>
              <a:ext cx="317880" cy="23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3764160" y="4372560"/>
              <a:ext cx="190800" cy="59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2109600" y="5090040"/>
              <a:ext cx="127440" cy="23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2428200" y="5628240"/>
              <a:ext cx="254160" cy="119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 flipH="1">
              <a:off x="2046240" y="5508360"/>
              <a:ext cx="254160" cy="17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 flipH="1">
              <a:off x="1791360" y="4671360"/>
              <a:ext cx="127080" cy="59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 flipH="1" flipV="1">
              <a:off x="1410120" y="4551480"/>
              <a:ext cx="190800" cy="119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 flipV="1">
              <a:off x="3254760" y="3056760"/>
              <a:ext cx="190800" cy="119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 flipV="1">
              <a:off x="3573360" y="2698560"/>
              <a:ext cx="0" cy="23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4018320" y="5508360"/>
              <a:ext cx="63720" cy="23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 flipH="1" flipV="1">
              <a:off x="1791360" y="4073400"/>
              <a:ext cx="254520" cy="59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 flipH="1" flipV="1">
              <a:off x="5863320" y="4133520"/>
              <a:ext cx="127080" cy="59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6245280" y="4372560"/>
              <a:ext cx="127080" cy="35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 flipH="1">
              <a:off x="5799960" y="4252680"/>
              <a:ext cx="190800" cy="59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 flipH="1">
              <a:off x="5990400" y="4432320"/>
              <a:ext cx="63720" cy="29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6563520" y="4851000"/>
              <a:ext cx="38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 flipV="1">
              <a:off x="7135920" y="4611600"/>
              <a:ext cx="0" cy="17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 flipV="1">
              <a:off x="7199640" y="4432320"/>
              <a:ext cx="127080" cy="59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 flipH="1" flipV="1">
              <a:off x="5481720" y="3714840"/>
              <a:ext cx="254160" cy="29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 flipV="1">
              <a:off x="6117840" y="3834360"/>
              <a:ext cx="63720" cy="29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 flipV="1">
              <a:off x="6181560" y="3475440"/>
              <a:ext cx="63720" cy="23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 flipV="1">
              <a:off x="6181560" y="3236400"/>
              <a:ext cx="0" cy="59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 flipV="1">
              <a:off x="6054480" y="2698560"/>
              <a:ext cx="0" cy="35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 flipH="1" flipV="1">
              <a:off x="5609160" y="3116520"/>
              <a:ext cx="381600" cy="59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 flipV="1">
              <a:off x="6372360" y="3176640"/>
              <a:ext cx="127080" cy="119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 flipV="1">
              <a:off x="6690600" y="3416040"/>
              <a:ext cx="254520" cy="29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7072200" y="3416040"/>
              <a:ext cx="254520" cy="59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7326720" y="3655080"/>
              <a:ext cx="63720" cy="17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 flipH="1">
              <a:off x="5100120" y="3116880"/>
              <a:ext cx="254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 flipH="1" flipV="1">
              <a:off x="4464000" y="2937240"/>
              <a:ext cx="381600" cy="119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 flipH="1">
              <a:off x="4654440" y="3176640"/>
              <a:ext cx="317880" cy="119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 flipH="1">
              <a:off x="5100120" y="3714840"/>
              <a:ext cx="190800" cy="17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 flipH="1">
              <a:off x="4845600" y="4073400"/>
              <a:ext cx="190800" cy="119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 flipH="1" flipV="1">
              <a:off x="4336560" y="3953880"/>
              <a:ext cx="381600" cy="23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 flipH="1">
              <a:off x="5736240" y="4910760"/>
              <a:ext cx="127440" cy="119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 flipH="1">
              <a:off x="5353920" y="4372560"/>
              <a:ext cx="254520" cy="119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685800" y="380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  <a:ea typeface="Arial"/>
              </a:rPr>
              <a:t>Push-based Strategy</a:t>
            </a:r>
            <a:r>
              <a:rPr b="0" lang="en-US" sz="4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4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M Sensy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CE11F-82A4-487C-9232-804C5B1FB76D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4/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0" name=""/>
          <p:cNvGrpSpPr/>
          <p:nvPr/>
        </p:nvGrpSpPr>
        <p:grpSpPr>
          <a:xfrm>
            <a:off x="1143000" y="1981080"/>
            <a:ext cx="6629040" cy="4496040"/>
            <a:chOff x="1143000" y="1981080"/>
            <a:chExt cx="6629040" cy="4496040"/>
          </a:xfrm>
        </p:grpSpPr>
        <p:sp>
          <p:nvSpPr>
            <p:cNvPr id="641" name=""/>
            <p:cNvSpPr/>
            <p:nvPr/>
          </p:nvSpPr>
          <p:spPr>
            <a:xfrm>
              <a:off x="1395360" y="3062160"/>
              <a:ext cx="126000" cy="1137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4362840" y="3403440"/>
              <a:ext cx="126000" cy="1137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2026800" y="3574440"/>
              <a:ext cx="126360" cy="1137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4173480" y="4542120"/>
              <a:ext cx="126000" cy="1134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269000" y="3688200"/>
              <a:ext cx="126360" cy="1134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4930920" y="3915720"/>
              <a:ext cx="126000" cy="1137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6951240" y="5054400"/>
              <a:ext cx="126360" cy="1134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815080" y="4655880"/>
              <a:ext cx="126360" cy="1134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2784240" y="4883760"/>
              <a:ext cx="126360" cy="1134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4867920" y="4940280"/>
              <a:ext cx="126360" cy="1137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3226320" y="5110920"/>
              <a:ext cx="126000" cy="1137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5815080" y="5168160"/>
              <a:ext cx="126360" cy="1134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3857760" y="5338800"/>
              <a:ext cx="126000" cy="1134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4426200" y="5110920"/>
              <a:ext cx="126000" cy="1137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3542040" y="4314240"/>
              <a:ext cx="126360" cy="11340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1584720" y="4655880"/>
              <a:ext cx="126000" cy="1134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2342520" y="4428000"/>
              <a:ext cx="126000" cy="1137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2216160" y="5338800"/>
              <a:ext cx="126360" cy="1134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415680" y="3062160"/>
              <a:ext cx="126000" cy="1137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5246640" y="3631320"/>
              <a:ext cx="126360" cy="1134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6509520" y="4200480"/>
              <a:ext cx="126000" cy="1134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6446520" y="3801960"/>
              <a:ext cx="126000" cy="1134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3036960" y="3517560"/>
              <a:ext cx="126000" cy="1134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6067440" y="3062160"/>
              <a:ext cx="126000" cy="1137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5057280" y="2606760"/>
              <a:ext cx="126360" cy="1134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3605040" y="3574440"/>
              <a:ext cx="126000" cy="1137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4867920" y="3119040"/>
              <a:ext cx="126360" cy="1134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6004440" y="3745080"/>
              <a:ext cx="126360" cy="1137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6825240" y="3346920"/>
              <a:ext cx="126000" cy="1134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1269000" y="4428000"/>
              <a:ext cx="126360" cy="1137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1332360" y="5225040"/>
              <a:ext cx="126000" cy="1134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2784240" y="5225040"/>
              <a:ext cx="126360" cy="1134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3857760" y="4428000"/>
              <a:ext cx="126000" cy="1137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6572520" y="5623200"/>
              <a:ext cx="126360" cy="1137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1900440" y="3119040"/>
              <a:ext cx="126000" cy="1134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3415680" y="2606760"/>
              <a:ext cx="126000" cy="1134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2468880" y="3631320"/>
              <a:ext cx="126000" cy="1134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552200" y="4599000"/>
              <a:ext cx="126000" cy="1137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5120640" y="4428000"/>
              <a:ext cx="126000" cy="1137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1521720" y="4029840"/>
              <a:ext cx="126000" cy="1134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615560" y="4200480"/>
              <a:ext cx="126000" cy="1134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7519680" y="4883760"/>
              <a:ext cx="126360" cy="1134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6256800" y="4769640"/>
              <a:ext cx="126000" cy="1137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3668400" y="4712760"/>
              <a:ext cx="126000" cy="11340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5436000" y="4997160"/>
              <a:ext cx="126360" cy="1134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3920760" y="5680440"/>
              <a:ext cx="126360" cy="1134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6067440" y="5566680"/>
              <a:ext cx="126000" cy="1134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4804920" y="5680440"/>
              <a:ext cx="126000" cy="1134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7203960" y="4314240"/>
              <a:ext cx="126000" cy="1134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4047120" y="3859200"/>
              <a:ext cx="126000" cy="1134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1900440" y="4883760"/>
              <a:ext cx="126000" cy="1134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2784240" y="4371480"/>
              <a:ext cx="126360" cy="1134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3036960" y="5623200"/>
              <a:ext cx="126000" cy="1137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4173480" y="2891520"/>
              <a:ext cx="126000" cy="1137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5562720" y="4257360"/>
              <a:ext cx="126000" cy="1137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6951240" y="4769640"/>
              <a:ext cx="126360" cy="1137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7267320" y="3859200"/>
              <a:ext cx="126000" cy="1134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3036960" y="3972960"/>
              <a:ext cx="126000" cy="11340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6067440" y="3346920"/>
              <a:ext cx="126000" cy="11340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5310000" y="3119040"/>
              <a:ext cx="126000" cy="1134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625360" y="4029840"/>
              <a:ext cx="126360" cy="1134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6951240" y="4428000"/>
              <a:ext cx="126360" cy="1137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7140960" y="3517560"/>
              <a:ext cx="126360" cy="1134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1900440" y="4542120"/>
              <a:ext cx="126000" cy="1134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1774440" y="5566680"/>
              <a:ext cx="126000" cy="1134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7203960" y="5395680"/>
              <a:ext cx="126000" cy="1134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7203960" y="3232800"/>
              <a:ext cx="126000" cy="1137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6888600" y="3119040"/>
              <a:ext cx="126000" cy="1134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941440" y="4200480"/>
              <a:ext cx="126000" cy="11340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6446520" y="3062160"/>
              <a:ext cx="126000" cy="1137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6761880" y="2948400"/>
              <a:ext cx="126360" cy="1134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2026800" y="3232800"/>
              <a:ext cx="126360" cy="1137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2468880" y="3119040"/>
              <a:ext cx="126000" cy="1134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026800" y="4086720"/>
              <a:ext cx="126360" cy="1137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6761880" y="2094480"/>
              <a:ext cx="126360" cy="1134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162960" y="2151720"/>
              <a:ext cx="126360" cy="1134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5625360" y="2208240"/>
              <a:ext cx="126360" cy="1137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4173480" y="2208240"/>
              <a:ext cx="126000" cy="1137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2026800" y="2379240"/>
              <a:ext cx="126360" cy="1137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1143000" y="2265480"/>
              <a:ext cx="126000" cy="1134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2468880" y="2208240"/>
              <a:ext cx="126000" cy="1137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6320160" y="2379240"/>
              <a:ext cx="126000" cy="1137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3794760" y="2265480"/>
              <a:ext cx="126000" cy="1134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5878080" y="2606760"/>
              <a:ext cx="126000" cy="1134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4299480" y="2322360"/>
              <a:ext cx="126360" cy="1134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2468880" y="2720520"/>
              <a:ext cx="126000" cy="1137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1584720" y="2606760"/>
              <a:ext cx="126000" cy="1134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7014600" y="2436120"/>
              <a:ext cx="126000" cy="1134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29" name="" descr=""/>
            <p:cNvPicPr/>
            <p:nvPr/>
          </p:nvPicPr>
          <p:blipFill>
            <a:blip r:embed="rId1"/>
            <a:stretch/>
          </p:blipFill>
          <p:spPr>
            <a:xfrm>
              <a:off x="1711080" y="2493000"/>
              <a:ext cx="685080" cy="68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0" name="" descr=""/>
            <p:cNvPicPr/>
            <p:nvPr/>
          </p:nvPicPr>
          <p:blipFill>
            <a:blip r:embed="rId2"/>
            <a:stretch/>
          </p:blipFill>
          <p:spPr>
            <a:xfrm rot="21063600">
              <a:off x="2531520" y="4883040"/>
              <a:ext cx="757440" cy="669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1" name="" descr=""/>
            <p:cNvPicPr/>
            <p:nvPr/>
          </p:nvPicPr>
          <p:blipFill>
            <a:blip r:embed="rId3"/>
            <a:stretch/>
          </p:blipFill>
          <p:spPr>
            <a:xfrm rot="21063600">
              <a:off x="5941080" y="3573720"/>
              <a:ext cx="757440" cy="67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2" name=""/>
            <p:cNvSpPr/>
            <p:nvPr/>
          </p:nvSpPr>
          <p:spPr>
            <a:xfrm>
              <a:off x="1963800" y="3176280"/>
              <a:ext cx="62640" cy="11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2089800" y="3346920"/>
              <a:ext cx="0" cy="227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2089800" y="3745080"/>
              <a:ext cx="0" cy="34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 flipV="1">
              <a:off x="2279160" y="2777760"/>
              <a:ext cx="189360" cy="170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 flipV="1">
              <a:off x="2468880" y="2322360"/>
              <a:ext cx="63000" cy="28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 flipV="1">
              <a:off x="2594880" y="3119040"/>
              <a:ext cx="757440" cy="5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 flipV="1">
              <a:off x="3605040" y="2948400"/>
              <a:ext cx="568080" cy="170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4362840" y="3005280"/>
              <a:ext cx="504720" cy="170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57280" y="3176280"/>
              <a:ext cx="189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625360" y="3119040"/>
              <a:ext cx="378720" cy="5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6256800" y="3119040"/>
              <a:ext cx="12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 flipV="1">
              <a:off x="6572520" y="3062160"/>
              <a:ext cx="252360" cy="5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 flipH="1">
              <a:off x="2026440" y="4200480"/>
              <a:ext cx="63000" cy="34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1963800" y="4712760"/>
              <a:ext cx="0" cy="170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 flipH="1">
              <a:off x="1900080" y="5168160"/>
              <a:ext cx="63000" cy="39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 flipV="1">
              <a:off x="2089800" y="4541760"/>
              <a:ext cx="189360" cy="5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531880" y="4485240"/>
              <a:ext cx="189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 flipV="1">
              <a:off x="3036960" y="4371120"/>
              <a:ext cx="504720" cy="5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3668400" y="4428000"/>
              <a:ext cx="189360" cy="5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3984120" y="4542120"/>
              <a:ext cx="189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4362840" y="4599000"/>
              <a:ext cx="189360" cy="5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"/>
            <p:cNvSpPr/>
            <p:nvPr/>
          </p:nvSpPr>
          <p:spPr>
            <a:xfrm flipV="1">
              <a:off x="4678560" y="4541760"/>
              <a:ext cx="378720" cy="5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5310000" y="4542120"/>
              <a:ext cx="441720" cy="170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5878080" y="4712760"/>
              <a:ext cx="378720" cy="5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6509520" y="4826520"/>
              <a:ext cx="441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"/>
            <p:cNvSpPr/>
            <p:nvPr/>
          </p:nvSpPr>
          <p:spPr>
            <a:xfrm flipH="1">
              <a:off x="3100320" y="4314240"/>
              <a:ext cx="37872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 flipH="1">
              <a:off x="5562720" y="3005280"/>
              <a:ext cx="378720" cy="565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 flipH="1" flipV="1">
              <a:off x="5878080" y="4599000"/>
              <a:ext cx="315360" cy="568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 flipV="1">
              <a:off x="3352680" y="4826520"/>
              <a:ext cx="315720" cy="2275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 flipH="1" flipV="1">
              <a:off x="3604680" y="4485240"/>
              <a:ext cx="63000" cy="1706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 flipH="1" flipV="1">
              <a:off x="3225960" y="4086720"/>
              <a:ext cx="252360" cy="1706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 flipH="1">
              <a:off x="3162600" y="5281920"/>
              <a:ext cx="126360" cy="2844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6067440" y="4314240"/>
              <a:ext cx="126000" cy="2844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"/>
            <p:cNvSpPr/>
            <p:nvPr/>
          </p:nvSpPr>
          <p:spPr>
            <a:xfrm flipH="1">
              <a:off x="6004080" y="3915720"/>
              <a:ext cx="63000" cy="2275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 flipV="1">
              <a:off x="6067440" y="3460680"/>
              <a:ext cx="63000" cy="1706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 flipV="1">
              <a:off x="6130800" y="3175920"/>
              <a:ext cx="0" cy="1134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2973600" y="3859200"/>
              <a:ext cx="820800" cy="1878120"/>
            </a:xfrm>
            <a:prstGeom prst="rect">
              <a:avLst/>
            </a:prstGeom>
            <a:solidFill>
              <a:srgbClr val="ccffff">
                <a:alpha val="22000"/>
              </a:srgbClr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5688720" y="3005280"/>
              <a:ext cx="820800" cy="1878120"/>
            </a:xfrm>
            <a:prstGeom prst="rect">
              <a:avLst/>
            </a:prstGeom>
            <a:solidFill>
              <a:srgbClr val="ccffff">
                <a:alpha val="22000"/>
              </a:srgbClr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1647720" y="4257360"/>
              <a:ext cx="6124320" cy="511920"/>
            </a:xfrm>
            <a:prstGeom prst="rect">
              <a:avLst/>
            </a:prstGeom>
            <a:solidFill>
              <a:srgbClr val="ff0000">
                <a:alpha val="26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1647720" y="2834640"/>
              <a:ext cx="6124320" cy="511920"/>
            </a:xfrm>
            <a:prstGeom prst="rect">
              <a:avLst/>
            </a:prstGeom>
            <a:solidFill>
              <a:srgbClr val="ff0000">
                <a:alpha val="26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1900440" y="1981080"/>
              <a:ext cx="757440" cy="4496040"/>
            </a:xfrm>
            <a:prstGeom prst="rect">
              <a:avLst/>
            </a:prstGeom>
            <a:solidFill>
              <a:srgbClr val="ff0000">
                <a:alpha val="26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3" name=""/>
          <p:cNvSpPr/>
          <p:nvPr/>
        </p:nvSpPr>
        <p:spPr>
          <a:xfrm>
            <a:off x="68580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  <a:ea typeface="Arial"/>
              </a:rPr>
              <a:t>Comb-Needle Structure</a:t>
            </a:r>
            <a:r>
              <a:rPr b="0" lang="en-US" sz="4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M Sensy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FAA3C-15D1-4B45-8C02-997142094F57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4/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Assumptions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91411"/>
                </a:solidFill>
                <a:latin typeface="Arial"/>
              </a:rPr>
              <a:t>Events: Anywhere &amp; Any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91411"/>
                </a:solidFill>
                <a:latin typeface="Arial"/>
              </a:rPr>
              <a:t>Queries: Anywhere &amp; Any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91411"/>
                </a:solidFill>
                <a:latin typeface="Arial"/>
              </a:rPr>
              <a:t>Global discovery-typ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91411"/>
                </a:solidFill>
                <a:latin typeface="Arial"/>
              </a:rPr>
              <a:t>One sho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91411"/>
                </a:solidFill>
                <a:latin typeface="Arial"/>
              </a:rPr>
              <a:t>Network: Uni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refighters query information in the fiel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urveillanc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nsor nodes know their lo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M Sensy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E986A-6A24-4895-82E8-21EF32E96B39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4/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When an Event Happens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8" name=""/>
          <p:cNvGrpSpPr/>
          <p:nvPr/>
        </p:nvGrpSpPr>
        <p:grpSpPr>
          <a:xfrm>
            <a:off x="2146320" y="1935000"/>
            <a:ext cx="4597200" cy="3949560"/>
            <a:chOff x="2146320" y="1935000"/>
            <a:chExt cx="4597200" cy="3949560"/>
          </a:xfrm>
        </p:grpSpPr>
        <p:sp>
          <p:nvSpPr>
            <p:cNvPr id="779" name=""/>
            <p:cNvSpPr/>
            <p:nvPr/>
          </p:nvSpPr>
          <p:spPr>
            <a:xfrm>
              <a:off x="3130560" y="4505040"/>
              <a:ext cx="109080" cy="94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23040" y="4505040"/>
              <a:ext cx="109080" cy="94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81" name=""/>
            <p:cNvCxnSpPr>
              <a:stCxn id="779" idx="6"/>
              <a:endCxn id="780" idx="2"/>
            </p:cNvCxnSpPr>
            <p:nvPr/>
          </p:nvCxnSpPr>
          <p:spPr>
            <a:xfrm>
              <a:off x="3239640" y="4551840"/>
              <a:ext cx="3834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782" name=""/>
            <p:cNvCxnSpPr>
              <a:stCxn id="779" idx="4"/>
            </p:cNvCxnSpPr>
            <p:nvPr/>
          </p:nvCxnSpPr>
          <p:spPr>
            <a:xfrm>
              <a:off x="3186000" y="4599720"/>
              <a:ext cx="1080" cy="333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783" name=""/>
            <p:cNvCxnSpPr>
              <a:stCxn id="780" idx="4"/>
            </p:cNvCxnSpPr>
            <p:nvPr/>
          </p:nvCxnSpPr>
          <p:spPr>
            <a:xfrm>
              <a:off x="3678120" y="4599720"/>
              <a:ext cx="1080" cy="333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784" name=""/>
            <p:cNvSpPr/>
            <p:nvPr/>
          </p:nvSpPr>
          <p:spPr>
            <a:xfrm>
              <a:off x="2146320" y="4505040"/>
              <a:ext cx="109080" cy="94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638440" y="4505040"/>
              <a:ext cx="109080" cy="94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86" name=""/>
            <p:cNvCxnSpPr>
              <a:stCxn id="784" idx="6"/>
              <a:endCxn id="785" idx="2"/>
            </p:cNvCxnSpPr>
            <p:nvPr/>
          </p:nvCxnSpPr>
          <p:spPr>
            <a:xfrm>
              <a:off x="2255040" y="4551840"/>
              <a:ext cx="3834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787" name=""/>
            <p:cNvCxnSpPr>
              <a:stCxn id="784" idx="4"/>
            </p:cNvCxnSpPr>
            <p:nvPr/>
          </p:nvCxnSpPr>
          <p:spPr>
            <a:xfrm>
              <a:off x="2201400" y="4599720"/>
              <a:ext cx="1080" cy="333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788" name=""/>
            <p:cNvCxnSpPr>
              <a:stCxn id="785" idx="4"/>
            </p:cNvCxnSpPr>
            <p:nvPr/>
          </p:nvCxnSpPr>
          <p:spPr>
            <a:xfrm>
              <a:off x="2693520" y="4599720"/>
              <a:ext cx="1080" cy="333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789" name=""/>
            <p:cNvCxnSpPr>
              <a:stCxn id="785" idx="6"/>
              <a:endCxn id="779" idx="2"/>
            </p:cNvCxnSpPr>
            <p:nvPr/>
          </p:nvCxnSpPr>
          <p:spPr>
            <a:xfrm>
              <a:off x="2747520" y="4551840"/>
              <a:ext cx="3834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790" name=""/>
            <p:cNvSpPr/>
            <p:nvPr/>
          </p:nvSpPr>
          <p:spPr>
            <a:xfrm>
              <a:off x="5099400" y="4505040"/>
              <a:ext cx="109440" cy="94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5591880" y="4505040"/>
              <a:ext cx="109440" cy="94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92" name=""/>
            <p:cNvCxnSpPr>
              <a:stCxn id="790" idx="6"/>
              <a:endCxn id="791" idx="2"/>
            </p:cNvCxnSpPr>
            <p:nvPr/>
          </p:nvCxnSpPr>
          <p:spPr>
            <a:xfrm>
              <a:off x="5209200" y="4551840"/>
              <a:ext cx="383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793" name=""/>
            <p:cNvCxnSpPr>
              <a:stCxn id="790" idx="4"/>
            </p:cNvCxnSpPr>
            <p:nvPr/>
          </p:nvCxnSpPr>
          <p:spPr>
            <a:xfrm>
              <a:off x="5154840" y="4599720"/>
              <a:ext cx="1080" cy="333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794" name=""/>
            <p:cNvCxnSpPr>
              <a:stCxn id="791" idx="4"/>
            </p:cNvCxnSpPr>
            <p:nvPr/>
          </p:nvCxnSpPr>
          <p:spPr>
            <a:xfrm>
              <a:off x="5646960" y="4599720"/>
              <a:ext cx="1080" cy="333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795" name=""/>
            <p:cNvSpPr/>
            <p:nvPr/>
          </p:nvSpPr>
          <p:spPr>
            <a:xfrm>
              <a:off x="4114800" y="4505040"/>
              <a:ext cx="109440" cy="94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607280" y="4505040"/>
              <a:ext cx="109440" cy="94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97" name=""/>
            <p:cNvCxnSpPr>
              <a:stCxn id="795" idx="6"/>
              <a:endCxn id="796" idx="2"/>
            </p:cNvCxnSpPr>
            <p:nvPr/>
          </p:nvCxnSpPr>
          <p:spPr>
            <a:xfrm>
              <a:off x="4224600" y="4551840"/>
              <a:ext cx="383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798" name=""/>
            <p:cNvCxnSpPr>
              <a:stCxn id="795" idx="4"/>
            </p:cNvCxnSpPr>
            <p:nvPr/>
          </p:nvCxnSpPr>
          <p:spPr>
            <a:xfrm>
              <a:off x="4170600" y="4599720"/>
              <a:ext cx="1080" cy="333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799" name=""/>
            <p:cNvCxnSpPr>
              <a:stCxn id="796" idx="4"/>
            </p:cNvCxnSpPr>
            <p:nvPr/>
          </p:nvCxnSpPr>
          <p:spPr>
            <a:xfrm>
              <a:off x="4662720" y="4599720"/>
              <a:ext cx="1080" cy="333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00" name=""/>
            <p:cNvCxnSpPr>
              <a:stCxn id="796" idx="6"/>
              <a:endCxn id="790" idx="2"/>
            </p:cNvCxnSpPr>
            <p:nvPr/>
          </p:nvCxnSpPr>
          <p:spPr>
            <a:xfrm>
              <a:off x="4716720" y="4551840"/>
              <a:ext cx="383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01" name=""/>
            <p:cNvCxnSpPr>
              <a:stCxn id="780" idx="6"/>
              <a:endCxn id="795" idx="2"/>
            </p:cNvCxnSpPr>
            <p:nvPr/>
          </p:nvCxnSpPr>
          <p:spPr>
            <a:xfrm>
              <a:off x="3732120" y="4551840"/>
              <a:ext cx="383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802" name=""/>
            <p:cNvSpPr/>
            <p:nvPr/>
          </p:nvSpPr>
          <p:spPr>
            <a:xfrm>
              <a:off x="6138000" y="4505040"/>
              <a:ext cx="109440" cy="94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6630480" y="4505040"/>
              <a:ext cx="109440" cy="94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04" name=""/>
            <p:cNvCxnSpPr>
              <a:stCxn id="802" idx="6"/>
              <a:endCxn id="803" idx="2"/>
            </p:cNvCxnSpPr>
            <p:nvPr/>
          </p:nvCxnSpPr>
          <p:spPr>
            <a:xfrm>
              <a:off x="6247800" y="4551840"/>
              <a:ext cx="383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05" name=""/>
            <p:cNvCxnSpPr>
              <a:stCxn id="802" idx="4"/>
            </p:cNvCxnSpPr>
            <p:nvPr/>
          </p:nvCxnSpPr>
          <p:spPr>
            <a:xfrm>
              <a:off x="6193440" y="4599720"/>
              <a:ext cx="1080" cy="333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06" name=""/>
            <p:cNvCxnSpPr>
              <a:stCxn id="803" idx="4"/>
            </p:cNvCxnSpPr>
            <p:nvPr/>
          </p:nvCxnSpPr>
          <p:spPr>
            <a:xfrm>
              <a:off x="6685560" y="4599720"/>
              <a:ext cx="1080" cy="333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07" name=""/>
            <p:cNvCxnSpPr>
              <a:stCxn id="791" idx="6"/>
              <a:endCxn id="802" idx="2"/>
            </p:cNvCxnSpPr>
            <p:nvPr/>
          </p:nvCxnSpPr>
          <p:spPr>
            <a:xfrm>
              <a:off x="5701320" y="4551840"/>
              <a:ext cx="437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808" name=""/>
            <p:cNvSpPr/>
            <p:nvPr/>
          </p:nvSpPr>
          <p:spPr>
            <a:xfrm>
              <a:off x="3130560" y="4075920"/>
              <a:ext cx="109080" cy="946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3623040" y="4075920"/>
              <a:ext cx="109080" cy="946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3130560" y="3648600"/>
              <a:ext cx="109080" cy="946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3623040" y="3648600"/>
              <a:ext cx="109080" cy="946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12" name=""/>
            <p:cNvCxnSpPr>
              <a:stCxn id="810" idx="6"/>
              <a:endCxn id="811" idx="2"/>
            </p:cNvCxnSpPr>
            <p:nvPr/>
          </p:nvCxnSpPr>
          <p:spPr>
            <a:xfrm>
              <a:off x="3239640" y="3696120"/>
              <a:ext cx="3834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13" name=""/>
            <p:cNvCxnSpPr>
              <a:stCxn id="810" idx="4"/>
              <a:endCxn id="808" idx="0"/>
            </p:cNvCxnSpPr>
            <p:nvPr/>
          </p:nvCxnSpPr>
          <p:spPr>
            <a:xfrm>
              <a:off x="3184200" y="3743280"/>
              <a:ext cx="1080" cy="333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14" name=""/>
            <p:cNvCxnSpPr>
              <a:stCxn id="808" idx="6"/>
              <a:endCxn id="809" idx="2"/>
            </p:cNvCxnSpPr>
            <p:nvPr/>
          </p:nvCxnSpPr>
          <p:spPr>
            <a:xfrm>
              <a:off x="3239640" y="4122720"/>
              <a:ext cx="3834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15" name=""/>
            <p:cNvCxnSpPr>
              <a:stCxn id="811" idx="4"/>
              <a:endCxn id="809" idx="0"/>
            </p:cNvCxnSpPr>
            <p:nvPr/>
          </p:nvCxnSpPr>
          <p:spPr>
            <a:xfrm>
              <a:off x="3676320" y="3743280"/>
              <a:ext cx="1080" cy="333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816" name=""/>
            <p:cNvSpPr/>
            <p:nvPr/>
          </p:nvSpPr>
          <p:spPr>
            <a:xfrm>
              <a:off x="2146320" y="4075920"/>
              <a:ext cx="109080" cy="946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2638440" y="4075920"/>
              <a:ext cx="109080" cy="946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2146320" y="3648600"/>
              <a:ext cx="109080" cy="946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2638440" y="3648600"/>
              <a:ext cx="109080" cy="946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20" name=""/>
            <p:cNvCxnSpPr>
              <a:stCxn id="818" idx="6"/>
              <a:endCxn id="819" idx="2"/>
            </p:cNvCxnSpPr>
            <p:nvPr/>
          </p:nvCxnSpPr>
          <p:spPr>
            <a:xfrm>
              <a:off x="2255040" y="3696120"/>
              <a:ext cx="3834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21" name=""/>
            <p:cNvCxnSpPr>
              <a:stCxn id="818" idx="4"/>
              <a:endCxn id="816" idx="0"/>
            </p:cNvCxnSpPr>
            <p:nvPr/>
          </p:nvCxnSpPr>
          <p:spPr>
            <a:xfrm>
              <a:off x="2199600" y="3743280"/>
              <a:ext cx="1080" cy="333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22" name=""/>
            <p:cNvCxnSpPr>
              <a:stCxn id="816" idx="6"/>
              <a:endCxn id="817" idx="2"/>
            </p:cNvCxnSpPr>
            <p:nvPr/>
          </p:nvCxnSpPr>
          <p:spPr>
            <a:xfrm>
              <a:off x="2255040" y="4122720"/>
              <a:ext cx="3834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23" name=""/>
            <p:cNvCxnSpPr>
              <a:stCxn id="819" idx="4"/>
              <a:endCxn id="817" idx="0"/>
            </p:cNvCxnSpPr>
            <p:nvPr/>
          </p:nvCxnSpPr>
          <p:spPr>
            <a:xfrm>
              <a:off x="2691720" y="3743280"/>
              <a:ext cx="1080" cy="333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24" name=""/>
            <p:cNvCxnSpPr>
              <a:stCxn id="819" idx="6"/>
              <a:endCxn id="810" idx="2"/>
            </p:cNvCxnSpPr>
            <p:nvPr/>
          </p:nvCxnSpPr>
          <p:spPr>
            <a:xfrm>
              <a:off x="2747520" y="3696120"/>
              <a:ext cx="3834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25" name=""/>
            <p:cNvCxnSpPr>
              <a:stCxn id="817" idx="6"/>
              <a:endCxn id="808" idx="2"/>
            </p:cNvCxnSpPr>
            <p:nvPr/>
          </p:nvCxnSpPr>
          <p:spPr>
            <a:xfrm>
              <a:off x="2747520" y="4122720"/>
              <a:ext cx="3834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826" name=""/>
            <p:cNvSpPr/>
            <p:nvPr/>
          </p:nvSpPr>
          <p:spPr>
            <a:xfrm>
              <a:off x="5099400" y="4075920"/>
              <a:ext cx="109440" cy="946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591880" y="4075920"/>
              <a:ext cx="109440" cy="946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099400" y="3648600"/>
              <a:ext cx="109440" cy="946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591880" y="3648600"/>
              <a:ext cx="109440" cy="946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30" name=""/>
            <p:cNvCxnSpPr>
              <a:stCxn id="828" idx="6"/>
              <a:endCxn id="829" idx="2"/>
            </p:cNvCxnSpPr>
            <p:nvPr/>
          </p:nvCxnSpPr>
          <p:spPr>
            <a:xfrm>
              <a:off x="5209200" y="3696120"/>
              <a:ext cx="383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31" name=""/>
            <p:cNvCxnSpPr>
              <a:stCxn id="828" idx="4"/>
              <a:endCxn id="826" idx="0"/>
            </p:cNvCxnSpPr>
            <p:nvPr/>
          </p:nvCxnSpPr>
          <p:spPr>
            <a:xfrm>
              <a:off x="5153040" y="3743280"/>
              <a:ext cx="1080" cy="333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32" name=""/>
            <p:cNvCxnSpPr>
              <a:stCxn id="826" idx="6"/>
              <a:endCxn id="827" idx="2"/>
            </p:cNvCxnSpPr>
            <p:nvPr/>
          </p:nvCxnSpPr>
          <p:spPr>
            <a:xfrm>
              <a:off x="5209200" y="4122720"/>
              <a:ext cx="383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33" name=""/>
            <p:cNvCxnSpPr>
              <a:stCxn id="829" idx="4"/>
              <a:endCxn id="827" idx="0"/>
            </p:cNvCxnSpPr>
            <p:nvPr/>
          </p:nvCxnSpPr>
          <p:spPr>
            <a:xfrm>
              <a:off x="5645520" y="3743280"/>
              <a:ext cx="1080" cy="333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834" name=""/>
            <p:cNvSpPr/>
            <p:nvPr/>
          </p:nvSpPr>
          <p:spPr>
            <a:xfrm>
              <a:off x="4114800" y="4075920"/>
              <a:ext cx="109440" cy="94680"/>
            </a:xfrm>
            <a:prstGeom prst="ellipse">
              <a:avLst/>
            </a:prstGeom>
            <a:solidFill>
              <a:srgbClr val="ff0000">
                <a:alpha val="99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4607280" y="4075920"/>
              <a:ext cx="109440" cy="946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4114800" y="3648600"/>
              <a:ext cx="109440" cy="946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4607280" y="3648600"/>
              <a:ext cx="109440" cy="946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38" name=""/>
            <p:cNvCxnSpPr>
              <a:stCxn id="836" idx="6"/>
              <a:endCxn id="837" idx="2"/>
            </p:cNvCxnSpPr>
            <p:nvPr/>
          </p:nvCxnSpPr>
          <p:spPr>
            <a:xfrm>
              <a:off x="4224600" y="3696120"/>
              <a:ext cx="383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39" name=""/>
            <p:cNvCxnSpPr>
              <a:stCxn id="836" idx="4"/>
              <a:endCxn id="834" idx="0"/>
            </p:cNvCxnSpPr>
            <p:nvPr/>
          </p:nvCxnSpPr>
          <p:spPr>
            <a:xfrm>
              <a:off x="4168440" y="3743280"/>
              <a:ext cx="1080" cy="333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40" name=""/>
            <p:cNvCxnSpPr>
              <a:stCxn id="834" idx="6"/>
              <a:endCxn id="835" idx="2"/>
            </p:cNvCxnSpPr>
            <p:nvPr/>
          </p:nvCxnSpPr>
          <p:spPr>
            <a:xfrm>
              <a:off x="4224600" y="4122720"/>
              <a:ext cx="383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41" name=""/>
            <p:cNvCxnSpPr>
              <a:stCxn id="837" idx="4"/>
              <a:endCxn id="835" idx="0"/>
            </p:cNvCxnSpPr>
            <p:nvPr/>
          </p:nvCxnSpPr>
          <p:spPr>
            <a:xfrm>
              <a:off x="4660920" y="3743280"/>
              <a:ext cx="1080" cy="333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42" name=""/>
            <p:cNvCxnSpPr>
              <a:stCxn id="837" idx="6"/>
              <a:endCxn id="828" idx="2"/>
            </p:cNvCxnSpPr>
            <p:nvPr/>
          </p:nvCxnSpPr>
          <p:spPr>
            <a:xfrm>
              <a:off x="4716720" y="3696120"/>
              <a:ext cx="383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43" name=""/>
            <p:cNvCxnSpPr>
              <a:stCxn id="835" idx="6"/>
              <a:endCxn id="826" idx="2"/>
            </p:cNvCxnSpPr>
            <p:nvPr/>
          </p:nvCxnSpPr>
          <p:spPr>
            <a:xfrm>
              <a:off x="4716720" y="4122720"/>
              <a:ext cx="383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44" name=""/>
            <p:cNvCxnSpPr>
              <a:stCxn id="811" idx="6"/>
              <a:endCxn id="836" idx="2"/>
            </p:cNvCxnSpPr>
            <p:nvPr/>
          </p:nvCxnSpPr>
          <p:spPr>
            <a:xfrm>
              <a:off x="3732120" y="3696120"/>
              <a:ext cx="383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45" name=""/>
            <p:cNvCxnSpPr>
              <a:stCxn id="809" idx="6"/>
              <a:endCxn id="834" idx="2"/>
            </p:cNvCxnSpPr>
            <p:nvPr/>
          </p:nvCxnSpPr>
          <p:spPr>
            <a:xfrm>
              <a:off x="3732120" y="4122720"/>
              <a:ext cx="383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846" name=""/>
            <p:cNvSpPr/>
            <p:nvPr/>
          </p:nvSpPr>
          <p:spPr>
            <a:xfrm>
              <a:off x="6138000" y="4075920"/>
              <a:ext cx="109440" cy="946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630480" y="4075920"/>
              <a:ext cx="109440" cy="946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6138000" y="3648600"/>
              <a:ext cx="109440" cy="946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6630480" y="3648600"/>
              <a:ext cx="109440" cy="946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50" name=""/>
            <p:cNvCxnSpPr>
              <a:stCxn id="848" idx="6"/>
              <a:endCxn id="849" idx="2"/>
            </p:cNvCxnSpPr>
            <p:nvPr/>
          </p:nvCxnSpPr>
          <p:spPr>
            <a:xfrm>
              <a:off x="6247800" y="3696120"/>
              <a:ext cx="383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51" name=""/>
            <p:cNvCxnSpPr>
              <a:stCxn id="848" idx="4"/>
              <a:endCxn id="846" idx="0"/>
            </p:cNvCxnSpPr>
            <p:nvPr/>
          </p:nvCxnSpPr>
          <p:spPr>
            <a:xfrm>
              <a:off x="6193440" y="3743280"/>
              <a:ext cx="1080" cy="333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52" name=""/>
            <p:cNvCxnSpPr>
              <a:stCxn id="846" idx="6"/>
              <a:endCxn id="847" idx="2"/>
            </p:cNvCxnSpPr>
            <p:nvPr/>
          </p:nvCxnSpPr>
          <p:spPr>
            <a:xfrm>
              <a:off x="6247800" y="4122720"/>
              <a:ext cx="383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53" name=""/>
            <p:cNvCxnSpPr>
              <a:stCxn id="849" idx="4"/>
              <a:endCxn id="847" idx="0"/>
            </p:cNvCxnSpPr>
            <p:nvPr/>
          </p:nvCxnSpPr>
          <p:spPr>
            <a:xfrm>
              <a:off x="6685560" y="3743280"/>
              <a:ext cx="1080" cy="333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54" name=""/>
            <p:cNvCxnSpPr>
              <a:stCxn id="829" idx="6"/>
              <a:endCxn id="848" idx="2"/>
            </p:cNvCxnSpPr>
            <p:nvPr/>
          </p:nvCxnSpPr>
          <p:spPr>
            <a:xfrm>
              <a:off x="5701320" y="3696120"/>
              <a:ext cx="437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55" name=""/>
            <p:cNvCxnSpPr>
              <a:stCxn id="827" idx="6"/>
              <a:endCxn id="846" idx="2"/>
            </p:cNvCxnSpPr>
            <p:nvPr/>
          </p:nvCxnSpPr>
          <p:spPr>
            <a:xfrm>
              <a:off x="5701320" y="4122720"/>
              <a:ext cx="437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56" name=""/>
            <p:cNvCxnSpPr>
              <a:stCxn id="816" idx="4"/>
              <a:endCxn id="784" idx="0"/>
            </p:cNvCxnSpPr>
            <p:nvPr/>
          </p:nvCxnSpPr>
          <p:spPr>
            <a:xfrm>
              <a:off x="2199600" y="4170960"/>
              <a:ext cx="1080" cy="334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57" name=""/>
            <p:cNvCxnSpPr>
              <a:stCxn id="817" idx="4"/>
              <a:endCxn id="785" idx="0"/>
            </p:cNvCxnSpPr>
            <p:nvPr/>
          </p:nvCxnSpPr>
          <p:spPr>
            <a:xfrm>
              <a:off x="2691720" y="4170960"/>
              <a:ext cx="1080" cy="334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58" name=""/>
            <p:cNvCxnSpPr>
              <a:stCxn id="808" idx="4"/>
              <a:endCxn id="779" idx="0"/>
            </p:cNvCxnSpPr>
            <p:nvPr/>
          </p:nvCxnSpPr>
          <p:spPr>
            <a:xfrm>
              <a:off x="3184200" y="4170960"/>
              <a:ext cx="1080" cy="334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59" name=""/>
            <p:cNvCxnSpPr>
              <a:stCxn id="809" idx="4"/>
              <a:endCxn id="780" idx="0"/>
            </p:cNvCxnSpPr>
            <p:nvPr/>
          </p:nvCxnSpPr>
          <p:spPr>
            <a:xfrm>
              <a:off x="3676320" y="4170960"/>
              <a:ext cx="1080" cy="334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60" name=""/>
            <p:cNvCxnSpPr>
              <a:stCxn id="834" idx="4"/>
              <a:endCxn id="795" idx="0"/>
            </p:cNvCxnSpPr>
            <p:nvPr/>
          </p:nvCxnSpPr>
          <p:spPr>
            <a:xfrm>
              <a:off x="4168440" y="4170960"/>
              <a:ext cx="1080" cy="334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61" name=""/>
            <p:cNvCxnSpPr>
              <a:stCxn id="835" idx="4"/>
              <a:endCxn id="796" idx="0"/>
            </p:cNvCxnSpPr>
            <p:nvPr/>
          </p:nvCxnSpPr>
          <p:spPr>
            <a:xfrm>
              <a:off x="4660920" y="4170960"/>
              <a:ext cx="1080" cy="334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62" name=""/>
            <p:cNvCxnSpPr>
              <a:stCxn id="826" idx="4"/>
              <a:endCxn id="790" idx="0"/>
            </p:cNvCxnSpPr>
            <p:nvPr/>
          </p:nvCxnSpPr>
          <p:spPr>
            <a:xfrm>
              <a:off x="5153040" y="4170960"/>
              <a:ext cx="1080" cy="334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63" name=""/>
            <p:cNvCxnSpPr>
              <a:stCxn id="827" idx="4"/>
              <a:endCxn id="791" idx="0"/>
            </p:cNvCxnSpPr>
            <p:nvPr/>
          </p:nvCxnSpPr>
          <p:spPr>
            <a:xfrm>
              <a:off x="5645520" y="4170960"/>
              <a:ext cx="1080" cy="334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64" name=""/>
            <p:cNvCxnSpPr>
              <a:stCxn id="846" idx="4"/>
              <a:endCxn id="802" idx="0"/>
            </p:cNvCxnSpPr>
            <p:nvPr/>
          </p:nvCxnSpPr>
          <p:spPr>
            <a:xfrm>
              <a:off x="6193440" y="4170960"/>
              <a:ext cx="1080" cy="334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65" name=""/>
            <p:cNvCxnSpPr>
              <a:stCxn id="847" idx="4"/>
              <a:endCxn id="803" idx="0"/>
            </p:cNvCxnSpPr>
            <p:nvPr/>
          </p:nvCxnSpPr>
          <p:spPr>
            <a:xfrm>
              <a:off x="6685560" y="4170960"/>
              <a:ext cx="1080" cy="334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866" name=""/>
            <p:cNvSpPr/>
            <p:nvPr/>
          </p:nvSpPr>
          <p:spPr>
            <a:xfrm>
              <a:off x="3130560" y="3219840"/>
              <a:ext cx="109080" cy="94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3623040" y="3219840"/>
              <a:ext cx="109080" cy="94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3130560" y="2791080"/>
              <a:ext cx="109080" cy="957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3623040" y="2791080"/>
              <a:ext cx="109080" cy="957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70" name=""/>
            <p:cNvCxnSpPr>
              <a:stCxn id="868" idx="6"/>
              <a:endCxn id="869" idx="2"/>
            </p:cNvCxnSpPr>
            <p:nvPr/>
          </p:nvCxnSpPr>
          <p:spPr>
            <a:xfrm>
              <a:off x="3239640" y="2838240"/>
              <a:ext cx="3834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71" name=""/>
            <p:cNvCxnSpPr>
              <a:stCxn id="868" idx="4"/>
              <a:endCxn id="866" idx="0"/>
            </p:cNvCxnSpPr>
            <p:nvPr/>
          </p:nvCxnSpPr>
          <p:spPr>
            <a:xfrm>
              <a:off x="3184200" y="2887200"/>
              <a:ext cx="1080" cy="333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72" name=""/>
            <p:cNvCxnSpPr>
              <a:stCxn id="866" idx="6"/>
              <a:endCxn id="867" idx="2"/>
            </p:cNvCxnSpPr>
            <p:nvPr/>
          </p:nvCxnSpPr>
          <p:spPr>
            <a:xfrm>
              <a:off x="3239640" y="3267000"/>
              <a:ext cx="3834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73" name=""/>
            <p:cNvCxnSpPr>
              <a:stCxn id="869" idx="4"/>
              <a:endCxn id="867" idx="0"/>
            </p:cNvCxnSpPr>
            <p:nvPr/>
          </p:nvCxnSpPr>
          <p:spPr>
            <a:xfrm>
              <a:off x="3676320" y="2887200"/>
              <a:ext cx="1080" cy="333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874" name=""/>
            <p:cNvSpPr/>
            <p:nvPr/>
          </p:nvSpPr>
          <p:spPr>
            <a:xfrm>
              <a:off x="2146320" y="3219840"/>
              <a:ext cx="109080" cy="94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2638440" y="3219840"/>
              <a:ext cx="109080" cy="94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2146320" y="2791080"/>
              <a:ext cx="109080" cy="957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2638440" y="2791080"/>
              <a:ext cx="109080" cy="957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78" name=""/>
            <p:cNvCxnSpPr>
              <a:stCxn id="876" idx="6"/>
              <a:endCxn id="877" idx="2"/>
            </p:cNvCxnSpPr>
            <p:nvPr/>
          </p:nvCxnSpPr>
          <p:spPr>
            <a:xfrm>
              <a:off x="2255040" y="2838240"/>
              <a:ext cx="3834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79" name=""/>
            <p:cNvCxnSpPr>
              <a:stCxn id="876" idx="4"/>
              <a:endCxn id="874" idx="0"/>
            </p:cNvCxnSpPr>
            <p:nvPr/>
          </p:nvCxnSpPr>
          <p:spPr>
            <a:xfrm>
              <a:off x="2199600" y="2887200"/>
              <a:ext cx="1080" cy="333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80" name=""/>
            <p:cNvCxnSpPr>
              <a:stCxn id="874" idx="6"/>
              <a:endCxn id="875" idx="2"/>
            </p:cNvCxnSpPr>
            <p:nvPr/>
          </p:nvCxnSpPr>
          <p:spPr>
            <a:xfrm>
              <a:off x="2255040" y="3267000"/>
              <a:ext cx="3834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81" name=""/>
            <p:cNvCxnSpPr>
              <a:stCxn id="877" idx="4"/>
              <a:endCxn id="875" idx="0"/>
            </p:cNvCxnSpPr>
            <p:nvPr/>
          </p:nvCxnSpPr>
          <p:spPr>
            <a:xfrm>
              <a:off x="2691720" y="2887200"/>
              <a:ext cx="1080" cy="333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82" name=""/>
            <p:cNvCxnSpPr>
              <a:stCxn id="877" idx="6"/>
              <a:endCxn id="868" idx="2"/>
            </p:cNvCxnSpPr>
            <p:nvPr/>
          </p:nvCxnSpPr>
          <p:spPr>
            <a:xfrm>
              <a:off x="2747520" y="2838240"/>
              <a:ext cx="3834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83" name=""/>
            <p:cNvCxnSpPr>
              <a:stCxn id="875" idx="6"/>
              <a:endCxn id="866" idx="2"/>
            </p:cNvCxnSpPr>
            <p:nvPr/>
          </p:nvCxnSpPr>
          <p:spPr>
            <a:xfrm>
              <a:off x="2747520" y="3267000"/>
              <a:ext cx="3834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884" name=""/>
            <p:cNvSpPr/>
            <p:nvPr/>
          </p:nvSpPr>
          <p:spPr>
            <a:xfrm>
              <a:off x="5099400" y="3219840"/>
              <a:ext cx="109440" cy="94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5591880" y="3219840"/>
              <a:ext cx="109440" cy="94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5099400" y="2791080"/>
              <a:ext cx="109440" cy="957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5591880" y="2791080"/>
              <a:ext cx="109440" cy="957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88" name=""/>
            <p:cNvCxnSpPr>
              <a:stCxn id="886" idx="6"/>
              <a:endCxn id="887" idx="2"/>
            </p:cNvCxnSpPr>
            <p:nvPr/>
          </p:nvCxnSpPr>
          <p:spPr>
            <a:xfrm>
              <a:off x="5209200" y="2838240"/>
              <a:ext cx="383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89" name=""/>
            <p:cNvCxnSpPr>
              <a:stCxn id="886" idx="4"/>
              <a:endCxn id="884" idx="0"/>
            </p:cNvCxnSpPr>
            <p:nvPr/>
          </p:nvCxnSpPr>
          <p:spPr>
            <a:xfrm>
              <a:off x="5153040" y="2887200"/>
              <a:ext cx="1080" cy="333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90" name=""/>
            <p:cNvCxnSpPr>
              <a:stCxn id="884" idx="6"/>
              <a:endCxn id="885" idx="2"/>
            </p:cNvCxnSpPr>
            <p:nvPr/>
          </p:nvCxnSpPr>
          <p:spPr>
            <a:xfrm>
              <a:off x="5209200" y="3267000"/>
              <a:ext cx="383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91" name=""/>
            <p:cNvCxnSpPr>
              <a:stCxn id="887" idx="4"/>
              <a:endCxn id="885" idx="0"/>
            </p:cNvCxnSpPr>
            <p:nvPr/>
          </p:nvCxnSpPr>
          <p:spPr>
            <a:xfrm>
              <a:off x="5645520" y="2887200"/>
              <a:ext cx="1080" cy="333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892" name=""/>
            <p:cNvSpPr/>
            <p:nvPr/>
          </p:nvSpPr>
          <p:spPr>
            <a:xfrm>
              <a:off x="4114800" y="3219840"/>
              <a:ext cx="109440" cy="94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4607280" y="3219840"/>
              <a:ext cx="109440" cy="94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4114800" y="2791080"/>
              <a:ext cx="109440" cy="957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4607280" y="2791080"/>
              <a:ext cx="109440" cy="957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96" name=""/>
            <p:cNvCxnSpPr>
              <a:stCxn id="894" idx="6"/>
              <a:endCxn id="895" idx="2"/>
            </p:cNvCxnSpPr>
            <p:nvPr/>
          </p:nvCxnSpPr>
          <p:spPr>
            <a:xfrm>
              <a:off x="4224600" y="2838240"/>
              <a:ext cx="383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97" name=""/>
            <p:cNvCxnSpPr>
              <a:stCxn id="894" idx="4"/>
              <a:endCxn id="892" idx="0"/>
            </p:cNvCxnSpPr>
            <p:nvPr/>
          </p:nvCxnSpPr>
          <p:spPr>
            <a:xfrm>
              <a:off x="4168440" y="2887200"/>
              <a:ext cx="1080" cy="333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98" name=""/>
            <p:cNvCxnSpPr>
              <a:stCxn id="892" idx="6"/>
              <a:endCxn id="893" idx="2"/>
            </p:cNvCxnSpPr>
            <p:nvPr/>
          </p:nvCxnSpPr>
          <p:spPr>
            <a:xfrm>
              <a:off x="4224600" y="3267000"/>
              <a:ext cx="383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99" name=""/>
            <p:cNvCxnSpPr>
              <a:stCxn id="895" idx="4"/>
              <a:endCxn id="893" idx="0"/>
            </p:cNvCxnSpPr>
            <p:nvPr/>
          </p:nvCxnSpPr>
          <p:spPr>
            <a:xfrm>
              <a:off x="4660920" y="2887200"/>
              <a:ext cx="1080" cy="333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00" name=""/>
            <p:cNvCxnSpPr>
              <a:stCxn id="895" idx="6"/>
              <a:endCxn id="886" idx="2"/>
            </p:cNvCxnSpPr>
            <p:nvPr/>
          </p:nvCxnSpPr>
          <p:spPr>
            <a:xfrm>
              <a:off x="4716720" y="2838240"/>
              <a:ext cx="383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01" name=""/>
            <p:cNvCxnSpPr>
              <a:stCxn id="893" idx="6"/>
              <a:endCxn id="884" idx="2"/>
            </p:cNvCxnSpPr>
            <p:nvPr/>
          </p:nvCxnSpPr>
          <p:spPr>
            <a:xfrm>
              <a:off x="4716720" y="3267000"/>
              <a:ext cx="383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02" name=""/>
            <p:cNvCxnSpPr>
              <a:stCxn id="869" idx="6"/>
              <a:endCxn id="894" idx="2"/>
            </p:cNvCxnSpPr>
            <p:nvPr/>
          </p:nvCxnSpPr>
          <p:spPr>
            <a:xfrm>
              <a:off x="3732120" y="2838240"/>
              <a:ext cx="383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03" name=""/>
            <p:cNvCxnSpPr>
              <a:stCxn id="867" idx="6"/>
              <a:endCxn id="892" idx="2"/>
            </p:cNvCxnSpPr>
            <p:nvPr/>
          </p:nvCxnSpPr>
          <p:spPr>
            <a:xfrm>
              <a:off x="3732120" y="3267000"/>
              <a:ext cx="383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904" name=""/>
            <p:cNvSpPr/>
            <p:nvPr/>
          </p:nvSpPr>
          <p:spPr>
            <a:xfrm>
              <a:off x="6138000" y="3219840"/>
              <a:ext cx="109440" cy="94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6630480" y="3219840"/>
              <a:ext cx="109440" cy="94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6138000" y="2791080"/>
              <a:ext cx="109440" cy="957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6630480" y="2791080"/>
              <a:ext cx="109440" cy="957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08" name=""/>
            <p:cNvCxnSpPr>
              <a:stCxn id="906" idx="6"/>
              <a:endCxn id="907" idx="2"/>
            </p:cNvCxnSpPr>
            <p:nvPr/>
          </p:nvCxnSpPr>
          <p:spPr>
            <a:xfrm>
              <a:off x="6247800" y="2838240"/>
              <a:ext cx="383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09" name=""/>
            <p:cNvCxnSpPr>
              <a:stCxn id="906" idx="4"/>
              <a:endCxn id="904" idx="0"/>
            </p:cNvCxnSpPr>
            <p:nvPr/>
          </p:nvCxnSpPr>
          <p:spPr>
            <a:xfrm>
              <a:off x="6193440" y="2887200"/>
              <a:ext cx="1080" cy="333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10" name=""/>
            <p:cNvCxnSpPr>
              <a:stCxn id="904" idx="6"/>
              <a:endCxn id="905" idx="2"/>
            </p:cNvCxnSpPr>
            <p:nvPr/>
          </p:nvCxnSpPr>
          <p:spPr>
            <a:xfrm>
              <a:off x="6247800" y="3267000"/>
              <a:ext cx="383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11" name=""/>
            <p:cNvCxnSpPr>
              <a:stCxn id="907" idx="4"/>
              <a:endCxn id="905" idx="0"/>
            </p:cNvCxnSpPr>
            <p:nvPr/>
          </p:nvCxnSpPr>
          <p:spPr>
            <a:xfrm>
              <a:off x="6685560" y="2887200"/>
              <a:ext cx="1080" cy="333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12" name=""/>
            <p:cNvCxnSpPr>
              <a:stCxn id="887" idx="6"/>
              <a:endCxn id="906" idx="2"/>
            </p:cNvCxnSpPr>
            <p:nvPr/>
          </p:nvCxnSpPr>
          <p:spPr>
            <a:xfrm>
              <a:off x="5701320" y="2838240"/>
              <a:ext cx="437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13" name=""/>
            <p:cNvCxnSpPr>
              <a:stCxn id="885" idx="6"/>
              <a:endCxn id="904" idx="2"/>
            </p:cNvCxnSpPr>
            <p:nvPr/>
          </p:nvCxnSpPr>
          <p:spPr>
            <a:xfrm>
              <a:off x="5701320" y="3267000"/>
              <a:ext cx="437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914" name=""/>
            <p:cNvSpPr/>
            <p:nvPr/>
          </p:nvSpPr>
          <p:spPr>
            <a:xfrm>
              <a:off x="3130560" y="2364120"/>
              <a:ext cx="109080" cy="94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3623040" y="2364120"/>
              <a:ext cx="109080" cy="94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3130560" y="1935000"/>
              <a:ext cx="109080" cy="94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3623040" y="1935000"/>
              <a:ext cx="109080" cy="94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18" name=""/>
            <p:cNvCxnSpPr>
              <a:stCxn id="916" idx="6"/>
              <a:endCxn id="917" idx="2"/>
            </p:cNvCxnSpPr>
            <p:nvPr/>
          </p:nvCxnSpPr>
          <p:spPr>
            <a:xfrm>
              <a:off x="3239640" y="1981800"/>
              <a:ext cx="3834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19" name=""/>
            <p:cNvCxnSpPr>
              <a:stCxn id="916" idx="4"/>
              <a:endCxn id="914" idx="0"/>
            </p:cNvCxnSpPr>
            <p:nvPr/>
          </p:nvCxnSpPr>
          <p:spPr>
            <a:xfrm>
              <a:off x="3184200" y="2028960"/>
              <a:ext cx="1080" cy="335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20" name=""/>
            <p:cNvCxnSpPr>
              <a:stCxn id="914" idx="6"/>
              <a:endCxn id="915" idx="2"/>
            </p:cNvCxnSpPr>
            <p:nvPr/>
          </p:nvCxnSpPr>
          <p:spPr>
            <a:xfrm>
              <a:off x="3239640" y="2410920"/>
              <a:ext cx="3834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21" name=""/>
            <p:cNvCxnSpPr>
              <a:stCxn id="917" idx="4"/>
              <a:endCxn id="915" idx="0"/>
            </p:cNvCxnSpPr>
            <p:nvPr/>
          </p:nvCxnSpPr>
          <p:spPr>
            <a:xfrm>
              <a:off x="3676320" y="2028960"/>
              <a:ext cx="1080" cy="335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922" name=""/>
            <p:cNvSpPr/>
            <p:nvPr/>
          </p:nvSpPr>
          <p:spPr>
            <a:xfrm>
              <a:off x="2146320" y="2364120"/>
              <a:ext cx="109080" cy="94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2638440" y="2364120"/>
              <a:ext cx="109080" cy="94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2146320" y="1935000"/>
              <a:ext cx="109080" cy="94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2638440" y="1935000"/>
              <a:ext cx="109080" cy="94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26" name=""/>
            <p:cNvCxnSpPr>
              <a:stCxn id="924" idx="6"/>
              <a:endCxn id="925" idx="2"/>
            </p:cNvCxnSpPr>
            <p:nvPr/>
          </p:nvCxnSpPr>
          <p:spPr>
            <a:xfrm>
              <a:off x="2255040" y="1981800"/>
              <a:ext cx="3834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27" name=""/>
            <p:cNvCxnSpPr>
              <a:stCxn id="924" idx="4"/>
              <a:endCxn id="922" idx="0"/>
            </p:cNvCxnSpPr>
            <p:nvPr/>
          </p:nvCxnSpPr>
          <p:spPr>
            <a:xfrm>
              <a:off x="2199600" y="2028960"/>
              <a:ext cx="1080" cy="335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28" name=""/>
            <p:cNvCxnSpPr>
              <a:stCxn id="922" idx="6"/>
              <a:endCxn id="923" idx="2"/>
            </p:cNvCxnSpPr>
            <p:nvPr/>
          </p:nvCxnSpPr>
          <p:spPr>
            <a:xfrm>
              <a:off x="2255040" y="2410920"/>
              <a:ext cx="3834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29" name=""/>
            <p:cNvCxnSpPr>
              <a:stCxn id="925" idx="4"/>
              <a:endCxn id="923" idx="0"/>
            </p:cNvCxnSpPr>
            <p:nvPr/>
          </p:nvCxnSpPr>
          <p:spPr>
            <a:xfrm>
              <a:off x="2691720" y="2028960"/>
              <a:ext cx="1080" cy="335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30" name=""/>
            <p:cNvCxnSpPr>
              <a:stCxn id="925" idx="6"/>
              <a:endCxn id="916" idx="2"/>
            </p:cNvCxnSpPr>
            <p:nvPr/>
          </p:nvCxnSpPr>
          <p:spPr>
            <a:xfrm>
              <a:off x="2747520" y="1981800"/>
              <a:ext cx="3834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31" name=""/>
            <p:cNvCxnSpPr>
              <a:stCxn id="923" idx="6"/>
              <a:endCxn id="914" idx="2"/>
            </p:cNvCxnSpPr>
            <p:nvPr/>
          </p:nvCxnSpPr>
          <p:spPr>
            <a:xfrm>
              <a:off x="2747520" y="2410920"/>
              <a:ext cx="3834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932" name=""/>
            <p:cNvSpPr/>
            <p:nvPr/>
          </p:nvSpPr>
          <p:spPr>
            <a:xfrm>
              <a:off x="5099400" y="2364120"/>
              <a:ext cx="109440" cy="94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5591880" y="2364120"/>
              <a:ext cx="109440" cy="94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5099400" y="1935000"/>
              <a:ext cx="109440" cy="94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5591880" y="1935000"/>
              <a:ext cx="109440" cy="94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36" name=""/>
            <p:cNvCxnSpPr>
              <a:stCxn id="934" idx="6"/>
              <a:endCxn id="935" idx="2"/>
            </p:cNvCxnSpPr>
            <p:nvPr/>
          </p:nvCxnSpPr>
          <p:spPr>
            <a:xfrm>
              <a:off x="5209200" y="1981800"/>
              <a:ext cx="383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37" name=""/>
            <p:cNvCxnSpPr>
              <a:stCxn id="934" idx="4"/>
              <a:endCxn id="932" idx="0"/>
            </p:cNvCxnSpPr>
            <p:nvPr/>
          </p:nvCxnSpPr>
          <p:spPr>
            <a:xfrm>
              <a:off x="5153040" y="2028960"/>
              <a:ext cx="1080" cy="335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38" name=""/>
            <p:cNvCxnSpPr>
              <a:stCxn id="932" idx="6"/>
              <a:endCxn id="933" idx="2"/>
            </p:cNvCxnSpPr>
            <p:nvPr/>
          </p:nvCxnSpPr>
          <p:spPr>
            <a:xfrm>
              <a:off x="5209200" y="2410920"/>
              <a:ext cx="383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39" name=""/>
            <p:cNvCxnSpPr>
              <a:stCxn id="935" idx="4"/>
              <a:endCxn id="933" idx="0"/>
            </p:cNvCxnSpPr>
            <p:nvPr/>
          </p:nvCxnSpPr>
          <p:spPr>
            <a:xfrm>
              <a:off x="5645520" y="2028960"/>
              <a:ext cx="1080" cy="335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940" name=""/>
            <p:cNvSpPr/>
            <p:nvPr/>
          </p:nvSpPr>
          <p:spPr>
            <a:xfrm>
              <a:off x="4114800" y="2364120"/>
              <a:ext cx="109440" cy="94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4607280" y="2364120"/>
              <a:ext cx="109440" cy="94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4114800" y="1935000"/>
              <a:ext cx="109440" cy="94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4607280" y="1935000"/>
              <a:ext cx="109440" cy="94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44" name=""/>
            <p:cNvCxnSpPr>
              <a:stCxn id="942" idx="6"/>
              <a:endCxn id="943" idx="2"/>
            </p:cNvCxnSpPr>
            <p:nvPr/>
          </p:nvCxnSpPr>
          <p:spPr>
            <a:xfrm>
              <a:off x="4224600" y="1981800"/>
              <a:ext cx="383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45" name=""/>
            <p:cNvCxnSpPr>
              <a:stCxn id="942" idx="4"/>
              <a:endCxn id="940" idx="0"/>
            </p:cNvCxnSpPr>
            <p:nvPr/>
          </p:nvCxnSpPr>
          <p:spPr>
            <a:xfrm>
              <a:off x="4168440" y="2028960"/>
              <a:ext cx="1080" cy="335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46" name=""/>
            <p:cNvCxnSpPr>
              <a:stCxn id="940" idx="6"/>
              <a:endCxn id="941" idx="2"/>
            </p:cNvCxnSpPr>
            <p:nvPr/>
          </p:nvCxnSpPr>
          <p:spPr>
            <a:xfrm>
              <a:off x="4224600" y="2410920"/>
              <a:ext cx="383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47" name=""/>
            <p:cNvCxnSpPr>
              <a:stCxn id="943" idx="4"/>
              <a:endCxn id="941" idx="0"/>
            </p:cNvCxnSpPr>
            <p:nvPr/>
          </p:nvCxnSpPr>
          <p:spPr>
            <a:xfrm>
              <a:off x="4660920" y="2028960"/>
              <a:ext cx="1080" cy="335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48" name=""/>
            <p:cNvCxnSpPr>
              <a:stCxn id="943" idx="6"/>
              <a:endCxn id="934" idx="2"/>
            </p:cNvCxnSpPr>
            <p:nvPr/>
          </p:nvCxnSpPr>
          <p:spPr>
            <a:xfrm>
              <a:off x="4716720" y="1981800"/>
              <a:ext cx="383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49" name=""/>
            <p:cNvCxnSpPr>
              <a:stCxn id="941" idx="6"/>
              <a:endCxn id="932" idx="2"/>
            </p:cNvCxnSpPr>
            <p:nvPr/>
          </p:nvCxnSpPr>
          <p:spPr>
            <a:xfrm>
              <a:off x="4716720" y="2410920"/>
              <a:ext cx="383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50" name=""/>
            <p:cNvCxnSpPr>
              <a:stCxn id="917" idx="6"/>
              <a:endCxn id="942" idx="2"/>
            </p:cNvCxnSpPr>
            <p:nvPr/>
          </p:nvCxnSpPr>
          <p:spPr>
            <a:xfrm>
              <a:off x="3732120" y="1981800"/>
              <a:ext cx="383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51" name=""/>
            <p:cNvCxnSpPr>
              <a:stCxn id="915" idx="6"/>
              <a:endCxn id="940" idx="2"/>
            </p:cNvCxnSpPr>
            <p:nvPr/>
          </p:nvCxnSpPr>
          <p:spPr>
            <a:xfrm>
              <a:off x="3732120" y="2410920"/>
              <a:ext cx="383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952" name=""/>
            <p:cNvSpPr/>
            <p:nvPr/>
          </p:nvSpPr>
          <p:spPr>
            <a:xfrm>
              <a:off x="6138000" y="2364120"/>
              <a:ext cx="109440" cy="94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6630480" y="2364120"/>
              <a:ext cx="109440" cy="94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6138000" y="1935000"/>
              <a:ext cx="109440" cy="94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6630480" y="1935000"/>
              <a:ext cx="109440" cy="94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56" name=""/>
            <p:cNvCxnSpPr>
              <a:stCxn id="954" idx="6"/>
              <a:endCxn id="955" idx="2"/>
            </p:cNvCxnSpPr>
            <p:nvPr/>
          </p:nvCxnSpPr>
          <p:spPr>
            <a:xfrm>
              <a:off x="6247800" y="1981800"/>
              <a:ext cx="383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57" name=""/>
            <p:cNvCxnSpPr>
              <a:stCxn id="954" idx="4"/>
              <a:endCxn id="952" idx="0"/>
            </p:cNvCxnSpPr>
            <p:nvPr/>
          </p:nvCxnSpPr>
          <p:spPr>
            <a:xfrm>
              <a:off x="6193440" y="2028960"/>
              <a:ext cx="1080" cy="335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58" name=""/>
            <p:cNvCxnSpPr>
              <a:stCxn id="952" idx="6"/>
              <a:endCxn id="953" idx="2"/>
            </p:cNvCxnSpPr>
            <p:nvPr/>
          </p:nvCxnSpPr>
          <p:spPr>
            <a:xfrm>
              <a:off x="6247800" y="2410920"/>
              <a:ext cx="383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59" name=""/>
            <p:cNvCxnSpPr>
              <a:stCxn id="955" idx="4"/>
              <a:endCxn id="953" idx="0"/>
            </p:cNvCxnSpPr>
            <p:nvPr/>
          </p:nvCxnSpPr>
          <p:spPr>
            <a:xfrm>
              <a:off x="6685560" y="2028960"/>
              <a:ext cx="1080" cy="335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60" name=""/>
            <p:cNvCxnSpPr>
              <a:stCxn id="935" idx="6"/>
              <a:endCxn id="954" idx="2"/>
            </p:cNvCxnSpPr>
            <p:nvPr/>
          </p:nvCxnSpPr>
          <p:spPr>
            <a:xfrm>
              <a:off x="5701320" y="1981800"/>
              <a:ext cx="437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61" name=""/>
            <p:cNvCxnSpPr>
              <a:stCxn id="933" idx="6"/>
              <a:endCxn id="952" idx="2"/>
            </p:cNvCxnSpPr>
            <p:nvPr/>
          </p:nvCxnSpPr>
          <p:spPr>
            <a:xfrm>
              <a:off x="5701320" y="2410920"/>
              <a:ext cx="437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62" name=""/>
            <p:cNvCxnSpPr>
              <a:stCxn id="922" idx="4"/>
              <a:endCxn id="876" idx="0"/>
            </p:cNvCxnSpPr>
            <p:nvPr/>
          </p:nvCxnSpPr>
          <p:spPr>
            <a:xfrm>
              <a:off x="2199600" y="2458440"/>
              <a:ext cx="1080" cy="333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63" name=""/>
            <p:cNvCxnSpPr>
              <a:stCxn id="923" idx="4"/>
              <a:endCxn id="877" idx="0"/>
            </p:cNvCxnSpPr>
            <p:nvPr/>
          </p:nvCxnSpPr>
          <p:spPr>
            <a:xfrm>
              <a:off x="2691720" y="2458440"/>
              <a:ext cx="1080" cy="333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64" name=""/>
            <p:cNvCxnSpPr>
              <a:stCxn id="914" idx="4"/>
              <a:endCxn id="868" idx="0"/>
            </p:cNvCxnSpPr>
            <p:nvPr/>
          </p:nvCxnSpPr>
          <p:spPr>
            <a:xfrm>
              <a:off x="3184200" y="2458440"/>
              <a:ext cx="1080" cy="333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65" name=""/>
            <p:cNvCxnSpPr>
              <a:stCxn id="915" idx="4"/>
              <a:endCxn id="869" idx="0"/>
            </p:cNvCxnSpPr>
            <p:nvPr/>
          </p:nvCxnSpPr>
          <p:spPr>
            <a:xfrm>
              <a:off x="3676320" y="2458440"/>
              <a:ext cx="1080" cy="333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66" name=""/>
            <p:cNvCxnSpPr>
              <a:stCxn id="940" idx="4"/>
              <a:endCxn id="894" idx="0"/>
            </p:cNvCxnSpPr>
            <p:nvPr/>
          </p:nvCxnSpPr>
          <p:spPr>
            <a:xfrm>
              <a:off x="4168440" y="2458440"/>
              <a:ext cx="1080" cy="333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67" name=""/>
            <p:cNvCxnSpPr>
              <a:stCxn id="941" idx="4"/>
              <a:endCxn id="895" idx="0"/>
            </p:cNvCxnSpPr>
            <p:nvPr/>
          </p:nvCxnSpPr>
          <p:spPr>
            <a:xfrm>
              <a:off x="4660920" y="2458440"/>
              <a:ext cx="1080" cy="333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68" name=""/>
            <p:cNvCxnSpPr>
              <a:stCxn id="932" idx="4"/>
              <a:endCxn id="886" idx="0"/>
            </p:cNvCxnSpPr>
            <p:nvPr/>
          </p:nvCxnSpPr>
          <p:spPr>
            <a:xfrm>
              <a:off x="5153040" y="2458440"/>
              <a:ext cx="1080" cy="333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69" name=""/>
            <p:cNvCxnSpPr>
              <a:stCxn id="933" idx="4"/>
              <a:endCxn id="887" idx="0"/>
            </p:cNvCxnSpPr>
            <p:nvPr/>
          </p:nvCxnSpPr>
          <p:spPr>
            <a:xfrm>
              <a:off x="5645520" y="2458440"/>
              <a:ext cx="1080" cy="333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70" name=""/>
            <p:cNvCxnSpPr>
              <a:stCxn id="952" idx="4"/>
              <a:endCxn id="906" idx="0"/>
            </p:cNvCxnSpPr>
            <p:nvPr/>
          </p:nvCxnSpPr>
          <p:spPr>
            <a:xfrm>
              <a:off x="6193440" y="2458440"/>
              <a:ext cx="1080" cy="333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71" name=""/>
            <p:cNvCxnSpPr>
              <a:stCxn id="953" idx="4"/>
              <a:endCxn id="907" idx="0"/>
            </p:cNvCxnSpPr>
            <p:nvPr/>
          </p:nvCxnSpPr>
          <p:spPr>
            <a:xfrm>
              <a:off x="6685560" y="2458440"/>
              <a:ext cx="1080" cy="333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72" name=""/>
            <p:cNvCxnSpPr>
              <a:stCxn id="874" idx="4"/>
              <a:endCxn id="818" idx="0"/>
            </p:cNvCxnSpPr>
            <p:nvPr/>
          </p:nvCxnSpPr>
          <p:spPr>
            <a:xfrm>
              <a:off x="2199600" y="3314520"/>
              <a:ext cx="1080" cy="334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73" name=""/>
            <p:cNvCxnSpPr>
              <a:stCxn id="875" idx="4"/>
              <a:endCxn id="819" idx="0"/>
            </p:cNvCxnSpPr>
            <p:nvPr/>
          </p:nvCxnSpPr>
          <p:spPr>
            <a:xfrm>
              <a:off x="2691720" y="3314520"/>
              <a:ext cx="1080" cy="334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74" name=""/>
            <p:cNvCxnSpPr>
              <a:stCxn id="866" idx="4"/>
              <a:endCxn id="810" idx="0"/>
            </p:cNvCxnSpPr>
            <p:nvPr/>
          </p:nvCxnSpPr>
          <p:spPr>
            <a:xfrm>
              <a:off x="3184200" y="3314520"/>
              <a:ext cx="1080" cy="334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75" name=""/>
            <p:cNvCxnSpPr>
              <a:stCxn id="867" idx="4"/>
              <a:endCxn id="811" idx="0"/>
            </p:cNvCxnSpPr>
            <p:nvPr/>
          </p:nvCxnSpPr>
          <p:spPr>
            <a:xfrm>
              <a:off x="3676320" y="3314520"/>
              <a:ext cx="1080" cy="334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76" name=""/>
            <p:cNvCxnSpPr>
              <a:stCxn id="892" idx="4"/>
              <a:endCxn id="836" idx="0"/>
            </p:cNvCxnSpPr>
            <p:nvPr/>
          </p:nvCxnSpPr>
          <p:spPr>
            <a:xfrm>
              <a:off x="4168440" y="3314520"/>
              <a:ext cx="1080" cy="334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77" name=""/>
            <p:cNvCxnSpPr>
              <a:stCxn id="893" idx="4"/>
              <a:endCxn id="837" idx="0"/>
            </p:cNvCxnSpPr>
            <p:nvPr/>
          </p:nvCxnSpPr>
          <p:spPr>
            <a:xfrm>
              <a:off x="4660920" y="3314520"/>
              <a:ext cx="1080" cy="334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78" name=""/>
            <p:cNvCxnSpPr>
              <a:stCxn id="884" idx="4"/>
              <a:endCxn id="828" idx="0"/>
            </p:cNvCxnSpPr>
            <p:nvPr/>
          </p:nvCxnSpPr>
          <p:spPr>
            <a:xfrm>
              <a:off x="5153040" y="3314520"/>
              <a:ext cx="1080" cy="334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79" name=""/>
            <p:cNvCxnSpPr>
              <a:stCxn id="885" idx="4"/>
              <a:endCxn id="829" idx="0"/>
            </p:cNvCxnSpPr>
            <p:nvPr/>
          </p:nvCxnSpPr>
          <p:spPr>
            <a:xfrm>
              <a:off x="5645520" y="3314520"/>
              <a:ext cx="1080" cy="334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80" name=""/>
            <p:cNvCxnSpPr>
              <a:stCxn id="904" idx="4"/>
              <a:endCxn id="848" idx="0"/>
            </p:cNvCxnSpPr>
            <p:nvPr/>
          </p:nvCxnSpPr>
          <p:spPr>
            <a:xfrm>
              <a:off x="6193440" y="3314520"/>
              <a:ext cx="1080" cy="334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81" name=""/>
            <p:cNvCxnSpPr>
              <a:stCxn id="905" idx="4"/>
              <a:endCxn id="849" idx="0"/>
            </p:cNvCxnSpPr>
            <p:nvPr/>
          </p:nvCxnSpPr>
          <p:spPr>
            <a:xfrm>
              <a:off x="6685560" y="3314520"/>
              <a:ext cx="1080" cy="334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982" name=""/>
            <p:cNvSpPr/>
            <p:nvPr/>
          </p:nvSpPr>
          <p:spPr>
            <a:xfrm>
              <a:off x="3133800" y="5790240"/>
              <a:ext cx="109440" cy="94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3626280" y="5790240"/>
              <a:ext cx="109440" cy="94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84" name=""/>
            <p:cNvCxnSpPr>
              <a:stCxn id="982" idx="6"/>
              <a:endCxn id="983" idx="2"/>
            </p:cNvCxnSpPr>
            <p:nvPr/>
          </p:nvCxnSpPr>
          <p:spPr>
            <a:xfrm>
              <a:off x="3243600" y="5837040"/>
              <a:ext cx="383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985" name=""/>
            <p:cNvSpPr/>
            <p:nvPr/>
          </p:nvSpPr>
          <p:spPr>
            <a:xfrm>
              <a:off x="2149200" y="5790240"/>
              <a:ext cx="109440" cy="94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2641680" y="5790240"/>
              <a:ext cx="109440" cy="94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87" name=""/>
            <p:cNvCxnSpPr>
              <a:stCxn id="985" idx="6"/>
              <a:endCxn id="986" idx="2"/>
            </p:cNvCxnSpPr>
            <p:nvPr/>
          </p:nvCxnSpPr>
          <p:spPr>
            <a:xfrm>
              <a:off x="2259000" y="5837040"/>
              <a:ext cx="383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88" name=""/>
            <p:cNvCxnSpPr>
              <a:stCxn id="986" idx="6"/>
              <a:endCxn id="982" idx="2"/>
            </p:cNvCxnSpPr>
            <p:nvPr/>
          </p:nvCxnSpPr>
          <p:spPr>
            <a:xfrm>
              <a:off x="2751120" y="5837040"/>
              <a:ext cx="383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989" name=""/>
            <p:cNvSpPr/>
            <p:nvPr/>
          </p:nvSpPr>
          <p:spPr>
            <a:xfrm>
              <a:off x="5103000" y="5790240"/>
              <a:ext cx="109440" cy="94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5595480" y="5790240"/>
              <a:ext cx="109440" cy="94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91" name=""/>
            <p:cNvCxnSpPr>
              <a:stCxn id="989" idx="6"/>
              <a:endCxn id="990" idx="2"/>
            </p:cNvCxnSpPr>
            <p:nvPr/>
          </p:nvCxnSpPr>
          <p:spPr>
            <a:xfrm>
              <a:off x="5212800" y="5837040"/>
              <a:ext cx="383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992" name=""/>
            <p:cNvSpPr/>
            <p:nvPr/>
          </p:nvSpPr>
          <p:spPr>
            <a:xfrm>
              <a:off x="4118400" y="5790240"/>
              <a:ext cx="109440" cy="94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4610880" y="5790240"/>
              <a:ext cx="109440" cy="94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94" name=""/>
            <p:cNvCxnSpPr>
              <a:stCxn id="992" idx="6"/>
              <a:endCxn id="993" idx="2"/>
            </p:cNvCxnSpPr>
            <p:nvPr/>
          </p:nvCxnSpPr>
          <p:spPr>
            <a:xfrm>
              <a:off x="4228200" y="5837040"/>
              <a:ext cx="383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95" name=""/>
            <p:cNvCxnSpPr>
              <a:stCxn id="993" idx="6"/>
              <a:endCxn id="989" idx="2"/>
            </p:cNvCxnSpPr>
            <p:nvPr/>
          </p:nvCxnSpPr>
          <p:spPr>
            <a:xfrm>
              <a:off x="4720320" y="5837040"/>
              <a:ext cx="383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96" name=""/>
            <p:cNvCxnSpPr>
              <a:stCxn id="983" idx="6"/>
              <a:endCxn id="992" idx="2"/>
            </p:cNvCxnSpPr>
            <p:nvPr/>
          </p:nvCxnSpPr>
          <p:spPr>
            <a:xfrm>
              <a:off x="3735720" y="5837040"/>
              <a:ext cx="383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997" name=""/>
            <p:cNvSpPr/>
            <p:nvPr/>
          </p:nvSpPr>
          <p:spPr>
            <a:xfrm>
              <a:off x="6141600" y="5790240"/>
              <a:ext cx="109440" cy="94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6634080" y="5790240"/>
              <a:ext cx="109440" cy="94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99" name=""/>
            <p:cNvCxnSpPr>
              <a:stCxn id="997" idx="6"/>
              <a:endCxn id="998" idx="2"/>
            </p:cNvCxnSpPr>
            <p:nvPr/>
          </p:nvCxnSpPr>
          <p:spPr>
            <a:xfrm>
              <a:off x="6251400" y="5837040"/>
              <a:ext cx="383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000" name=""/>
            <p:cNvCxnSpPr>
              <a:stCxn id="990" idx="6"/>
              <a:endCxn id="997" idx="2"/>
            </p:cNvCxnSpPr>
            <p:nvPr/>
          </p:nvCxnSpPr>
          <p:spPr>
            <a:xfrm>
              <a:off x="5704920" y="5837040"/>
              <a:ext cx="437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001" name=""/>
            <p:cNvSpPr/>
            <p:nvPr/>
          </p:nvSpPr>
          <p:spPr>
            <a:xfrm>
              <a:off x="3133800" y="5361120"/>
              <a:ext cx="109440" cy="94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3626280" y="5361120"/>
              <a:ext cx="109440" cy="94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3133800" y="4932360"/>
              <a:ext cx="109440" cy="957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3626280" y="4932360"/>
              <a:ext cx="109440" cy="957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05" name=""/>
            <p:cNvCxnSpPr>
              <a:stCxn id="1003" idx="6"/>
              <a:endCxn id="1004" idx="2"/>
            </p:cNvCxnSpPr>
            <p:nvPr/>
          </p:nvCxnSpPr>
          <p:spPr>
            <a:xfrm>
              <a:off x="3243600" y="4980600"/>
              <a:ext cx="383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006" name=""/>
            <p:cNvCxnSpPr>
              <a:stCxn id="1003" idx="4"/>
              <a:endCxn id="1001" idx="0"/>
            </p:cNvCxnSpPr>
            <p:nvPr/>
          </p:nvCxnSpPr>
          <p:spPr>
            <a:xfrm>
              <a:off x="3187440" y="5028480"/>
              <a:ext cx="1080" cy="333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007" name=""/>
            <p:cNvCxnSpPr>
              <a:stCxn id="1001" idx="6"/>
              <a:endCxn id="1002" idx="2"/>
            </p:cNvCxnSpPr>
            <p:nvPr/>
          </p:nvCxnSpPr>
          <p:spPr>
            <a:xfrm>
              <a:off x="3243600" y="5407920"/>
              <a:ext cx="383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008" name=""/>
            <p:cNvCxnSpPr>
              <a:stCxn id="1004" idx="4"/>
              <a:endCxn id="1002" idx="0"/>
            </p:cNvCxnSpPr>
            <p:nvPr/>
          </p:nvCxnSpPr>
          <p:spPr>
            <a:xfrm>
              <a:off x="3679920" y="5028480"/>
              <a:ext cx="1080" cy="333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009" name=""/>
            <p:cNvSpPr/>
            <p:nvPr/>
          </p:nvSpPr>
          <p:spPr>
            <a:xfrm>
              <a:off x="2149200" y="5361120"/>
              <a:ext cx="109440" cy="94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2641680" y="5361120"/>
              <a:ext cx="109440" cy="94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2149200" y="4932360"/>
              <a:ext cx="109440" cy="957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2641680" y="4932360"/>
              <a:ext cx="109440" cy="957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13" name=""/>
            <p:cNvCxnSpPr>
              <a:stCxn id="1011" idx="6"/>
              <a:endCxn id="1012" idx="2"/>
            </p:cNvCxnSpPr>
            <p:nvPr/>
          </p:nvCxnSpPr>
          <p:spPr>
            <a:xfrm>
              <a:off x="2259000" y="4980600"/>
              <a:ext cx="383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014" name=""/>
            <p:cNvCxnSpPr>
              <a:stCxn id="1011" idx="4"/>
              <a:endCxn id="1009" idx="0"/>
            </p:cNvCxnSpPr>
            <p:nvPr/>
          </p:nvCxnSpPr>
          <p:spPr>
            <a:xfrm>
              <a:off x="2202840" y="5028480"/>
              <a:ext cx="1080" cy="333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015" name=""/>
            <p:cNvCxnSpPr>
              <a:stCxn id="1009" idx="6"/>
              <a:endCxn id="1010" idx="2"/>
            </p:cNvCxnSpPr>
            <p:nvPr/>
          </p:nvCxnSpPr>
          <p:spPr>
            <a:xfrm>
              <a:off x="2259000" y="5407920"/>
              <a:ext cx="383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016" name=""/>
            <p:cNvCxnSpPr>
              <a:stCxn id="1012" idx="4"/>
              <a:endCxn id="1010" idx="0"/>
            </p:cNvCxnSpPr>
            <p:nvPr/>
          </p:nvCxnSpPr>
          <p:spPr>
            <a:xfrm>
              <a:off x="2695320" y="5028480"/>
              <a:ext cx="1080" cy="333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017" name=""/>
            <p:cNvCxnSpPr>
              <a:stCxn id="1012" idx="6"/>
              <a:endCxn id="1003" idx="2"/>
            </p:cNvCxnSpPr>
            <p:nvPr/>
          </p:nvCxnSpPr>
          <p:spPr>
            <a:xfrm>
              <a:off x="2751120" y="4980600"/>
              <a:ext cx="383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018" name=""/>
            <p:cNvCxnSpPr>
              <a:stCxn id="1010" idx="6"/>
              <a:endCxn id="1001" idx="2"/>
            </p:cNvCxnSpPr>
            <p:nvPr/>
          </p:nvCxnSpPr>
          <p:spPr>
            <a:xfrm>
              <a:off x="2751120" y="5407920"/>
              <a:ext cx="383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019" name=""/>
            <p:cNvSpPr/>
            <p:nvPr/>
          </p:nvSpPr>
          <p:spPr>
            <a:xfrm>
              <a:off x="5103000" y="5361120"/>
              <a:ext cx="109440" cy="94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5595480" y="5361120"/>
              <a:ext cx="109440" cy="94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5103000" y="4932360"/>
              <a:ext cx="109440" cy="957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5595480" y="4932360"/>
              <a:ext cx="109440" cy="957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23" name=""/>
            <p:cNvCxnSpPr>
              <a:stCxn id="1021" idx="6"/>
              <a:endCxn id="1022" idx="2"/>
            </p:cNvCxnSpPr>
            <p:nvPr/>
          </p:nvCxnSpPr>
          <p:spPr>
            <a:xfrm>
              <a:off x="5212800" y="4980600"/>
              <a:ext cx="383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024" name=""/>
            <p:cNvCxnSpPr>
              <a:stCxn id="1021" idx="4"/>
              <a:endCxn id="1019" idx="0"/>
            </p:cNvCxnSpPr>
            <p:nvPr/>
          </p:nvCxnSpPr>
          <p:spPr>
            <a:xfrm>
              <a:off x="5156640" y="5028480"/>
              <a:ext cx="1080" cy="333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025" name=""/>
            <p:cNvCxnSpPr>
              <a:stCxn id="1019" idx="6"/>
              <a:endCxn id="1020" idx="2"/>
            </p:cNvCxnSpPr>
            <p:nvPr/>
          </p:nvCxnSpPr>
          <p:spPr>
            <a:xfrm>
              <a:off x="5212800" y="5407920"/>
              <a:ext cx="383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026" name=""/>
            <p:cNvCxnSpPr>
              <a:stCxn id="1022" idx="4"/>
              <a:endCxn id="1020" idx="0"/>
            </p:cNvCxnSpPr>
            <p:nvPr/>
          </p:nvCxnSpPr>
          <p:spPr>
            <a:xfrm>
              <a:off x="5649120" y="5028480"/>
              <a:ext cx="1080" cy="333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027" name=""/>
            <p:cNvSpPr/>
            <p:nvPr/>
          </p:nvSpPr>
          <p:spPr>
            <a:xfrm>
              <a:off x="4118400" y="5361120"/>
              <a:ext cx="109440" cy="94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4610880" y="5361120"/>
              <a:ext cx="109440" cy="94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4118400" y="4932360"/>
              <a:ext cx="109440" cy="957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4610880" y="4932360"/>
              <a:ext cx="109440" cy="957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31" name=""/>
            <p:cNvCxnSpPr>
              <a:stCxn id="1029" idx="6"/>
              <a:endCxn id="1030" idx="2"/>
            </p:cNvCxnSpPr>
            <p:nvPr/>
          </p:nvCxnSpPr>
          <p:spPr>
            <a:xfrm>
              <a:off x="4228200" y="4980600"/>
              <a:ext cx="383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032" name=""/>
            <p:cNvCxnSpPr>
              <a:stCxn id="1029" idx="4"/>
              <a:endCxn id="1027" idx="0"/>
            </p:cNvCxnSpPr>
            <p:nvPr/>
          </p:nvCxnSpPr>
          <p:spPr>
            <a:xfrm>
              <a:off x="4172040" y="5028480"/>
              <a:ext cx="1080" cy="333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033" name=""/>
            <p:cNvCxnSpPr>
              <a:stCxn id="1027" idx="6"/>
              <a:endCxn id="1028" idx="2"/>
            </p:cNvCxnSpPr>
            <p:nvPr/>
          </p:nvCxnSpPr>
          <p:spPr>
            <a:xfrm>
              <a:off x="4228200" y="5407920"/>
              <a:ext cx="383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034" name=""/>
            <p:cNvCxnSpPr>
              <a:stCxn id="1030" idx="4"/>
              <a:endCxn id="1028" idx="0"/>
            </p:cNvCxnSpPr>
            <p:nvPr/>
          </p:nvCxnSpPr>
          <p:spPr>
            <a:xfrm>
              <a:off x="4664520" y="5028480"/>
              <a:ext cx="1080" cy="333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035" name=""/>
            <p:cNvCxnSpPr>
              <a:stCxn id="1030" idx="6"/>
              <a:endCxn id="1021" idx="2"/>
            </p:cNvCxnSpPr>
            <p:nvPr/>
          </p:nvCxnSpPr>
          <p:spPr>
            <a:xfrm>
              <a:off x="4720320" y="4980600"/>
              <a:ext cx="383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036" name=""/>
            <p:cNvCxnSpPr>
              <a:stCxn id="1028" idx="6"/>
              <a:endCxn id="1019" idx="2"/>
            </p:cNvCxnSpPr>
            <p:nvPr/>
          </p:nvCxnSpPr>
          <p:spPr>
            <a:xfrm>
              <a:off x="4720320" y="5407920"/>
              <a:ext cx="383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037" name=""/>
            <p:cNvCxnSpPr>
              <a:stCxn id="1004" idx="6"/>
              <a:endCxn id="1029" idx="2"/>
            </p:cNvCxnSpPr>
            <p:nvPr/>
          </p:nvCxnSpPr>
          <p:spPr>
            <a:xfrm>
              <a:off x="3735720" y="4980600"/>
              <a:ext cx="383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038" name=""/>
            <p:cNvCxnSpPr>
              <a:stCxn id="1002" idx="6"/>
              <a:endCxn id="1027" idx="2"/>
            </p:cNvCxnSpPr>
            <p:nvPr/>
          </p:nvCxnSpPr>
          <p:spPr>
            <a:xfrm>
              <a:off x="3735720" y="5407920"/>
              <a:ext cx="383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039" name=""/>
            <p:cNvSpPr/>
            <p:nvPr/>
          </p:nvSpPr>
          <p:spPr>
            <a:xfrm>
              <a:off x="6141600" y="5361120"/>
              <a:ext cx="109440" cy="94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6634080" y="5361120"/>
              <a:ext cx="109440" cy="94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6141600" y="4932360"/>
              <a:ext cx="109440" cy="957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6634080" y="4932360"/>
              <a:ext cx="109440" cy="957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43" name=""/>
            <p:cNvCxnSpPr>
              <a:stCxn id="1041" idx="6"/>
              <a:endCxn id="1042" idx="2"/>
            </p:cNvCxnSpPr>
            <p:nvPr/>
          </p:nvCxnSpPr>
          <p:spPr>
            <a:xfrm>
              <a:off x="6251400" y="4980600"/>
              <a:ext cx="383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044" name=""/>
            <p:cNvCxnSpPr>
              <a:stCxn id="1041" idx="4"/>
              <a:endCxn id="1039" idx="0"/>
            </p:cNvCxnSpPr>
            <p:nvPr/>
          </p:nvCxnSpPr>
          <p:spPr>
            <a:xfrm>
              <a:off x="6197040" y="5028480"/>
              <a:ext cx="1080" cy="333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045" name=""/>
            <p:cNvCxnSpPr>
              <a:stCxn id="1039" idx="6"/>
              <a:endCxn id="1040" idx="2"/>
            </p:cNvCxnSpPr>
            <p:nvPr/>
          </p:nvCxnSpPr>
          <p:spPr>
            <a:xfrm>
              <a:off x="6251400" y="5407920"/>
              <a:ext cx="383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046" name=""/>
            <p:cNvCxnSpPr>
              <a:stCxn id="1042" idx="4"/>
              <a:endCxn id="1040" idx="0"/>
            </p:cNvCxnSpPr>
            <p:nvPr/>
          </p:nvCxnSpPr>
          <p:spPr>
            <a:xfrm>
              <a:off x="6689160" y="5028480"/>
              <a:ext cx="1080" cy="333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047" name=""/>
            <p:cNvCxnSpPr>
              <a:stCxn id="1022" idx="6"/>
              <a:endCxn id="1041" idx="2"/>
            </p:cNvCxnSpPr>
            <p:nvPr/>
          </p:nvCxnSpPr>
          <p:spPr>
            <a:xfrm>
              <a:off x="5704920" y="4980600"/>
              <a:ext cx="437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048" name=""/>
            <p:cNvCxnSpPr>
              <a:stCxn id="1020" idx="6"/>
              <a:endCxn id="1039" idx="2"/>
            </p:cNvCxnSpPr>
            <p:nvPr/>
          </p:nvCxnSpPr>
          <p:spPr>
            <a:xfrm>
              <a:off x="5704920" y="5407920"/>
              <a:ext cx="437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049" name=""/>
            <p:cNvCxnSpPr>
              <a:stCxn id="1009" idx="4"/>
              <a:endCxn id="985" idx="0"/>
            </p:cNvCxnSpPr>
            <p:nvPr/>
          </p:nvCxnSpPr>
          <p:spPr>
            <a:xfrm>
              <a:off x="2202840" y="5455080"/>
              <a:ext cx="1080" cy="335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050" name=""/>
            <p:cNvCxnSpPr>
              <a:stCxn id="1010" idx="4"/>
              <a:endCxn id="986" idx="0"/>
            </p:cNvCxnSpPr>
            <p:nvPr/>
          </p:nvCxnSpPr>
          <p:spPr>
            <a:xfrm>
              <a:off x="2695320" y="5455080"/>
              <a:ext cx="1080" cy="335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051" name=""/>
            <p:cNvCxnSpPr>
              <a:stCxn id="1001" idx="4"/>
              <a:endCxn id="982" idx="0"/>
            </p:cNvCxnSpPr>
            <p:nvPr/>
          </p:nvCxnSpPr>
          <p:spPr>
            <a:xfrm>
              <a:off x="3187440" y="5455080"/>
              <a:ext cx="1080" cy="335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052" name=""/>
            <p:cNvCxnSpPr>
              <a:stCxn id="1002" idx="4"/>
              <a:endCxn id="983" idx="0"/>
            </p:cNvCxnSpPr>
            <p:nvPr/>
          </p:nvCxnSpPr>
          <p:spPr>
            <a:xfrm>
              <a:off x="3679920" y="5455080"/>
              <a:ext cx="1080" cy="335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053" name=""/>
            <p:cNvCxnSpPr>
              <a:stCxn id="1027" idx="4"/>
              <a:endCxn id="992" idx="0"/>
            </p:cNvCxnSpPr>
            <p:nvPr/>
          </p:nvCxnSpPr>
          <p:spPr>
            <a:xfrm>
              <a:off x="4172040" y="5455080"/>
              <a:ext cx="1080" cy="335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054" name=""/>
            <p:cNvCxnSpPr>
              <a:stCxn id="1028" idx="4"/>
              <a:endCxn id="993" idx="0"/>
            </p:cNvCxnSpPr>
            <p:nvPr/>
          </p:nvCxnSpPr>
          <p:spPr>
            <a:xfrm>
              <a:off x="4664520" y="5455080"/>
              <a:ext cx="1080" cy="335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055" name=""/>
            <p:cNvCxnSpPr>
              <a:stCxn id="1019" idx="4"/>
              <a:endCxn id="989" idx="0"/>
            </p:cNvCxnSpPr>
            <p:nvPr/>
          </p:nvCxnSpPr>
          <p:spPr>
            <a:xfrm>
              <a:off x="5156640" y="5455080"/>
              <a:ext cx="1080" cy="335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056" name=""/>
            <p:cNvCxnSpPr>
              <a:stCxn id="1020" idx="4"/>
              <a:endCxn id="990" idx="0"/>
            </p:cNvCxnSpPr>
            <p:nvPr/>
          </p:nvCxnSpPr>
          <p:spPr>
            <a:xfrm>
              <a:off x="5649120" y="5455080"/>
              <a:ext cx="1080" cy="335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057" name=""/>
            <p:cNvCxnSpPr>
              <a:stCxn id="1039" idx="4"/>
              <a:endCxn id="997" idx="0"/>
            </p:cNvCxnSpPr>
            <p:nvPr/>
          </p:nvCxnSpPr>
          <p:spPr>
            <a:xfrm>
              <a:off x="6197040" y="5455080"/>
              <a:ext cx="1080" cy="335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058" name=""/>
            <p:cNvCxnSpPr>
              <a:stCxn id="1040" idx="4"/>
              <a:endCxn id="998" idx="0"/>
            </p:cNvCxnSpPr>
            <p:nvPr/>
          </p:nvCxnSpPr>
          <p:spPr>
            <a:xfrm>
              <a:off x="6689160" y="5455080"/>
              <a:ext cx="1080" cy="335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059" name=""/>
            <p:cNvSpPr/>
            <p:nvPr/>
          </p:nvSpPr>
          <p:spPr>
            <a:xfrm flipV="1">
              <a:off x="4224600" y="3837960"/>
              <a:ext cx="0" cy="143280"/>
            </a:xfrm>
            <a:prstGeom prst="line">
              <a:avLst/>
            </a:prstGeom>
            <a:ln w="9360">
              <a:solidFill>
                <a:srgbClr val="9933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"/>
            <p:cNvSpPr/>
            <p:nvPr/>
          </p:nvSpPr>
          <p:spPr>
            <a:xfrm flipV="1">
              <a:off x="4224600" y="3410640"/>
              <a:ext cx="0" cy="141480"/>
            </a:xfrm>
            <a:prstGeom prst="line">
              <a:avLst/>
            </a:prstGeom>
            <a:ln w="9360">
              <a:solidFill>
                <a:srgbClr val="9933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4224600" y="4266720"/>
              <a:ext cx="0" cy="141480"/>
            </a:xfrm>
            <a:prstGeom prst="line">
              <a:avLst/>
            </a:prstGeom>
            <a:ln w="9360">
              <a:solidFill>
                <a:srgbClr val="9933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4224600" y="4694040"/>
              <a:ext cx="0" cy="143640"/>
            </a:xfrm>
            <a:prstGeom prst="line">
              <a:avLst/>
            </a:prstGeom>
            <a:ln w="9360">
              <a:solidFill>
                <a:srgbClr val="9933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4289760" y="3725640"/>
              <a:ext cx="83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Ev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M Sensy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FF44B-7D18-4BA3-BBBB-6ABC2F06C473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4/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4T19:25:47Z</dcterms:created>
  <dc:creator>Xin Liu</dc:creator>
  <dc:description/>
  <dc:language>en-US</dc:language>
  <cp:lastModifiedBy>liang</cp:lastModifiedBy>
  <dcterms:modified xsi:type="dcterms:W3CDTF">2005-03-04T19:57:44Z</dcterms:modified>
  <cp:revision>298</cp:revision>
  <dc:subject/>
  <dc:title>Comb, Needle, Haystacks</dc:title>
</cp:coreProperties>
</file>